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35.png" ContentType="image/png"/>
  <Override PartName="/ppt/media/image6.wmf" ContentType="image/x-wmf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55DD-B44F-4D14-AAE6-1C7FA13061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diapositive est un support à la pré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commentaires agissent comme un « pense-bête » pour l’au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873-E046-48C4-A9E8-ABE09E4F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EFB-6228-48EE-AF34-201A95F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152-741F-4F2F-B140-2FFD6A96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6C8-8732-43B7-BF19-FADC77C5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07E1-9E58-4B45-9998-2B16E735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D27-253B-4777-873A-DFF7DB8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4B56-1234-41B2-99CB-42644680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9577-7D5D-460A-AD88-CD1A462F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4DD0-33A7-4AFF-A9BA-756F7ED2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F504-4B90-4007-8C8F-88CCCF6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0D9A-0F87-4157-8019-9A48AE5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610-784F-4117-A90F-587EC3CF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6A35-99DD-4A38-9870-76081EB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F5C6-315B-4E39-8202-D690491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F06-79F1-4D10-8484-E304D15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8C46-B707-4AC3-BD5C-99E5681C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3F93-C77E-4F73-92EE-0F5EDB84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495-9FE6-4E41-AE3C-0C9D4414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72F-B2DE-408D-8F71-D9417B9D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9BC-F2E6-426A-B804-5C0A0DA3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4E2-3AA2-4D44-B269-810417E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E59-9FAB-435A-B148-257856D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E2C-415A-4D21-9EA0-C591C1B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CD8-82D3-4403-9B1B-0E3A7CC5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reautique </a:t>
            </a:r>
            <a:fld id="{E3927B0F-263A-4257-92F7-582E2BA572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FF9-DC35-49C0-A437-A1C71A30D0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807D-82A0-4679-9D02-91267CB20CA7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0DB7-2999-4CED-BD74-4D27B92356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Présentation assistée 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par ordinateur</a:t>
            </a: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Éléments d'une diapositiv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exte et illustration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ontenu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émas, images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bleaux, graphiques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pè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ystémat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numé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diapositive,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ute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ate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hétique/déc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es, couleurs, fonds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aire au traitement de text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F28-7145-44B8-8331-BB1E118A6F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99D8D-51D7-4A19-8267-AF81855FD4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4360" y="966960"/>
            <a:ext cx="8028000" cy="5775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343760" y="2205000"/>
            <a:ext cx="28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Zone de texte pour 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itre   et   le    sous-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2854440"/>
            <a:ext cx="287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11640" y="2854440"/>
            <a:ext cx="5778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Diapositive type (titre)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151-592A-48A8-A55C-8C272A2929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44160-86BF-4F18-B965-209F864154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2560" y="1074600"/>
            <a:ext cx="7777080" cy="5594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14160" y="184464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itre de la dia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69840" y="443700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Zone de texte pour 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itre et le sous-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Diapositive type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205000"/>
            <a:ext cx="72072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148000" y="3573000"/>
            <a:ext cx="1439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5734080"/>
            <a:ext cx="93672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49320" y="501336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Modes d’affic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155-7E53-4ED7-907F-ECA85253FCC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30500-C1D3-44C0-A6E6-2B1EC0155ED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emples de contenu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nu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u 1.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nu 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3995640" y="1628640"/>
            <a:ext cx="1873440" cy="720720"/>
          </a:xfrm>
          <a:custGeom>
            <a:avLst/>
            <a:gdLst>
              <a:gd name="textAreaLeft" fmla="*/ 292680 w 1873440"/>
              <a:gd name="textAreaRight" fmla="*/ 1639440 w 18734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219640" y="3933720"/>
            <a:ext cx="3456000" cy="2602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1650960" cy="1819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95920" y="1397160"/>
            <a:ext cx="238752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s auto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00640" y="3284640"/>
            <a:ext cx="286920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 à partir d’un fich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8480" y="3860640"/>
            <a:ext cx="9032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i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6" idx="2"/>
            <a:endCxn id="183" idx="3"/>
          </p:cNvCxnSpPr>
          <p:nvPr/>
        </p:nvCxnSpPr>
        <p:spPr>
          <a:xfrm flipH="1">
            <a:off x="2406240" y="4237200"/>
            <a:ext cx="464400" cy="11102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5" idx="3"/>
            <a:endCxn id="182" idx="0"/>
          </p:cNvCxnSpPr>
          <p:nvPr/>
        </p:nvCxnSpPr>
        <p:spPr>
          <a:xfrm>
            <a:off x="6378120" y="3472920"/>
            <a:ext cx="570600" cy="4611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 flipH="1">
            <a:off x="5940000" y="1773360"/>
            <a:ext cx="647640" cy="287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75600" y="23493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 de 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èches et conne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43640" y="2997360"/>
            <a:ext cx="719280" cy="287280"/>
          </a:xfrm>
          <a:prstGeom prst="line">
            <a:avLst/>
          </a:prstGeom>
          <a:ln cap="rnd" w="9360">
            <a:solidFill>
              <a:srgbClr val="f41b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659640" y="2997360"/>
            <a:ext cx="503280" cy="576000"/>
          </a:xfrm>
          <a:prstGeom prst="line">
            <a:avLst/>
          </a:prstGeom>
          <a:ln cap="rnd" w="9360">
            <a:solidFill>
              <a:srgbClr val="f41b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7020000" y="1773000"/>
            <a:ext cx="216000" cy="647640"/>
          </a:xfrm>
          <a:prstGeom prst="line">
            <a:avLst/>
          </a:prstGeom>
          <a:ln cap="rnd" w="9360">
            <a:solidFill>
              <a:srgbClr val="f41b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516720" y="1916280"/>
            <a:ext cx="719280" cy="504720"/>
          </a:xfrm>
          <a:prstGeom prst="line">
            <a:avLst/>
          </a:prstGeom>
          <a:ln cap="rnd" w="9360">
            <a:solidFill>
              <a:srgbClr val="f41b04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E32-344C-403D-8266-14FD409E14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807FA-3471-4EF2-A2DA-F857593B23DD}" type="datetime1">
              <a:rPr lang="en-US"/>
              <a:t>07/29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s de conten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17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e des donnée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ultat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ultat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348000" y="1681200"/>
          <a:ext cx="555480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81200"/>
                    <a:ext cx="5554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85000" y="5661000"/>
            <a:ext cx="201852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que (Exc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9" idx="0"/>
          </p:cNvCxnSpPr>
          <p:nvPr/>
        </p:nvCxnSpPr>
        <p:spPr>
          <a:xfrm flipV="1">
            <a:off x="6094440" y="5012640"/>
            <a:ext cx="32400" cy="648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262-EEBA-4B4F-BDCD-A0E9CBE1A2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948B-CAF2-4154-BD80-6F910362CD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416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mment insérer ces éléments ?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280" y="15717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u Inser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56000" y="2192400"/>
            <a:ext cx="6408720" cy="45496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627280" y="4508640"/>
            <a:ext cx="432000" cy="1728720"/>
          </a:xfrm>
          <a:custGeom>
            <a:avLst/>
            <a:gdLst>
              <a:gd name="textAreaLeft" fmla="*/ 276120 w 432000"/>
              <a:gd name="textAreaRight" fmla="*/ 432360 w 432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41b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5373720"/>
            <a:ext cx="1152720" cy="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6BF-A487-42DA-8909-2F12C8F944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5CE4F-BDAC-4B2E-A7E8-69E09555ED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Comment insérer ces éléments ?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rre d’outils « Dessin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ficha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arres d’out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s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76720" y="3753000"/>
            <a:ext cx="4174920" cy="2989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6360" y="2984400"/>
            <a:ext cx="9072720" cy="379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1655280" y="3537000"/>
            <a:ext cx="1800360" cy="1584360"/>
          </a:xfrm>
          <a:custGeom>
            <a:avLst/>
            <a:gdLst>
              <a:gd name="textAreaLeft" fmla="*/ 387720 w 1800360"/>
              <a:gd name="textAreaRight" fmla="*/ 1542240 w 1800360"/>
              <a:gd name="textAreaTop" fmla="*/ 1064520 h 1584360"/>
              <a:gd name="textAreaBottom" fmla="*/ 135720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505"/>
                </a:moveTo>
                <a:lnTo>
                  <a:pt x="4653" y="11410"/>
                </a:lnTo>
                <a:lnTo>
                  <a:pt x="4653" y="14510"/>
                </a:lnTo>
                <a:lnTo>
                  <a:pt x="14510" y="14510"/>
                </a:lnTo>
                <a:lnTo>
                  <a:pt x="14510" y="4653"/>
                </a:lnTo>
                <a:lnTo>
                  <a:pt x="11410" y="4653"/>
                </a:lnTo>
                <a:lnTo>
                  <a:pt x="16505" y="0"/>
                </a:lnTo>
                <a:lnTo>
                  <a:pt x="21600" y="4653"/>
                </a:lnTo>
                <a:lnTo>
                  <a:pt x="18500" y="4653"/>
                </a:lnTo>
                <a:lnTo>
                  <a:pt x="18500" y="18500"/>
                </a:lnTo>
                <a:lnTo>
                  <a:pt x="4653" y="18500"/>
                </a:lnTo>
                <a:lnTo>
                  <a:pt x="4653" y="216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BC5-0FD4-47D9-A5B2-8F5A1EF19F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0A1D4-5768-4E36-93A5-CA1D5D3BB6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andes de bas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Nouvel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iaposi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Nouvelle diaposi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Dupliqu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e diaposi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Dupliquer la diaposi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Supprim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e diaposi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Édition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Supprimer la diaposi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C2B-A79A-4AAB-AAD6-7B83C12634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30178-4117-4D49-A1D8-3E250E37D9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des d’affich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érentes manières de visualiser une présentation et de travaill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aporama (présenta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euse (miniatur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mal (3 zon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ai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400720" y="4024440"/>
            <a:ext cx="3708360" cy="919440"/>
            <a:chOff x="5400720" y="4024440"/>
            <a:chExt cx="3708360" cy="9194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5400720" y="4024440"/>
              <a:ext cx="16304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985080" y="4240080"/>
              <a:ext cx="212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(sous Office XP ou postérieu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88000" y="5021280"/>
            <a:ext cx="4321080" cy="712800"/>
            <a:chOff x="4788000" y="5021280"/>
            <a:chExt cx="4321080" cy="71280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4788000" y="5092560"/>
              <a:ext cx="22320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093080" y="5021280"/>
              <a:ext cx="201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(versions précédent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113-24C0-43F5-9DF0-81CD1CF25C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004F7-B4EB-44BA-A13F-FDCAB0A71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71640" y="938160"/>
            <a:ext cx="7623000" cy="5803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ode normal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" y="321300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lan et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dia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26920" y="1844280"/>
            <a:ext cx="3589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258920" y="1844640"/>
            <a:ext cx="43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74760" y="272736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Zon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5591160"/>
            <a:ext cx="256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om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(invisibles lors de la pré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651280" y="587700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02A-6C1E-42DE-B7C0-A82F0EEE928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459B4-856D-4EBF-9F54-F6BE267FFB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Présentation Assisté par Ordinateur - PowerPoint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bject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conception de diapositives à l’aide du logiciel PowerP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bons u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éer une présentation à partir d’un modè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er un modèle de conce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érer des éléments graphiques et des anim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201-0C8F-4A74-B7C8-C63D988874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F2AD3-3AB1-4500-BD24-B8B8BD062C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ode trieuse 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561080" cy="5756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9280" y="1197000"/>
            <a:ext cx="297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ini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Vue d’ense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9800" y="4581360"/>
            <a:ext cx="3742200" cy="1557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élection contiguë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élection non contigu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9D6-A91C-4D78-9CAA-34F68161FCF8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6ECCE-A271-4A25-87A4-1C877A49FB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ode diaporama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7200" cy="46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693-EB56-4001-9FFF-28013963BB5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EDBE6-5466-4BFF-A48C-EA31431DFB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dèles de présen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ise en page des diapositive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ganisation du diapos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Jeu de couleur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x des couleurs de fond (arrière-plan) et du tex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odèle de concep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 Format » de présentation prédéf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emble prédéfini de masques pour chaque type de diapositi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rière-plan, disposition et couleur de texte, décor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940-DABF-48E4-BE3D-61CC4BA454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04FA6-8A59-406B-B95D-A7CDBCAE27B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ise en page des diapositives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26920" y="1557360"/>
            <a:ext cx="575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ganisation de chaque diapositi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219640" y="4222800"/>
            <a:ext cx="3673440" cy="240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2680" y="851040"/>
            <a:ext cx="2227320" cy="5891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729160" y="350028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(sous Office XP, 2003…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4680" y="4411800"/>
            <a:ext cx="24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(ver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récédentes) </a:t>
            </a:r>
            <a:r>
              <a:rPr b="0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8A7-83C6-4112-BA0B-C0688AA48D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1EC33-EEAB-4636-897A-250CCCA13D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emples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71640" y="146160"/>
            <a:ext cx="7134120" cy="6484680"/>
            <a:chOff x="971640" y="146160"/>
            <a:chExt cx="7134120" cy="648468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6300720" y="146160"/>
              <a:ext cx="136836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971640" y="1268280"/>
              <a:ext cx="7134120" cy="536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1138320" y="103320"/>
            <a:ext cx="7105680" cy="6470640"/>
            <a:chOff x="1138320" y="103320"/>
            <a:chExt cx="7105680" cy="6470640"/>
          </a:xfrm>
        </p:grpSpPr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6364440" y="103320"/>
              <a:ext cx="134136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1138320" y="1268280"/>
              <a:ext cx="7105680" cy="53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1012680" y="111240"/>
            <a:ext cx="7230960" cy="6486480"/>
            <a:chOff x="1012680" y="111240"/>
            <a:chExt cx="7230960" cy="6486480"/>
          </a:xfrm>
        </p:grpSpPr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6314400" y="111240"/>
              <a:ext cx="138528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1012680" y="1263600"/>
              <a:ext cx="7230960" cy="533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97F-A4A9-44DC-9FD3-B11D7F61679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49039-571C-4E75-B1BF-45CCB1A41A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Jeu de coul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308240" y="260280"/>
            <a:ext cx="6648480" cy="6491520"/>
            <a:chOff x="1308240" y="260280"/>
            <a:chExt cx="6648480" cy="649152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1308240" y="1773360"/>
              <a:ext cx="6576840" cy="497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6156360" y="260280"/>
              <a:ext cx="1800360" cy="148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1327320" y="260280"/>
            <a:ext cx="6700680" cy="6408720"/>
            <a:chOff x="1327320" y="260280"/>
            <a:chExt cx="6700680" cy="640872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6156360" y="260280"/>
              <a:ext cx="1871640" cy="149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1327320" y="1766880"/>
              <a:ext cx="6487920" cy="490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1333440" y="260280"/>
            <a:ext cx="6694560" cy="6408720"/>
            <a:chOff x="1333440" y="260280"/>
            <a:chExt cx="6694560" cy="6408720"/>
          </a:xfrm>
        </p:grpSpPr>
        <p:pic>
          <p:nvPicPr>
            <p:cNvPr id="261" name="" descr=""/>
            <p:cNvPicPr/>
            <p:nvPr/>
          </p:nvPicPr>
          <p:blipFill>
            <a:blip r:embed="rId5"/>
            <a:stretch/>
          </p:blipFill>
          <p:spPr>
            <a:xfrm>
              <a:off x="6156360" y="260280"/>
              <a:ext cx="187164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6"/>
            <a:stretch/>
          </p:blipFill>
          <p:spPr>
            <a:xfrm>
              <a:off x="1333440" y="1728720"/>
              <a:ext cx="6475320" cy="494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1346040" y="260280"/>
            <a:ext cx="6755040" cy="6389640"/>
            <a:chOff x="1346040" y="260280"/>
            <a:chExt cx="6755040" cy="6389640"/>
          </a:xfrm>
        </p:grpSpPr>
        <p:pic>
          <p:nvPicPr>
            <p:cNvPr id="264" name="" descr=""/>
            <p:cNvPicPr/>
            <p:nvPr/>
          </p:nvPicPr>
          <p:blipFill>
            <a:blip r:embed="rId7"/>
            <a:stretch/>
          </p:blipFill>
          <p:spPr>
            <a:xfrm>
              <a:off x="6156360" y="260280"/>
              <a:ext cx="194472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8"/>
            <a:stretch/>
          </p:blipFill>
          <p:spPr>
            <a:xfrm>
              <a:off x="1346040" y="1773360"/>
              <a:ext cx="6450120" cy="48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0AF-A104-4337-B0B7-0927EC62280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A59B0-B0C8-4150-800A-98A515B621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828720" y="1109520"/>
            <a:ext cx="7343640" cy="5632560"/>
            <a:chOff x="828720" y="1109520"/>
            <a:chExt cx="7343640" cy="563256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828720" y="1109520"/>
              <a:ext cx="7343640" cy="56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358960" y="1612800"/>
              <a:ext cx="27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odèle « Fusion 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odèles de conception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28720" y="1109520"/>
            <a:ext cx="7311960" cy="5589720"/>
            <a:chOff x="828720" y="1109520"/>
            <a:chExt cx="7311960" cy="558972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828720" y="1109520"/>
              <a:ext cx="7311960" cy="55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134160" y="1396800"/>
              <a:ext cx="45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odèle « Points numériques 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26920" y="1125360"/>
            <a:ext cx="7258320" cy="5158080"/>
            <a:chOff x="826920" y="1125360"/>
            <a:chExt cx="7258320" cy="515808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826920" y="1125360"/>
              <a:ext cx="725832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786840" y="1484280"/>
              <a:ext cx="37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odèle « Feux d’artifice 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A1E-ECC6-4194-BB6B-81F925E102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B21EC-7575-4B2A-8DAC-AEE1089D05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es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u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ichier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mprimer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iapositiv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diapositive par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ocu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ix du nombre de diapositives par page (2 à 9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ages de commentai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de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ention aux couleurs de fond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C42-6F13-447A-B49D-D9577482E03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E7AB0-9CB4-46C5-AD99-074EA54556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éer une présentation contenant deux diapositive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e diapositive « titre » contenant le nom du cours et votre n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e diapositive contenant vos données personnelles (nom, prénom, age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r le jeu de couleur de votre présentation. Choisir un jeu avec une couleur de fond sombre (mais non noir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er le modèle de conception de votre présentation. Choisir entre le modè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 crayons » et le modèle « océan 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érer une image (p.ex. le logo de l’IUT) sur votre diapos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14D-F7B7-47C0-9AC4-0AC3A34A7D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24844-2E9E-46F7-8E7A-E9F2851146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ied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50012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ilité d’ajout d’un pied de p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éro de diapositi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e et he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8000" y="2773440"/>
            <a:ext cx="5904000" cy="4040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156360" y="4437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ffichage </a:t>
            </a:r>
            <a:r>
              <a:rPr b="1" lang="en-US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 En-tête et pied d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BFD-5FDA-4162-B85F-1B71E6F36F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F7FDF-5AAC-4F4F-B79C-812FC60D46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41672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ception de diapositiv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629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ption de diapositives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PowerPoin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OpenOffice Imp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antages 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tilisation de texte, images, graphiqu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tilisation d’animat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se en page automatiqu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jection en salle, amphi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166-E895-4203-8765-488D55A869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862BF-4080-4213-B2F0-0E3CB39EA2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odifier un modèle de conceptio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5486400" cy="49784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92000" y="4581360"/>
            <a:ext cx="547236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u Afficha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squ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sque des diapositi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306E-AD6A-4A79-AE00-14A207FD6DF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EE64E-9F66-4335-B1A6-E37FB6F4BE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8920" y="1341360"/>
            <a:ext cx="8659800" cy="53704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odifier un modèle de conceptio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843080" y="551664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Insérer un texte en pied 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6200" y="3573360"/>
            <a:ext cx="15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Insérer un objet de déc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08720" y="350028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Modifier les caractéristiques du texte (police, couleur, tail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03280" y="3789360"/>
            <a:ext cx="720720" cy="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651280" y="5805360"/>
            <a:ext cx="215640" cy="43200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642920" y="2492280"/>
            <a:ext cx="792360" cy="115272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500360" y="3357720"/>
            <a:ext cx="934920" cy="28728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63800" y="4941720"/>
            <a:ext cx="48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Personnaliser les puces et numé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3348000" y="4581360"/>
            <a:ext cx="216000" cy="43200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276720" y="4292280"/>
            <a:ext cx="71280" cy="64908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2987280" y="3933360"/>
            <a:ext cx="360360" cy="1079640"/>
          </a:xfrm>
          <a:prstGeom prst="line">
            <a:avLst/>
          </a:prstGeom>
          <a:ln w="38160">
            <a:solidFill>
              <a:srgbClr val="f41b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F31-49D7-49CA-9C38-6C3A3D6080F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C4B5A-F0D0-400D-A62D-FE4C6392A4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er votre présentation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er le numéro de diapositive au pied de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érer la date et heure au pied de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er le modèle de conception de votre prés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érer votre nom au pied de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érer le logo de l’IUT au modè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r la couleur de fond du modè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3CB-F40D-4967-9438-0C22A4BD11B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4200B-41F1-4A9F-8AC4-9E2DDA012C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ransitions et anim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828800"/>
            <a:ext cx="56880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Transition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: effet de passage d’une diapositive à une au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Menu Diaporama </a:t>
            </a:r>
            <a:r>
              <a:rPr b="0" lang="fr-FR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 trans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nimatio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: animation des éléments à l’intérieur d’une diaposi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Menu Diaporama </a:t>
            </a:r>
            <a:r>
              <a:rPr b="0" lang="fr-FR" sz="24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 personnaliser l’animat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7432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4C2-B047-4C75-97BB-31D23328CA8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43E3E-4123-428B-8DC8-859572937C91}" type="datetime1">
              <a:rPr lang="en-US"/>
              <a:t>07/29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emples d’animation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nu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u 1.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enu 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3993840" y="1700280"/>
            <a:ext cx="1873080" cy="720720"/>
          </a:xfrm>
          <a:custGeom>
            <a:avLst/>
            <a:gdLst>
              <a:gd name="textAreaLeft" fmla="*/ 292680 w 1873080"/>
              <a:gd name="textAreaRight" fmla="*/ 1639080 w 18730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219640" y="3933720"/>
            <a:ext cx="3456000" cy="2602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755640" y="4437000"/>
            <a:ext cx="1650960" cy="181944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2406240" y="3860640"/>
            <a:ext cx="915480" cy="1486440"/>
            <a:chOff x="2406240" y="3860640"/>
            <a:chExt cx="915480" cy="1486440"/>
          </a:xfrm>
        </p:grpSpPr>
        <p:sp>
          <p:nvSpPr>
            <p:cNvPr id="311" name=""/>
            <p:cNvSpPr/>
            <p:nvPr/>
          </p:nvSpPr>
          <p:spPr>
            <a:xfrm>
              <a:off x="2418480" y="3860640"/>
              <a:ext cx="903240" cy="3682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lipar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"/>
            <p:cNvCxnSpPr>
              <a:stCxn id="311" idx="2"/>
              <a:endCxn id="309" idx="3"/>
            </p:cNvCxnSpPr>
            <p:nvPr/>
          </p:nvCxnSpPr>
          <p:spPr>
            <a:xfrm flipH="1">
              <a:off x="2406240" y="4237200"/>
              <a:ext cx="464400" cy="1110240"/>
            </a:xfrm>
            <a:prstGeom prst="straightConnector1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</p:cxnSp>
      </p:grpSp>
      <p:grpSp>
        <p:nvGrpSpPr>
          <p:cNvPr id="313" name=""/>
          <p:cNvGrpSpPr/>
          <p:nvPr/>
        </p:nvGrpSpPr>
        <p:grpSpPr>
          <a:xfrm>
            <a:off x="3500640" y="3284640"/>
            <a:ext cx="3447720" cy="649080"/>
            <a:chOff x="3500640" y="3284640"/>
            <a:chExt cx="3447720" cy="649080"/>
          </a:xfrm>
        </p:grpSpPr>
        <p:sp>
          <p:nvSpPr>
            <p:cNvPr id="314" name=""/>
            <p:cNvSpPr/>
            <p:nvPr/>
          </p:nvSpPr>
          <p:spPr>
            <a:xfrm>
              <a:off x="3500640" y="3284640"/>
              <a:ext cx="2869200" cy="3682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es à partir d’un fich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5" name=""/>
            <p:cNvCxnSpPr>
              <a:stCxn id="314" idx="3"/>
              <a:endCxn id="308" idx="0"/>
            </p:cNvCxnSpPr>
            <p:nvPr/>
          </p:nvCxnSpPr>
          <p:spPr>
            <a:xfrm>
              <a:off x="6378120" y="3472920"/>
              <a:ext cx="570600" cy="461160"/>
            </a:xfrm>
            <a:prstGeom prst="straightConnector1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5940000" y="1397160"/>
            <a:ext cx="3043440" cy="663480"/>
            <a:chOff x="5940000" y="1397160"/>
            <a:chExt cx="3043440" cy="663480"/>
          </a:xfrm>
        </p:grpSpPr>
        <p:sp>
          <p:nvSpPr>
            <p:cNvPr id="317" name=""/>
            <p:cNvSpPr/>
            <p:nvPr/>
          </p:nvSpPr>
          <p:spPr>
            <a:xfrm>
              <a:off x="6595920" y="1397160"/>
              <a:ext cx="2387520" cy="3682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es automat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940000" y="1773360"/>
              <a:ext cx="647640" cy="2872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375600" y="1773000"/>
            <a:ext cx="2539800" cy="1800360"/>
            <a:chOff x="6375600" y="1773000"/>
            <a:chExt cx="2539800" cy="1800360"/>
          </a:xfrm>
        </p:grpSpPr>
        <p:sp>
          <p:nvSpPr>
            <p:cNvPr id="320" name=""/>
            <p:cNvSpPr/>
            <p:nvPr/>
          </p:nvSpPr>
          <p:spPr>
            <a:xfrm>
              <a:off x="6375600" y="2349360"/>
              <a:ext cx="25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one de tex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èches et conne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43640" y="2997360"/>
              <a:ext cx="719280" cy="287280"/>
            </a:xfrm>
            <a:prstGeom prst="line">
              <a:avLst/>
            </a:prstGeom>
            <a:ln cap="rnd" w="9360">
              <a:solidFill>
                <a:srgbClr val="f41b04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659640" y="2997360"/>
              <a:ext cx="503280" cy="576000"/>
            </a:xfrm>
            <a:prstGeom prst="line">
              <a:avLst/>
            </a:prstGeom>
            <a:ln cap="rnd" w="9360">
              <a:solidFill>
                <a:srgbClr val="f41b04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7020000" y="1773000"/>
              <a:ext cx="216000" cy="647640"/>
            </a:xfrm>
            <a:prstGeom prst="line">
              <a:avLst/>
            </a:prstGeom>
            <a:ln cap="rnd" w="9360">
              <a:solidFill>
                <a:srgbClr val="f41b04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516720" y="1916280"/>
              <a:ext cx="719280" cy="504720"/>
            </a:xfrm>
            <a:prstGeom prst="line">
              <a:avLst/>
            </a:prstGeom>
            <a:ln cap="rnd" w="9360">
              <a:solidFill>
                <a:srgbClr val="f41b04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B8E-3E7E-4619-977E-4D706BA3782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18637-64E7-468B-987F-73E3C1AC661B}" type="datetime1">
              <a:rPr lang="en-US"/>
              <a:t>07/29/26</a:t>
            </a:fld>
          </a:p>
        </p:txBody>
      </p:sp>
    </p:spTree>
  </p:cSld>
  <p:transition>
    <p:push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-0.14184 0.48287 E">
                                      <p:cBhvr>
                                        <p:cTn id="98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des animations sur votre expos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une transition pour toutes les diapositives de votre expos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uvrir la présentation P:\FichiersTest\presentationTest.ppt et modifier les transitions et les anim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68A-6990-40E8-8FD8-DFD02AFCA61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0E908-F0A0-40B0-B851-0CA35C1BE6ED}" type="datetime1">
              <a:rPr lang="en-US"/>
              <a:t>07/29/26</a:t>
            </a:fld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Une diapositive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e diapositive (ou un transparent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u discou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pèr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écrits et illustrations pour mieux suivre et comprendre le disco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ppu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à l’orateur et au public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DCE-0337-4FC0-816D-074AEDC3F1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080F9-D786-4511-8579-9B97455E76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Une présentation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18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semble de diapositives sur un sujet donn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train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s d’exposé limit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tité d’information par diapositive limité (risque de surchar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ibilité de l’inform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aille de la pol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ogénéité des diapositi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tilisation des modè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3B5-4389-4166-8DB6-316F315334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71883-43CB-41C2-AD80-DA75BEE290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bons us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e diapositive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Ne se lit p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e contient pas des phr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dées principales :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mot-clé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item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illustration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graphique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tient un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taille de polic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égal ou supérieur à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18p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tient des police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ans seri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Arial, Tahoma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DC3-0E8F-4B6F-9F8D-D1EC6A907D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F6FCB-CEC7-4642-82F0-05073B8072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bons us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uleu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ntras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re le fond et le tex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viter les couleurs claires sur le fond blanc (ou clai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viter les couleurs très vives sur fond somb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626000"/>
            <a:ext cx="3330720" cy="1368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eci est un t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4653000"/>
            <a:ext cx="3330360" cy="1368360"/>
          </a:xfrm>
          <a:prstGeom prst="rect">
            <a:avLst/>
          </a:prstGeom>
          <a:solidFill>
            <a:srgbClr val="f41b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ceci est un t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4221000"/>
            <a:ext cx="2808360" cy="1325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eci est un t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4fd3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d3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ceci est u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A62-D5E3-4C20-BEC4-BB6AABAD6B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8F567-5C08-442F-96AD-25820DA697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bons us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em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rs d’une exposé, on respecte le temp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 moins 1min par diapositive (2 ou 3, selon le diap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mple : exposé de 30m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/- 15 diapositives, pas plus de 30 diaposi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973-B479-448F-BBB7-45FB5A6FF5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EFB5F-2F01-4738-A7D3-848852C6C7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Éléments d’une présen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cture typ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190-B3D3-485E-BA49-AF095714CF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A151D-54CA-4E2F-8808-7F4B7D7BFF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3:28Z</dcterms:created>
  <dc:creator>angelo</dc:creator>
  <dc:description/>
  <dc:language>en-US</dc:language>
  <cp:lastModifiedBy>angelo</cp:lastModifiedBy>
  <dcterms:modified xsi:type="dcterms:W3CDTF">2006-11-13T19:42:33Z</dcterms:modified>
  <cp:revision>44</cp:revision>
  <dc:subject/>
  <dc:title>Présentation assistée  par ordinateur  </dc:title>
</cp:coreProperties>
</file>