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2.png" ContentType="image/png"/>
  <Override PartName="/ppt/media/image8.png" ContentType="image/png"/>
  <Override PartName="/ppt/media/image7.png" ContentType="image/png"/>
  <Override PartName="/ppt/media/image12.png" ContentType="image/png"/>
  <Override PartName="/ppt/media/image32.wmf" ContentType="image/x-wmf"/>
  <Override PartName="/ppt/media/image9.png" ContentType="image/png"/>
  <Override PartName="/ppt/media/image5.png" ContentType="image/png"/>
  <Override PartName="/ppt/media/image23.png" ContentType="image/png"/>
  <Override PartName="/ppt/media/image13.jpeg" ContentType="image/jpeg"/>
  <Override PartName="/ppt/media/image11.png" ContentType="image/png"/>
  <Override PartName="/ppt/media/image31.wmf" ContentType="image/x-wmf"/>
  <Override PartName="/ppt/media/image2.png" ContentType="image/png"/>
  <Override PartName="/ppt/media/image25.png" ContentType="image/png"/>
  <Override PartName="/ppt/media/image30.wmf" ContentType="image/x-wmf"/>
  <Override PartName="/ppt/media/image4.png" ContentType="image/png"/>
  <Override PartName="/ppt/media/image28.wmf" ContentType="image/x-wmf"/>
  <Override PartName="/ppt/media/image3.jpeg" ContentType="image/jpeg"/>
  <Override PartName="/ppt/media/image1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775E-415D-44CD-94F8-34FB8208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2B2D-BF6B-47FA-8F10-1F0DA494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8B92-6141-4808-BA49-E3B9D7CB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5B4-C1A5-4BAD-8D03-F1A0B631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3C46-A95B-4029-9FBE-408F52DA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A297-70C9-4317-9C50-17D61794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EEED-6DF5-4DF5-9DCE-F16AA76F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9705-638C-40E7-9B3D-9FE0FE24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F42B-62E6-47E3-9AEF-5711AE90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80F4-305D-4FC3-A18B-AB9BEEF0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01BF-8BB6-460E-A733-2BF5D9FC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0DFB-28FF-4209-9D1F-ED423C36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9F93-F782-4F20-8807-F5127FD2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C434-9DD6-4A21-823B-7133F180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3375-A286-4A2E-9E65-5E01C35C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08BA-D6C2-4A75-A33F-C331C482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0037-9D50-484C-9C44-053CE60F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142B-9EC4-4A7B-90B0-8E551677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477D-07FA-4C30-B592-98821394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B726-9A07-4EC6-A5C6-AB2C1E20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6E56-FC39-4495-91F4-31B1ADB1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89D5-7DC1-4074-AAAD-7EA4E090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B838-CBE8-447C-880B-6122EA65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D6DD-6A56-4317-B5BA-433C7F56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86920" y="6248520"/>
            <a:ext cx="230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ureautiq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8000" y="6237360"/>
            <a:ext cx="32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92C7-8E64-40CD-9297-D87D80C3544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3000"/>
            <a:ext cx="1179000" cy="720360"/>
            <a:chOff x="0" y="6093000"/>
            <a:chExt cx="1179000" cy="720360"/>
          </a:xfrm>
        </p:grpSpPr>
        <p:sp>
          <p:nvSpPr>
            <p:cNvPr id="6" name=""/>
            <p:cNvSpPr/>
            <p:nvPr/>
          </p:nvSpPr>
          <p:spPr>
            <a:xfrm>
              <a:off x="19800" y="6106680"/>
              <a:ext cx="1142280" cy="59580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67040" y="6177240"/>
              <a:ext cx="74160" cy="1180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480" y="6353640"/>
              <a:ext cx="830880" cy="376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9960" y="6384600"/>
              <a:ext cx="550800" cy="343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03640" y="6131520"/>
              <a:ext cx="141480" cy="110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7080" y="6710760"/>
              <a:ext cx="79560" cy="1026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440" y="6200280"/>
              <a:ext cx="202320" cy="3513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95520" y="6184800"/>
              <a:ext cx="381600" cy="1594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58560" y="6279120"/>
              <a:ext cx="163440" cy="61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0" y="6093000"/>
              <a:ext cx="1179000" cy="715680"/>
              <a:chOff x="0" y="6093000"/>
              <a:chExt cx="1179000" cy="715680"/>
            </a:xfrm>
          </p:grpSpPr>
          <p:grpSp>
            <p:nvGrpSpPr>
              <p:cNvPr id="16" name=""/>
              <p:cNvGrpSpPr/>
              <p:nvPr/>
            </p:nvGrpSpPr>
            <p:grpSpPr>
              <a:xfrm>
                <a:off x="518040" y="6158880"/>
                <a:ext cx="574560" cy="649800"/>
                <a:chOff x="518040" y="6158880"/>
                <a:chExt cx="574560" cy="64980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518040" y="6181920"/>
                  <a:ext cx="164520" cy="795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61680" y="6686640"/>
                  <a:ext cx="120600" cy="12204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047600" y="6158880"/>
                  <a:ext cx="45000" cy="1072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74160" y="6315120"/>
                <a:ext cx="624240" cy="2293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67480" y="6456240"/>
                <a:ext cx="255960" cy="135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87160" y="6267240"/>
                <a:ext cx="111960" cy="21816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"/>
              <p:cNvGrpSpPr/>
              <p:nvPr/>
            </p:nvGrpSpPr>
            <p:grpSpPr>
              <a:xfrm>
                <a:off x="0" y="6093000"/>
                <a:ext cx="1179000" cy="622080"/>
                <a:chOff x="0" y="6093000"/>
                <a:chExt cx="1179000" cy="62208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696600" y="6605280"/>
                  <a:ext cx="78480" cy="795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6311160"/>
                  <a:ext cx="883440" cy="4039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105840" y="6350040"/>
                  <a:ext cx="83880" cy="1530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465840" y="6093000"/>
                  <a:ext cx="337680" cy="5450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01200" y="6239520"/>
                  <a:ext cx="100440" cy="2314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38760" y="6221160"/>
                  <a:ext cx="204480" cy="12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85080" y="6136920"/>
                  <a:ext cx="493920" cy="1944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47000" y="6199200"/>
                  <a:ext cx="256680" cy="788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" name=""/>
          <p:cNvGrpSpPr/>
          <p:nvPr/>
        </p:nvGrpSpPr>
        <p:grpSpPr>
          <a:xfrm>
            <a:off x="179280" y="1413000"/>
            <a:ext cx="385920" cy="4308480"/>
            <a:chOff x="179280" y="1413000"/>
            <a:chExt cx="385920" cy="4308480"/>
          </a:xfrm>
        </p:grpSpPr>
        <p:sp>
          <p:nvSpPr>
            <p:cNvPr id="33" name=""/>
            <p:cNvSpPr/>
            <p:nvPr/>
          </p:nvSpPr>
          <p:spPr>
            <a:xfrm>
              <a:off x="239760" y="345600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79280" y="141300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tretch/>
        </p:blipFill>
        <p:spPr>
          <a:xfrm>
            <a:off x="7775640" y="219240"/>
            <a:ext cx="136836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3472-5150-45B2-9C09-5781FD7E207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cerig.efpg.inpg.fr/dossier/web_graphique/sommaire.htm" TargetMode="External"/><Relationship Id="rId2" Type="http://schemas.openxmlformats.org/officeDocument/2006/relationships/hyperlink" Target="http://www.gimp-fr.org/" TargetMode="External"/><Relationship Id="rId3" Type="http://schemas.openxmlformats.org/officeDocument/2006/relationships/hyperlink" Target="http://campus.media9.dauphine.fr/moteurs/aidenligne/pages/photoshop/0menu.htm" TargetMode="External"/><Relationship Id="rId4" Type="http://schemas.openxmlformats.org/officeDocument/2006/relationships/hyperlink" Target="http://www.netsources-fr.com/index1.php3?page=cours_photoshop" TargetMode="External"/><Relationship Id="rId5" Type="http://schemas.openxmlformats.org/officeDocument/2006/relationships/hyperlink" Target="http://www.yo-ric.com/tutoriaux-photoshop-6.html" TargetMode="External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oncepts avancé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5200" y="284760"/>
            <a:ext cx="72943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Les images</a:t>
            </a:r>
            <a:br>
              <a:rPr sz="3600"/>
            </a:b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Comparaisons – logo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8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71640" y="2565360"/>
          <a:ext cx="6912000" cy="3351240"/>
        </p:xfrm>
        <a:graphic>
          <a:graphicData uri="http://schemas.openxmlformats.org/drawingml/2006/table">
            <a:tbl>
              <a:tblPr/>
              <a:tblGrid>
                <a:gridCol w="2303280"/>
                <a:gridCol w="2305080"/>
                <a:gridCol w="230364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K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K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K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237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9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9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9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1514520" cy="447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635280" y="2781360"/>
            <a:ext cx="1514520" cy="4474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938920" y="2781360"/>
            <a:ext cx="1514520" cy="4474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1258920" y="4076640"/>
            <a:ext cx="1743120" cy="1324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3562200" y="4076640"/>
            <a:ext cx="1714680" cy="1362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5796000" y="4076640"/>
            <a:ext cx="1743120" cy="131436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971640" y="1989000"/>
            <a:ext cx="6912000" cy="576360"/>
            <a:chOff x="971640" y="1989000"/>
            <a:chExt cx="6912000" cy="576360"/>
          </a:xfrm>
        </p:grpSpPr>
        <p:sp>
          <p:nvSpPr>
            <p:cNvPr id="190" name=""/>
            <p:cNvSpPr/>
            <p:nvPr/>
          </p:nvSpPr>
          <p:spPr>
            <a:xfrm>
              <a:off x="971640" y="1989000"/>
              <a:ext cx="6912000" cy="57636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05840" y="2008080"/>
              <a:ext cx="6110640" cy="459720"/>
            </a:xfrm>
            <a:prstGeom prst="rect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IF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JPEG                    P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Édition des imag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703dff"/>
                </a:solidFill>
                <a:latin typeface="Comic Sans MS"/>
              </a:rPr>
              <a:t>Objectif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: retravailler les images pour mieux l’exploi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Divers logiciels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hotosh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Gim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Édition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daptation </a:t>
            </a:r>
            <a:r>
              <a:rPr b="0" lang="fr-FR" sz="3200" spc="-1" strike="noStrike">
                <a:solidFill>
                  <a:srgbClr val="703dff"/>
                </a:solidFill>
                <a:latin typeface="Comic Sans MS"/>
              </a:rPr>
              <a:t>taille/échelle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de l’image à l’usag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703dff"/>
                </a:solidFill>
                <a:latin typeface="Comic Sans MS"/>
              </a:rPr>
              <a:t>Correction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de l’im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uper-exposition, sous-expos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pplication de </a:t>
            </a:r>
            <a:r>
              <a:rPr b="0" lang="fr-FR" sz="3200" spc="-1" strike="noStrike">
                <a:solidFill>
                  <a:srgbClr val="703dff"/>
                </a:solidFill>
                <a:latin typeface="Comic Sans MS"/>
              </a:rPr>
              <a:t>filt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703dff"/>
                </a:solidFill>
                <a:latin typeface="Comic Sans MS"/>
              </a:rPr>
              <a:t>Création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: logos, boutons, motif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Exemple : Photoshop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ogiciel permettant de retoucher quasiment tous les formats d'imag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es plugins permettent d’ajouter quelques effets : effets spéciaux, d'ombre et de lumières…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703dff"/>
                </a:solidFill>
                <a:latin typeface="Comic Sans MS"/>
              </a:rPr>
              <a:t>Exemple : Photoshop</a:t>
            </a:r>
            <a:br>
              <a:rPr sz="3600"/>
            </a:b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7000" y="981000"/>
            <a:ext cx="3760920" cy="5832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99240" y="112536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ils d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3816360" cy="1077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788000" y="3068640"/>
            <a:ext cx="3313080" cy="10508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4788000" y="4292640"/>
            <a:ext cx="4032000" cy="681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4788000" y="5156280"/>
            <a:ext cx="3529080" cy="938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835280" y="1844640"/>
            <a:ext cx="2952720" cy="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5280" y="2133720"/>
            <a:ext cx="2952720" cy="107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35280" y="2781360"/>
            <a:ext cx="2952720" cy="172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5280" y="3068640"/>
            <a:ext cx="2952720" cy="23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703dff"/>
                </a:solidFill>
                <a:latin typeface="Comic Sans MS"/>
              </a:rPr>
              <a:t>Exemple : Photoshop</a:t>
            </a:r>
            <a:br>
              <a:rPr sz="3600"/>
            </a:b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55640" y="1584360"/>
            <a:ext cx="6337440" cy="14112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164360" y="1584360"/>
            <a:ext cx="1440000" cy="1413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627280" y="3284640"/>
            <a:ext cx="1370160" cy="1360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1187280" y="3274920"/>
            <a:ext cx="1368720" cy="1343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2411280" y="4835520"/>
            <a:ext cx="6266160" cy="14018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350320" y="3500280"/>
            <a:ext cx="27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emples out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703dff"/>
                </a:solidFill>
                <a:latin typeface="Comic Sans MS"/>
              </a:rPr>
              <a:t>Exemple Photoshop</a:t>
            </a:r>
            <a:br>
              <a:rPr sz="3600"/>
            </a:b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1871640" cy="1684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651640" y="3284640"/>
            <a:ext cx="1655640" cy="1311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4788000" y="4653000"/>
            <a:ext cx="1584360" cy="12301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4140360" y="1628640"/>
            <a:ext cx="1800000" cy="14274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2771640" y="5157720"/>
            <a:ext cx="1179720" cy="963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 flipV="1">
            <a:off x="2987640" y="2852280"/>
            <a:ext cx="100800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87640" y="3500280"/>
            <a:ext cx="252108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87640" y="3573360"/>
            <a:ext cx="194472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87640" y="3573360"/>
            <a:ext cx="432000" cy="1440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98640" y="206064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lt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Quelques lien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s formats d’image : </a:t>
            </a: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cerig.efpg.inpg.fr/dossier/web_graphique/sommaire.htm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Gimp : </a:t>
            </a:r>
            <a:r>
              <a:rPr b="0" lang="fr-FR" sz="2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www.gimp-fr.org/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hotoshop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http://campus.media9.dauphine.fr/moteurs/aidenligne/pages/photoshop/0menu.htm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http://www.netsources-fr.com/index1.php3?page=cours_photosho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http://www.yo-ric.com/tutoriaux-photoshop-6.html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br>
              <a:rPr sz="3600"/>
            </a:b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1342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uvrir l’image </a:t>
            </a:r>
            <a:r>
              <a:rPr b="0" lang="fr-FR" sz="2000" spc="-1" strike="noStrike">
                <a:solidFill>
                  <a:srgbClr val="703dff"/>
                </a:solidFill>
                <a:latin typeface="Comic Sans MS"/>
              </a:rPr>
              <a:t>P:\kirsch\FichiersTest\Luxembourg_20060605_0173.JP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duire la taille de l’image à 35% de sa taille réel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registrer sous JPG, GIF et PNG. Lequel parmi ces formats assure le plus petit fichier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ssayer de changer la couleur du ciel sur cette im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ansformer cette image dans une image noir et blan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ppliquer plusieurs filtres sur l’im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tégrer l’image, une fois éditée, à un document Word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éaliser un exemple de poster de communication touristique pour le Luxembourg ou Paris. Utilisez les photos sur </a:t>
            </a: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P:\kirsch\FichiersTest. Le document doit être livré de manière électronique en PDF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es format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 format correspond au codage des inform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ers formats sont possib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M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P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Format BMP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MP : Bitma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 carte des bits 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at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non compacté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 de perte des donné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chiers trop gra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Inadéqua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ur l’Internet (email, page Web…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ur l’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nterne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: format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GIF, JPEG, P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Format GIF</a:t>
            </a:r>
            <a:br>
              <a:rPr sz="3600"/>
            </a:b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GIF : Graphics Interchange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ression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sans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per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'inform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03dff"/>
                </a:solidFill>
                <a:latin typeface="Comic Sans MS"/>
              </a:rPr>
              <a:t>compressé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tout en gardant une qualité correct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ximum </a:t>
            </a:r>
            <a:r>
              <a:rPr b="1" lang="fr-FR" sz="2400" spc="-1" strike="noStrike">
                <a:solidFill>
                  <a:srgbClr val="703dff"/>
                </a:solidFill>
                <a:latin typeface="Comic Sans MS"/>
              </a:rPr>
              <a:t>256 couleu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ransparence possi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seillé pour les </a:t>
            </a:r>
            <a:r>
              <a:rPr b="1" lang="fr-FR" sz="2400" spc="-1" strike="noStrike">
                <a:solidFill>
                  <a:srgbClr val="703dff"/>
                </a:solidFill>
                <a:latin typeface="Comic Sans MS"/>
              </a:rPr>
              <a:t>dessin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, les </a:t>
            </a:r>
            <a:r>
              <a:rPr b="1" lang="fr-FR" sz="2400" spc="-1" strike="noStrike">
                <a:solidFill>
                  <a:srgbClr val="703dff"/>
                </a:solidFill>
                <a:latin typeface="Comic Sans MS"/>
              </a:rPr>
              <a:t>bout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conseillé pour les photos qui comportent plus que 256 couleu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GIF animé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: plusieurs images dans le même fichi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5200" y="284760"/>
            <a:ext cx="72943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Format JPEG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JPEG : Join Photographic Experts Gro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xtension : .JPG ou .JPE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mpression </a:t>
            </a:r>
            <a:r>
              <a:rPr b="1" lang="fr-FR" sz="2400" spc="-1" strike="noStrike">
                <a:solidFill>
                  <a:srgbClr val="703dff"/>
                </a:solidFill>
                <a:latin typeface="Comic Sans MS"/>
              </a:rPr>
              <a:t>avec pert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d'inform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03dff"/>
                </a:solidFill>
                <a:latin typeface="Comic Sans MS"/>
              </a:rPr>
              <a:t>16 million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de couleu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rmat adapté aux </a:t>
            </a:r>
            <a:r>
              <a:rPr b="1" lang="fr-FR" sz="2400" spc="-1" strike="noStrike">
                <a:solidFill>
                  <a:srgbClr val="703dff"/>
                </a:solidFill>
                <a:latin typeface="Comic Sans MS"/>
              </a:rPr>
              <a:t>pho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03dff"/>
                </a:solidFill>
                <a:latin typeface="Comic Sans MS"/>
              </a:rPr>
              <a:t>Pas de transpar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aux de </a:t>
            </a:r>
            <a:r>
              <a:rPr b="1" lang="fr-FR" sz="2400" spc="-1" strike="noStrike">
                <a:solidFill>
                  <a:srgbClr val="703dff"/>
                </a:solidFill>
                <a:latin typeface="Comic Sans MS"/>
              </a:rPr>
              <a:t>compression variabl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5200" y="284760"/>
            <a:ext cx="72943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Format PNG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NG : Portable Network Graphic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uccesseur du format GI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mpression </a:t>
            </a:r>
            <a:r>
              <a:rPr b="1" lang="fr-FR" sz="2400" spc="-1" strike="noStrike">
                <a:solidFill>
                  <a:srgbClr val="703dff"/>
                </a:solidFill>
                <a:latin typeface="Comic Sans MS"/>
              </a:rPr>
              <a:t>sans pert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d'inform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upport des </a:t>
            </a:r>
            <a:r>
              <a:rPr b="1" lang="fr-FR" sz="2400" spc="-1" strike="noStrike">
                <a:solidFill>
                  <a:srgbClr val="703dff"/>
                </a:solidFill>
                <a:latin typeface="Comic Sans MS"/>
              </a:rPr>
              <a:t>couleurs réelle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fr-FR" sz="2400" spc="-1" strike="noStrike">
                <a:solidFill>
                  <a:srgbClr val="703dff"/>
                </a:solidFill>
                <a:latin typeface="Comic Sans MS"/>
              </a:rPr>
              <a:t>16 million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en 24 bi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upporté par les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navigateurs réc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Format ouvert (open sourc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85200" y="284760"/>
            <a:ext cx="72943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Les images</a:t>
            </a:r>
            <a:br>
              <a:rPr sz="3600"/>
            </a:b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Comparaisons - transparence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87280" y="2708280"/>
          <a:ext cx="6858000" cy="28177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27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K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K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K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</a:tbl>
          </a:graphicData>
        </a:graphic>
      </p:graphicFrame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74920" y="2924280"/>
            <a:ext cx="1666800" cy="15904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780000" y="2924280"/>
            <a:ext cx="1666800" cy="1590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083280" y="2924280"/>
            <a:ext cx="1666800" cy="159048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1116000" y="1989000"/>
            <a:ext cx="6912000" cy="576360"/>
            <a:chOff x="1116000" y="1989000"/>
            <a:chExt cx="6912000" cy="576360"/>
          </a:xfrm>
        </p:grpSpPr>
        <p:sp>
          <p:nvSpPr>
            <p:cNvPr id="156" name=""/>
            <p:cNvSpPr/>
            <p:nvPr/>
          </p:nvSpPr>
          <p:spPr>
            <a:xfrm>
              <a:off x="1116000" y="1989000"/>
              <a:ext cx="6912000" cy="57636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50560" y="2008080"/>
              <a:ext cx="6025320" cy="459720"/>
            </a:xfrm>
            <a:prstGeom prst="rect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IF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JPEG                  P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5200" y="284760"/>
            <a:ext cx="72943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Les images</a:t>
            </a:r>
            <a:br>
              <a:rPr sz="3600"/>
            </a:b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Comparaisons - photos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971640" y="2781360"/>
          <a:ext cx="6912000" cy="2467080"/>
        </p:xfrm>
        <a:graphic>
          <a:graphicData uri="http://schemas.openxmlformats.org/drawingml/2006/table">
            <a:tbl>
              <a:tblPr/>
              <a:tblGrid>
                <a:gridCol w="2303280"/>
                <a:gridCol w="2305080"/>
                <a:gridCol w="2303640"/>
              </a:tblGrid>
              <a:tr h="244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9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9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9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 K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K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 K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</a:tbl>
          </a:graphicData>
        </a:graphic>
      </p:graphicFrame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187280" y="292572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490920" y="292572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796000" y="2925720"/>
            <a:ext cx="1905120" cy="142884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971640" y="2062080"/>
            <a:ext cx="6912000" cy="576360"/>
            <a:chOff x="971640" y="2062080"/>
            <a:chExt cx="6912000" cy="576360"/>
          </a:xfrm>
        </p:grpSpPr>
        <p:sp>
          <p:nvSpPr>
            <p:cNvPr id="167" name=""/>
            <p:cNvSpPr/>
            <p:nvPr/>
          </p:nvSpPr>
          <p:spPr>
            <a:xfrm>
              <a:off x="971640" y="2062080"/>
              <a:ext cx="6912000" cy="57636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05120" y="2081160"/>
              <a:ext cx="6195960" cy="459720"/>
            </a:xfrm>
            <a:prstGeom prst="rect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IF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JPEG                   P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Les images</a:t>
            </a:r>
            <a:br>
              <a:rPr sz="3600"/>
            </a:b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 Comparaisons - photos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5640" y="2833560"/>
            <a:ext cx="1770120" cy="1659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55640" y="2060640"/>
            <a:ext cx="7508880" cy="398880"/>
          </a:xfrm>
          <a:prstGeom prst="rect">
            <a:avLst/>
          </a:prstGeom>
          <a:solidFill>
            <a:srgbClr val="ffef66"/>
          </a:soli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0720"/>
                <a:tab algn="l" pos="2330280"/>
                <a:tab algn="l" pos="4033800"/>
                <a:tab algn="l" pos="610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M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P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76160" y="4743360"/>
            <a:ext cx="7488360" cy="398880"/>
          </a:xfrm>
          <a:prstGeom prst="rect">
            <a:avLst/>
          </a:prstGeom>
          <a:solidFill>
            <a:srgbClr val="ffef66"/>
          </a:soli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0280"/>
                <a:tab algn="l" pos="4033800"/>
                <a:tab algn="l" pos="610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56K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99K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4,1K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21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759040" y="2833560"/>
            <a:ext cx="1328760" cy="1246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817080" y="55166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aille : 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376880" y="2833560"/>
            <a:ext cx="1769760" cy="1659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6392880" y="2833560"/>
            <a:ext cx="1770120" cy="16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49:30Z</dcterms:created>
  <dc:creator>angelo</dc:creator>
  <dc:description/>
  <dc:language>en-US</dc:language>
  <cp:lastModifiedBy>Manuele</cp:lastModifiedBy>
  <dcterms:modified xsi:type="dcterms:W3CDTF">2006-12-12T01:00:48Z</dcterms:modified>
  <cp:revision>58</cp:revision>
  <dc:subject/>
  <dc:title> Word « avancé » Édition d’images</dc:title>
</cp:coreProperties>
</file>