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1703-1E16-4939-86C0-62E1169B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971C-1D02-45ED-BA7F-CFBF846D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9281-6833-40A2-A20A-9BBDE04D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82F6-FAAF-43C4-8590-9B7E7323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ED16-6D2F-4522-8D4D-89404EA5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4561-DE41-480D-B8A3-54CD610B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D123-7419-46A4-860B-37915492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6D4D-1107-4420-9A6D-989DE15A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AB7A-1788-4025-B805-6C136306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063D-0515-491E-8D04-F6692B4C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41B0-2F60-4E83-91F3-ADA1EC08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CDB1-7E80-4DF8-BDEF-A1EF3A4F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2EA2-515A-43E7-8066-9F7B4C35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0ED7-C735-4805-950C-4E67BC1B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0419-2DD9-4D70-94A7-CF533096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EF5C-C2EF-4395-A068-85ABCAAC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FAAC-4048-4BD1-9E84-06C338F2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D5EB-88A3-4FB7-919B-B9079A3B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5DCD-0193-460F-9FB3-954B725A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4208-10ED-42ED-BCB4-BF6F0E14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D808-EE1A-4FE9-91CC-BDEB5B4C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B580-C099-4AE9-AA1A-F8B05FE4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4DEE-6AC5-47A8-9E3C-A380F0B9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108E-9CC3-46FD-A020-10CF1B6F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86920" y="6248520"/>
            <a:ext cx="230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formatique Générale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48000" y="6237360"/>
            <a:ext cx="32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4AEC-F24D-40E2-9CA5-CD67DA45A6B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093000"/>
            <a:ext cx="1179000" cy="720360"/>
            <a:chOff x="0" y="6093000"/>
            <a:chExt cx="1179000" cy="720360"/>
          </a:xfrm>
        </p:grpSpPr>
        <p:sp>
          <p:nvSpPr>
            <p:cNvPr id="6" name=""/>
            <p:cNvSpPr/>
            <p:nvPr/>
          </p:nvSpPr>
          <p:spPr>
            <a:xfrm>
              <a:off x="19800" y="6106680"/>
              <a:ext cx="1142280" cy="59580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67040" y="6177240"/>
              <a:ext cx="74160" cy="1180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480" y="6353640"/>
              <a:ext cx="830880" cy="3762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9960" y="6384600"/>
              <a:ext cx="550800" cy="343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03640" y="6131520"/>
              <a:ext cx="141480" cy="110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7080" y="6710760"/>
              <a:ext cx="79560" cy="10260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440" y="6200280"/>
              <a:ext cx="202320" cy="3513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95520" y="6184800"/>
              <a:ext cx="381600" cy="1594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58560" y="6279120"/>
              <a:ext cx="163440" cy="61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0" y="6093000"/>
              <a:ext cx="1179000" cy="715680"/>
              <a:chOff x="0" y="6093000"/>
              <a:chExt cx="1179000" cy="715680"/>
            </a:xfrm>
          </p:grpSpPr>
          <p:grpSp>
            <p:nvGrpSpPr>
              <p:cNvPr id="16" name=""/>
              <p:cNvGrpSpPr/>
              <p:nvPr/>
            </p:nvGrpSpPr>
            <p:grpSpPr>
              <a:xfrm>
                <a:off x="518040" y="6158880"/>
                <a:ext cx="574560" cy="649800"/>
                <a:chOff x="518040" y="6158880"/>
                <a:chExt cx="574560" cy="64980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518040" y="6181920"/>
                  <a:ext cx="164520" cy="795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61680" y="6686640"/>
                  <a:ext cx="120600" cy="12204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047600" y="6158880"/>
                  <a:ext cx="45000" cy="1072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74160" y="6315120"/>
                <a:ext cx="624240" cy="2293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67480" y="6456240"/>
                <a:ext cx="255960" cy="135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87160" y="6267240"/>
                <a:ext cx="111960" cy="21816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" name=""/>
              <p:cNvGrpSpPr/>
              <p:nvPr/>
            </p:nvGrpSpPr>
            <p:grpSpPr>
              <a:xfrm>
                <a:off x="0" y="6093000"/>
                <a:ext cx="1179000" cy="622080"/>
                <a:chOff x="0" y="6093000"/>
                <a:chExt cx="1179000" cy="62208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696600" y="6605280"/>
                  <a:ext cx="78480" cy="795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6311160"/>
                  <a:ext cx="883440" cy="4039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105840" y="6350040"/>
                  <a:ext cx="83880" cy="1530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465840" y="6093000"/>
                  <a:ext cx="337680" cy="5450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01200" y="6239520"/>
                  <a:ext cx="100440" cy="2314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38760" y="6221160"/>
                  <a:ext cx="204480" cy="123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85080" y="6136920"/>
                  <a:ext cx="493920" cy="1944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47000" y="6199200"/>
                  <a:ext cx="256680" cy="788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" name=""/>
          <p:cNvGrpSpPr/>
          <p:nvPr/>
        </p:nvGrpSpPr>
        <p:grpSpPr>
          <a:xfrm>
            <a:off x="179280" y="1413000"/>
            <a:ext cx="385920" cy="4308480"/>
            <a:chOff x="179280" y="1413000"/>
            <a:chExt cx="385920" cy="4308480"/>
          </a:xfrm>
        </p:grpSpPr>
        <p:sp>
          <p:nvSpPr>
            <p:cNvPr id="33" name=""/>
            <p:cNvSpPr/>
            <p:nvPr/>
          </p:nvSpPr>
          <p:spPr>
            <a:xfrm>
              <a:off x="239760" y="345600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79280" y="141300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2"/>
          <a:stretch/>
        </p:blipFill>
        <p:spPr>
          <a:xfrm>
            <a:off x="7775640" y="219240"/>
            <a:ext cx="136836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0255-92EE-4CDB-B1F1-C3A04559300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920" y="180288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ureautique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Communication d’Entreprise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année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nuele KIRSCH PINHEI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pplication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es programmes qui utilisent le système d’exploitation et fournissent un service à l’utilisateu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Word, Excel, PowerPoint, Internet Explorer, Firefox…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ccessibles à travers le menu démarrer (et/ou les raccourci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plorer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’explorateur présente en cascade les conteneurs et les conten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Explorer le poste de travai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éplacer des obje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pliquer des obje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nommer des obje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primer des obje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plorer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essible dans le menu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émarr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gramm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ccessoi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23920" y="907920"/>
            <a:ext cx="7048440" cy="52880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197760" y="-202896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194160" y="-1571760"/>
            <a:ext cx="6094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975240" y="260280"/>
            <a:ext cx="4715640" cy="1656000"/>
            <a:chOff x="975240" y="260280"/>
            <a:chExt cx="4715640" cy="1656000"/>
          </a:xfrm>
        </p:grpSpPr>
        <p:sp>
          <p:nvSpPr>
            <p:cNvPr id="246" name=""/>
            <p:cNvSpPr/>
            <p:nvPr/>
          </p:nvSpPr>
          <p:spPr>
            <a:xfrm>
              <a:off x="975240" y="26028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épertoi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35280" y="836640"/>
              <a:ext cx="0" cy="1079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59600" y="26028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e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19640" y="836640"/>
              <a:ext cx="0" cy="1079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908000" y="4076640"/>
            <a:ext cx="1584360" cy="865080"/>
            <a:chOff x="1908000" y="4076640"/>
            <a:chExt cx="1584360" cy="865080"/>
          </a:xfrm>
        </p:grpSpPr>
        <p:sp>
          <p:nvSpPr>
            <p:cNvPr id="251" name=""/>
            <p:cNvSpPr/>
            <p:nvPr/>
          </p:nvSpPr>
          <p:spPr>
            <a:xfrm>
              <a:off x="1908000" y="4437000"/>
              <a:ext cx="503280" cy="50472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484360" y="4076640"/>
              <a:ext cx="1008000" cy="4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Menu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ute application contient des menus…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s menus permettent la réalisation des a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916280" y="844560"/>
            <a:ext cx="7048440" cy="5392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763640" y="981000"/>
            <a:ext cx="2808360" cy="5050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8360" y="907920"/>
            <a:ext cx="9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7" idx="3"/>
            <a:endCxn id="256" idx="2"/>
          </p:cNvCxnSpPr>
          <p:nvPr/>
        </p:nvCxnSpPr>
        <p:spPr>
          <a:xfrm>
            <a:off x="1405080" y="1106640"/>
            <a:ext cx="334080" cy="127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1692360" y="1700280"/>
            <a:ext cx="215640" cy="4249800"/>
          </a:xfrm>
          <a:custGeom>
            <a:avLst/>
            <a:gdLst>
              <a:gd name="textAreaLeft" fmla="*/ 137880 w 215640"/>
              <a:gd name="textAreaRight" fmla="*/ 216000 w 215640"/>
              <a:gd name="textAreaTop" fmla="*/ 110520 h 4249800"/>
              <a:gd name="textAreaBottom" fmla="*/ 4139280 h 424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3500280"/>
            <a:ext cx="12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Zone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9640" y="5300640"/>
            <a:ext cx="9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rre d’é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03280" y="5734080"/>
            <a:ext cx="503280" cy="358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Menu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elques menus importants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chier : ouvrir, fermer, sortir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Édition : copier, coller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fichage : options d’affich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537080" cy="4476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1547640" y="417600"/>
            <a:ext cx="604692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6292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ouver l’application « calculatrice ». Que contient son menu « édition » ? Et son menu « affichage »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e fois qu’on a choisi l’option «scientifique» dans le menu «affichage», que se passe-t-il avec ce menu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éer un raccourci dans le bureau vers l’application « calculatrice »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es fichier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uite d'informations binaires stockées sur une mémoire de masse (disque dur, clé USB…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exte, image, son, program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typ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est donné par l'</a:t>
            </a: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extension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du fichier (ex: rapport.</a:t>
            </a: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doc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cônes indicatif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788000" y="4149720"/>
            <a:ext cx="411624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es répertoir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t informatique contenant des fichiers ou des répertoi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292720" y="765000"/>
            <a:ext cx="3225960" cy="53341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2286000" cy="1447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364000" y="4437000"/>
            <a:ext cx="3384720" cy="4334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758760" y="515772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éseau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"/>
          <p:cNvCxnSpPr>
            <a:stCxn id="277" idx="0"/>
            <a:endCxn id="276" idx="2"/>
          </p:cNvCxnSpPr>
          <p:nvPr/>
        </p:nvCxnSpPr>
        <p:spPr>
          <a:xfrm flipV="1">
            <a:off x="4516200" y="4654080"/>
            <a:ext cx="827640" cy="504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>
            <a:off x="5219640" y="1916280"/>
            <a:ext cx="360360" cy="2520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186800" y="299736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é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51640" y="1341360"/>
            <a:ext cx="216000" cy="719280"/>
          </a:xfrm>
          <a:custGeom>
            <a:avLst/>
            <a:gdLst>
              <a:gd name="textAreaLeft" fmla="*/ 0 w 216000"/>
              <a:gd name="textAreaRight" fmla="*/ 78120 w 21600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733160" y="148428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lé USB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95280" y="4448160"/>
            <a:ext cx="8713800" cy="8524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924360" y="1916280"/>
            <a:ext cx="4348080" cy="15634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219640" y="2708280"/>
            <a:ext cx="720720" cy="86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60040" y="1916280"/>
            <a:ext cx="17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ésence d’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positif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7680" y="3429000"/>
            <a:ext cx="21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éconnexion d’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positif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"/>
          <p:cNvCxnSpPr>
            <a:stCxn id="287" idx="3"/>
            <a:endCxn id="286" idx="1"/>
          </p:cNvCxnSpPr>
          <p:nvPr/>
        </p:nvCxnSpPr>
        <p:spPr>
          <a:xfrm>
            <a:off x="3502080" y="2236680"/>
            <a:ext cx="1823040" cy="580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1763640" y="4076640"/>
            <a:ext cx="50472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1640" y="2349360"/>
            <a:ext cx="74167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ystème d’exploita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indows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7416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827892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etrouver, dans le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menu démarre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, l’application « </a:t>
            </a:r>
            <a:r>
              <a:rPr b="0" lang="fr-FR" sz="2800" spc="-1" strike="noStrike">
                <a:solidFill>
                  <a:srgbClr val="00b200"/>
                </a:solidFill>
                <a:latin typeface="Comic Sans MS"/>
              </a:rPr>
              <a:t>bloc notes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».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Crée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un document avec cette applic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Enregistre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le document sur votre ho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mment avez-vous fait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Que nom avez-vous donné à votre fichier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vec l’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explore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, créer sur votre home un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dossie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« </a:t>
            </a:r>
            <a:r>
              <a:rPr b="0" lang="fr-FR" sz="2800" spc="-1" strike="noStrike">
                <a:solidFill>
                  <a:srgbClr val="00b200"/>
                </a:solidFill>
                <a:latin typeface="Comic Sans MS"/>
              </a:rPr>
              <a:t>Informatique-TPs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»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éplacer le fichier que vous avez créé vers ce dossie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mment avez-vous fait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Formats des document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703d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l existe différents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formats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de docu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703d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’extension et les icônes les distinguen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703d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 format est lié au contenu du fich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703d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Nature de l’information (image, son, text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703d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dage du document (mp3, wav, jpg, bmp, doc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979640" y="4292640"/>
          <a:ext cx="91440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4292640"/>
                    <a:ext cx="91440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6427800" y="4221000"/>
          <a:ext cx="95256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7800" y="4221000"/>
                    <a:ext cx="9525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826920" y="4375080"/>
          <a:ext cx="947880" cy="9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4375080"/>
                    <a:ext cx="9478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960480" y="5276880"/>
            <a:ext cx="65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77480" y="5276880"/>
            <a:ext cx="2033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déterm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515640" y="5300640"/>
            <a:ext cx="87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666560" y="534816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7"/>
          <a:stretch/>
        </p:blipFill>
        <p:spPr>
          <a:xfrm>
            <a:off x="4218120" y="4365720"/>
            <a:ext cx="723600" cy="8618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4138200" y="5229360"/>
            <a:ext cx="102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8"/>
          <a:stretch/>
        </p:blipFill>
        <p:spPr>
          <a:xfrm>
            <a:off x="7524720" y="4292640"/>
            <a:ext cx="868320" cy="9349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9"/>
          <a:stretch/>
        </p:blipFill>
        <p:spPr>
          <a:xfrm>
            <a:off x="5411880" y="4365720"/>
            <a:ext cx="815760" cy="8636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0"/>
          <a:stretch/>
        </p:blipFill>
        <p:spPr>
          <a:xfrm>
            <a:off x="2916360" y="4481640"/>
            <a:ext cx="722160" cy="81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5422680" y="5300640"/>
            <a:ext cx="87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Format et application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associe une application à un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’autres applications peuvent aussi ouvrir un documen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7110360" y="4292640"/>
          <a:ext cx="952560" cy="10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0360" y="4292640"/>
                    <a:ext cx="95256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1019160" y="4378320"/>
          <a:ext cx="117648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9160" y="4378320"/>
                    <a:ext cx="117648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2424240" y="4883040"/>
            <a:ext cx="4343400" cy="0"/>
          </a:xfrm>
          <a:prstGeom prst="line">
            <a:avLst/>
          </a:prstGeom>
          <a:ln w="25560">
            <a:solidFill>
              <a:srgbClr val="00b2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02520" y="5340240"/>
            <a:ext cx="1672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44320" y="5264280"/>
            <a:ext cx="157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Arial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29520" y="4357800"/>
            <a:ext cx="1876680" cy="118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Arial"/>
              </a:rPr>
              <a:t>Création</a:t>
            </a:r>
            <a:br>
              <a:rPr sz="2400"/>
            </a:br>
            <a:r>
              <a:rPr b="0" lang="en-US" sz="2400" spc="-1" strike="noStrike">
                <a:solidFill>
                  <a:srgbClr val="00b200"/>
                </a:solidFill>
                <a:latin typeface="Arial"/>
              </a:rPr>
              <a:t>Modification</a:t>
            </a:r>
            <a:br>
              <a:rPr sz="2400"/>
            </a:br>
            <a:r>
              <a:rPr b="0" lang="en-US" sz="2400" spc="-1" strike="noStrike">
                <a:solidFill>
                  <a:srgbClr val="00b200"/>
                </a:solidFill>
                <a:latin typeface="Arial"/>
              </a:rPr>
              <a:t>Consul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anger ses fichier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tiliser de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dossie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our regrouper les fichiers par thè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tiliser de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nom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qui évoquent le conten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uvegarde 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ationalisation de l’espace : raccourc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703dff"/>
                </a:solidFill>
                <a:latin typeface="Comic Sans MS"/>
              </a:rPr>
              <a:t>Identifiant d’un fichier</a:t>
            </a:r>
            <a:br>
              <a:rPr sz="3600"/>
            </a:br>
            <a:r>
              <a:rPr b="0" lang="fr-FR" sz="3600" spc="-1" strike="noStrike">
                <a:solidFill>
                  <a:srgbClr val="703dff"/>
                </a:solidFill>
                <a:latin typeface="Comic Sans MS"/>
              </a:rPr>
              <a:t> (chemin ou path)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Un fichier est identifié par un nom (chaîne de caractères) distincti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Nomenclature textuelle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Exemple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C:\WINNT\Temp\readme.tx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703dff"/>
                </a:solidFill>
                <a:latin typeface="Comic Sans MS"/>
              </a:rPr>
              <a:t>Identifiant d’un fichier</a:t>
            </a:r>
            <a:br>
              <a:rPr sz="3600"/>
            </a:br>
            <a:r>
              <a:rPr b="0" lang="fr-FR" sz="3600" spc="-1" strike="noStrike">
                <a:solidFill>
                  <a:srgbClr val="703dff"/>
                </a:solidFill>
                <a:latin typeface="Comic Sans MS"/>
              </a:rPr>
              <a:t>(chemin ou path)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1368360" y="2060640"/>
            <a:ext cx="4550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47680" y="2060640"/>
            <a:ext cx="2934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54680" y="4390920"/>
            <a:ext cx="10324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WIN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34920" y="2060640"/>
            <a:ext cx="9946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26760" y="2060640"/>
            <a:ext cx="17582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readme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52800" y="2060640"/>
            <a:ext cx="2934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629320" y="2060640"/>
            <a:ext cx="2934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973080" y="2593800"/>
          <a:ext cx="1230480" cy="120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3080" y="2593800"/>
                    <a:ext cx="1230480" cy="12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2268360" y="3355920"/>
          <a:ext cx="107820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355920"/>
                    <a:ext cx="1078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3639960" y="4041720"/>
          <a:ext cx="107820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39960" y="4041720"/>
                    <a:ext cx="1078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5316480" y="4727520"/>
            <a:ext cx="914400" cy="800280"/>
          </a:xfrm>
          <a:prstGeom prst="rect">
            <a:avLst/>
          </a:prstGeom>
          <a:ln w="0">
            <a:noFill/>
          </a:ln>
        </p:spPr>
      </p:pic>
      <p:cxnSp>
        <p:nvCxnSpPr>
          <p:cNvPr id="340" name=""/>
          <p:cNvCxnSpPr/>
          <p:nvPr/>
        </p:nvCxnSpPr>
        <p:spPr>
          <a:xfrm>
            <a:off x="2203560" y="3198960"/>
            <a:ext cx="605520" cy="157680"/>
          </a:xfrm>
          <a:prstGeom prst="bentConnector2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1" name=""/>
          <p:cNvCxnSpPr/>
          <p:nvPr/>
        </p:nvCxnSpPr>
        <p:spPr>
          <a:xfrm>
            <a:off x="3346200" y="3850920"/>
            <a:ext cx="834120" cy="191160"/>
          </a:xfrm>
          <a:prstGeom prst="bentConnector2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endCxn id="339" idx="0"/>
          </p:cNvCxnSpPr>
          <p:nvPr/>
        </p:nvCxnSpPr>
        <p:spPr>
          <a:xfrm>
            <a:off x="4718160" y="4536720"/>
            <a:ext cx="1056240" cy="191160"/>
          </a:xfrm>
          <a:prstGeom prst="bentConnector2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3" name=""/>
          <p:cNvSpPr/>
          <p:nvPr/>
        </p:nvSpPr>
        <p:spPr>
          <a:xfrm>
            <a:off x="2556720" y="2060640"/>
            <a:ext cx="12002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776040" y="4956120"/>
            <a:ext cx="8604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b200"/>
                </a:solidFill>
                <a:latin typeface="Tahoma"/>
              </a:rPr>
              <a:t>Te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42680" y="5462640"/>
            <a:ext cx="14958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b200"/>
                </a:solidFill>
                <a:latin typeface="Tahoma"/>
              </a:rPr>
              <a:t>readme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221600" y="2136600"/>
            <a:ext cx="457200" cy="304920"/>
          </a:xfrm>
          <a:prstGeom prst="rect">
            <a:avLst/>
          </a:prstGeom>
          <a:noFill/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450200" y="2441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713640" y="312732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41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es extensions courant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696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bmp, gif, jpeg, jpg, pcx, png: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im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oc: documents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pt: présentations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PowerPoi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xt: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tex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df: document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Adobe Acrob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vi, mpeg, mpg, wmv: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ar, zip: archives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compressé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mp3, wav, wma: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aud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xls: feuilles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htm, html: pages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we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echerch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orsque le nombre des fichiers devient trop élevé, il nous faut un utilitaire pour </a:t>
            </a:r>
            <a:r>
              <a:rPr b="0" lang="fr-FR" sz="3200" spc="-1" strike="noStrike">
                <a:solidFill>
                  <a:srgbClr val="703dff"/>
                </a:solidFill>
                <a:latin typeface="Comic Sans MS"/>
              </a:rPr>
              <a:t>retrouver un document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l existe plusieurs </a:t>
            </a:r>
            <a:r>
              <a:rPr b="0" lang="fr-FR" sz="3200" spc="-1" strike="noStrike">
                <a:solidFill>
                  <a:srgbClr val="703dff"/>
                </a:solidFill>
                <a:latin typeface="Comic Sans MS"/>
              </a:rPr>
              <a:t>critères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de recherche qui peuvent se combin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Nom, date, type (format), taille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« Joker » : </a:t>
            </a:r>
            <a:r>
              <a:rPr b="0" lang="fr-FR" sz="3200" spc="-1" strike="noStrike">
                <a:solidFill>
                  <a:srgbClr val="703dff"/>
                </a:solidFill>
                <a:latin typeface="Comic Sans MS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etup.*, *.tx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echerche par nom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5715000" cy="24652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553320" y="5013360"/>
            <a:ext cx="42087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3dff"/>
                </a:solidFill>
                <a:latin typeface="Tahoma"/>
              </a:rPr>
              <a:t>Nom du fichier à recher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3dff"/>
                </a:solidFill>
                <a:latin typeface="Tahoma"/>
              </a:rPr>
              <a:t>setup.log, setup.*, *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932360" y="5029200"/>
            <a:ext cx="3780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Résultats de la reche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7" name=""/>
          <p:cNvCxnSpPr>
            <a:stCxn id="355" idx="0"/>
          </p:cNvCxnSpPr>
          <p:nvPr/>
        </p:nvCxnSpPr>
        <p:spPr>
          <a:xfrm flipH="1" flipV="1" rot="5400000">
            <a:off x="2517480" y="4542840"/>
            <a:ext cx="610200" cy="33084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6" idx="0"/>
          </p:cNvCxnSpPr>
          <p:nvPr/>
        </p:nvCxnSpPr>
        <p:spPr>
          <a:xfrm flipV="1" rot="16200000">
            <a:off x="6077880" y="4284000"/>
            <a:ext cx="991440" cy="499320"/>
          </a:xfrm>
          <a:prstGeom prst="bentConnector3">
            <a:avLst>
              <a:gd name="adj1" fmla="val 49981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echerche par contenu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748560" cy="2249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887760" y="4800600"/>
            <a:ext cx="3301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Tahoma"/>
              </a:rPr>
              <a:t>Contenu à recher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"/>
          <p:cNvCxnSpPr>
            <a:stCxn id="361" idx="0"/>
          </p:cNvCxnSpPr>
          <p:nvPr/>
        </p:nvCxnSpPr>
        <p:spPr>
          <a:xfrm flipH="1" flipV="1" rot="5400000">
            <a:off x="2398320" y="4330080"/>
            <a:ext cx="610200" cy="33084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ystème d’exploitation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ujours acti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face entre le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pplicat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le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utilisateu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t le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atéri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lote le démarrage de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pplicat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t des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ériphériqu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100160" y="1879560"/>
            <a:ext cx="6856560" cy="3349800"/>
            <a:chOff x="1100160" y="1879560"/>
            <a:chExt cx="6856560" cy="3349800"/>
          </a:xfrm>
        </p:grpSpPr>
        <p:grpSp>
          <p:nvGrpSpPr>
            <p:cNvPr id="142" name=""/>
            <p:cNvGrpSpPr/>
            <p:nvPr/>
          </p:nvGrpSpPr>
          <p:grpSpPr>
            <a:xfrm>
              <a:off x="1100160" y="3251160"/>
              <a:ext cx="6856560" cy="608040"/>
              <a:chOff x="1100160" y="3251160"/>
              <a:chExt cx="6856560" cy="608040"/>
            </a:xfrm>
          </p:grpSpPr>
          <p:sp>
            <p:nvSpPr>
              <p:cNvPr id="143" name=""/>
              <p:cNvSpPr/>
              <p:nvPr/>
            </p:nvSpPr>
            <p:spPr>
              <a:xfrm>
                <a:off x="1100160" y="3251160"/>
                <a:ext cx="6856560" cy="608040"/>
              </a:xfrm>
              <a:prstGeom prst="roundRect">
                <a:avLst>
                  <a:gd name="adj" fmla="val 259"/>
                </a:avLst>
              </a:prstGeom>
              <a:solidFill>
                <a:srgbClr val="cce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00160" y="3251160"/>
                <a:ext cx="6856560" cy="608040"/>
              </a:xfrm>
              <a:prstGeom prst="roundRect">
                <a:avLst>
                  <a:gd name="adj" fmla="val 25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Times New Roman"/>
                  </a:rPr>
                  <a:t>Système d’exploit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376880" y="2565360"/>
              <a:ext cx="3579840" cy="608040"/>
              <a:chOff x="4376880" y="2565360"/>
              <a:chExt cx="3579840" cy="608040"/>
            </a:xfrm>
          </p:grpSpPr>
          <p:sp>
            <p:nvSpPr>
              <p:cNvPr id="146" name=""/>
              <p:cNvSpPr/>
              <p:nvPr/>
            </p:nvSpPr>
            <p:spPr>
              <a:xfrm>
                <a:off x="4376880" y="2565360"/>
                <a:ext cx="3579840" cy="608040"/>
              </a:xfrm>
              <a:prstGeom prst="roundRect">
                <a:avLst>
                  <a:gd name="adj" fmla="val 259"/>
                </a:avLst>
              </a:prstGeom>
              <a:solidFill>
                <a:srgbClr val="cce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76880" y="2565360"/>
                <a:ext cx="3579840" cy="608040"/>
              </a:xfrm>
              <a:prstGeom prst="roundRect">
                <a:avLst>
                  <a:gd name="adj" fmla="val 25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Times New Roman"/>
                  </a:rPr>
                  <a:t>Interface </a:t>
                </a:r>
                <a:r>
                  <a:rPr b="0" lang="fr-FR" sz="2400" spc="-1" strike="noStrike">
                    <a:solidFill>
                      <a:srgbClr val="3333cc"/>
                    </a:solidFill>
                    <a:latin typeface="Times New Roman"/>
                  </a:rPr>
                  <a:t>utilisateu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1100160" y="2565360"/>
              <a:ext cx="3098880" cy="608040"/>
              <a:chOff x="1100160" y="2565360"/>
              <a:chExt cx="3098880" cy="608040"/>
            </a:xfrm>
          </p:grpSpPr>
          <p:sp>
            <p:nvSpPr>
              <p:cNvPr id="149" name=""/>
              <p:cNvSpPr/>
              <p:nvPr/>
            </p:nvSpPr>
            <p:spPr>
              <a:xfrm>
                <a:off x="1100160" y="2565360"/>
                <a:ext cx="3098880" cy="608040"/>
              </a:xfrm>
              <a:prstGeom prst="roundRect">
                <a:avLst>
                  <a:gd name="adj" fmla="val 259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00160" y="2565360"/>
                <a:ext cx="3098880" cy="608040"/>
              </a:xfrm>
              <a:prstGeom prst="roundRect">
                <a:avLst>
                  <a:gd name="adj" fmla="val 25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Times New Roman"/>
                  </a:rPr>
                  <a:t>Programm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1100160" y="4621320"/>
              <a:ext cx="6856560" cy="608040"/>
              <a:chOff x="1100160" y="4621320"/>
              <a:chExt cx="6856560" cy="608040"/>
            </a:xfrm>
          </p:grpSpPr>
          <p:sp>
            <p:nvSpPr>
              <p:cNvPr id="152" name=""/>
              <p:cNvSpPr/>
              <p:nvPr/>
            </p:nvSpPr>
            <p:spPr>
              <a:xfrm>
                <a:off x="1100160" y="4621320"/>
                <a:ext cx="6856560" cy="608040"/>
              </a:xfrm>
              <a:prstGeom prst="roundRect">
                <a:avLst>
                  <a:gd name="adj" fmla="val 259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100160" y="4621320"/>
                <a:ext cx="6856560" cy="608040"/>
              </a:xfrm>
              <a:prstGeom prst="roundRect">
                <a:avLst>
                  <a:gd name="adj" fmla="val 25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Times New Roman"/>
                  </a:rPr>
                  <a:t>Ordinateur / Matéri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1100160" y="1879560"/>
              <a:ext cx="6856560" cy="608040"/>
              <a:chOff x="1100160" y="1879560"/>
              <a:chExt cx="6856560" cy="608040"/>
            </a:xfrm>
          </p:grpSpPr>
          <p:sp>
            <p:nvSpPr>
              <p:cNvPr id="155" name=""/>
              <p:cNvSpPr/>
              <p:nvPr/>
            </p:nvSpPr>
            <p:spPr>
              <a:xfrm>
                <a:off x="1100160" y="1879560"/>
                <a:ext cx="6856560" cy="608040"/>
              </a:xfrm>
              <a:prstGeom prst="roundRect">
                <a:avLst>
                  <a:gd name="adj" fmla="val 259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100160" y="1879560"/>
                <a:ext cx="6856560" cy="608040"/>
              </a:xfrm>
              <a:prstGeom prst="roundRect">
                <a:avLst>
                  <a:gd name="adj" fmla="val 25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Times New Roman"/>
                  </a:rPr>
                  <a:t>Utilisateur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1380960" y="3021120"/>
              <a:ext cx="180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1533600" y="3019320"/>
              <a:ext cx="1440" cy="384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81440" y="2371680"/>
              <a:ext cx="180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757760" y="2371320"/>
              <a:ext cx="1440" cy="384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87800" y="2962440"/>
              <a:ext cx="38088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086000" y="2809800"/>
              <a:ext cx="38412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1100160" y="3935520"/>
              <a:ext cx="3125880" cy="608040"/>
              <a:chOff x="1100160" y="3935520"/>
              <a:chExt cx="3125880" cy="608040"/>
            </a:xfrm>
          </p:grpSpPr>
          <p:sp>
            <p:nvSpPr>
              <p:cNvPr id="164" name=""/>
              <p:cNvSpPr/>
              <p:nvPr/>
            </p:nvSpPr>
            <p:spPr>
              <a:xfrm>
                <a:off x="1100160" y="3935520"/>
                <a:ext cx="3125880" cy="608040"/>
              </a:xfrm>
              <a:prstGeom prst="roundRect">
                <a:avLst>
                  <a:gd name="adj" fmla="val 259"/>
                </a:avLst>
              </a:prstGeom>
              <a:solidFill>
                <a:srgbClr val="cce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00160" y="3935520"/>
                <a:ext cx="3125880" cy="608040"/>
              </a:xfrm>
              <a:prstGeom prst="roundRect">
                <a:avLst>
                  <a:gd name="adj" fmla="val 25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Times New Roman"/>
                  </a:rPr>
                  <a:t>Pilotes (Drivers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1346040" y="4389480"/>
              <a:ext cx="180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498680" y="4387680"/>
              <a:ext cx="1440" cy="384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46040" y="3705120"/>
              <a:ext cx="180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498680" y="3703320"/>
              <a:ext cx="1440" cy="384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4376880" y="3868920"/>
              <a:ext cx="3579840" cy="676080"/>
              <a:chOff x="4376880" y="3868920"/>
              <a:chExt cx="3579840" cy="676080"/>
            </a:xfrm>
          </p:grpSpPr>
          <p:sp>
            <p:nvSpPr>
              <p:cNvPr id="171" name=""/>
              <p:cNvSpPr/>
              <p:nvPr/>
            </p:nvSpPr>
            <p:spPr>
              <a:xfrm>
                <a:off x="4376880" y="3868920"/>
                <a:ext cx="3579840" cy="676080"/>
              </a:xfrm>
              <a:prstGeom prst="roundRect">
                <a:avLst>
                  <a:gd name="adj" fmla="val 231"/>
                </a:avLst>
              </a:prstGeom>
              <a:solidFill>
                <a:srgbClr val="cce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376880" y="3868920"/>
                <a:ext cx="3579840" cy="676080"/>
              </a:xfrm>
              <a:prstGeom prst="roundRect">
                <a:avLst>
                  <a:gd name="adj" fmla="val 2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390920" y="3795840"/>
              <a:ext cx="3551400" cy="154080"/>
              <a:chOff x="4390920" y="3795840"/>
              <a:chExt cx="3551400" cy="154080"/>
            </a:xfrm>
          </p:grpSpPr>
          <p:sp>
            <p:nvSpPr>
              <p:cNvPr id="174" name=""/>
              <p:cNvSpPr/>
              <p:nvPr/>
            </p:nvSpPr>
            <p:spPr>
              <a:xfrm>
                <a:off x="4390920" y="3795840"/>
                <a:ext cx="3551400" cy="154080"/>
              </a:xfrm>
              <a:prstGeom prst="roundRect">
                <a:avLst>
                  <a:gd name="adj" fmla="val 1019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390920" y="3795840"/>
                <a:ext cx="3551400" cy="154080"/>
              </a:xfrm>
              <a:prstGeom prst="roundRect">
                <a:avLst>
                  <a:gd name="adj" fmla="val 101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7500960" y="3057480"/>
              <a:ext cx="144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653240" y="3057120"/>
              <a:ext cx="1800" cy="384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653240" y="4428720"/>
              <a:ext cx="1800" cy="384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00960" y="4429080"/>
              <a:ext cx="144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956720" y="2924280"/>
            <a:ext cx="720720" cy="720720"/>
          </a:xfrm>
          <a:prstGeom prst="line">
            <a:avLst/>
          </a:prstGeom>
          <a:ln w="76320">
            <a:solidFill>
              <a:srgbClr val="703d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echerche le fichier que vous avez créé précédemment. Où se trouve-t-il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Trouver tous les fichier texte (extension « .txt ») localisé sur le disque du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mpression/Archivag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1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fr-FR" sz="2400" spc="-1" strike="noStrike">
                <a:solidFill>
                  <a:srgbClr val="00b200"/>
                </a:solidFill>
                <a:latin typeface="Comic Sans MS"/>
              </a:rPr>
              <a:t>compression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consiste à regrouper un ensemble de fichiers et à réduire leur tail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fichier contenant l'ensemble des autres fichiers compressés est généralement appelé fichier </a:t>
            </a:r>
            <a:r>
              <a:rPr b="0" lang="fr-FR" sz="2400" spc="-1" strike="noStrike">
                <a:solidFill>
                  <a:srgbClr val="00b200"/>
                </a:solidFill>
                <a:latin typeface="Comic Sans MS"/>
              </a:rPr>
              <a:t>archiv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format d'archives </a:t>
            </a:r>
            <a:r>
              <a:rPr b="0" lang="fr-FR" sz="2400" spc="-1" strike="noStrike">
                <a:solidFill>
                  <a:srgbClr val="00b200"/>
                </a:solidFill>
                <a:latin typeface="Comic Sans MS"/>
              </a:rPr>
              <a:t>zip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est le plus répandu sous Window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lternatives 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b2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ra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: plus performant que zip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gz : Linu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…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mpression/Archivag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1518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implifie le transfert (ou l’envoi par mail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 seul fichier plutôt que plusieu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duit la quantité de données à transfér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éduit la taille du fichier à sauvegard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.ex. on peut mettre plus sur une clé US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pplications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WinZ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werArchi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7-zip (gratui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 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rimer le répertoire que vous avez créé ? Quelle était ça taille avant la compression ? Et après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Questions ?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Bureau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pace de travai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étaphore bureau ré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900000" y="1027080"/>
            <a:ext cx="762012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969840" y="620640"/>
            <a:ext cx="7347240" cy="5760720"/>
            <a:chOff x="969840" y="620640"/>
            <a:chExt cx="7347240" cy="5760720"/>
          </a:xfrm>
        </p:grpSpPr>
        <p:grpSp>
          <p:nvGrpSpPr>
            <p:cNvPr id="185" name=""/>
            <p:cNvGrpSpPr/>
            <p:nvPr/>
          </p:nvGrpSpPr>
          <p:grpSpPr>
            <a:xfrm>
              <a:off x="969840" y="620640"/>
              <a:ext cx="7347240" cy="5688000"/>
              <a:chOff x="969840" y="620640"/>
              <a:chExt cx="7347240" cy="5688000"/>
            </a:xfrm>
          </p:grpSpPr>
          <p:sp>
            <p:nvSpPr>
              <p:cNvPr id="186" name=""/>
              <p:cNvSpPr/>
              <p:nvPr/>
            </p:nvSpPr>
            <p:spPr>
              <a:xfrm>
                <a:off x="969840" y="907920"/>
                <a:ext cx="649440" cy="2376720"/>
              </a:xfrm>
              <a:prstGeom prst="ellipse">
                <a:avLst/>
              </a:prstGeom>
              <a:noFill/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344240" y="620640"/>
                <a:ext cx="947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Icône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556000" y="1628640"/>
                <a:ext cx="830160" cy="1729080"/>
              </a:xfrm>
              <a:prstGeom prst="ellipse">
                <a:avLst/>
              </a:prstGeom>
              <a:noFill/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177720" y="1557360"/>
                <a:ext cx="1521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omic Sans MS"/>
                  </a:rPr>
                  <a:t>Raccourcis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662200" y="3933720"/>
                <a:ext cx="649440" cy="863640"/>
              </a:xfrm>
              <a:prstGeom prst="ellipse">
                <a:avLst/>
              </a:prstGeom>
              <a:noFill/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406320" y="4149720"/>
                <a:ext cx="1089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omic Sans MS"/>
                  </a:rPr>
                  <a:t>Dossier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667640" y="5445000"/>
                <a:ext cx="649440" cy="863640"/>
              </a:xfrm>
              <a:prstGeom prst="ellipse">
                <a:avLst/>
              </a:prstGeom>
              <a:noFill/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519600" y="5084640"/>
                <a:ext cx="1527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Comic Sans MS"/>
                  </a:rPr>
                  <a:t>Courbeille</a:t>
                </a:r>
                <a:r>
                  <a:rPr b="1" lang="fr-FR" sz="1800" spc="-1" strike="noStrike">
                    <a:solidFill>
                      <a:srgbClr val="ff0000"/>
                    </a:solidFill>
                    <a:latin typeface="Comic Sans MS"/>
                  </a:rPr>
                  <a:t> 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 flipV="1">
              <a:off x="1763640" y="5516280"/>
              <a:ext cx="144144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50720" y="5253120"/>
              <a:ext cx="198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Menu démarr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Bureau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8077320" cy="2819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1143000" y="5105520"/>
            <a:ext cx="2286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outon Démar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3886200"/>
            <a:ext cx="2286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rre d’o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3505320"/>
            <a:ext cx="2286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rre de tâ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2514600"/>
            <a:ext cx="228276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rrière-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fond d’écr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1676520"/>
            <a:ext cx="2286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ste de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2819520"/>
            <a:ext cx="2286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rbe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00200" y="2209680"/>
            <a:ext cx="5335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676520" y="3352680"/>
            <a:ext cx="3808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438280" y="4419720"/>
            <a:ext cx="53352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572000" y="3048120"/>
            <a:ext cx="5335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105520" y="4038480"/>
            <a:ext cx="83808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43600" y="4038480"/>
            <a:ext cx="763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990360" y="5029200"/>
            <a:ext cx="15228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64000" y="5013360"/>
            <a:ext cx="360360" cy="863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rêter l’ordin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ermer la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ction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verture / exécu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ouble cl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éplaceme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lisser - dépos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enu contextu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lic droit sur l’obj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érations applicables à un obj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peut activer une commande de plusieurs manières différentes (on parle de redondanc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Fenêtr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3303720" cy="2674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09480" y="2209680"/>
            <a:ext cx="2286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rre de ti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95480" y="2438280"/>
            <a:ext cx="38124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24480" y="1143000"/>
            <a:ext cx="22860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outons d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Ré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Agrandis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Ferme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714640" y="1981080"/>
            <a:ext cx="60948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3962520"/>
            <a:ext cx="2286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rre de m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3124080"/>
            <a:ext cx="2286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rre d’o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5486400"/>
            <a:ext cx="2286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rre d’é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77120" y="3886200"/>
            <a:ext cx="2286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Zone de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5334120"/>
            <a:ext cx="2286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743200" y="3276720"/>
            <a:ext cx="38088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743200" y="5409720"/>
            <a:ext cx="68580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714640" y="3429000"/>
            <a:ext cx="68580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486400" y="4114800"/>
            <a:ext cx="9907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6172200" y="4952520"/>
            <a:ext cx="38088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5866920" y="5410080"/>
            <a:ext cx="68580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rbeil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 emplacement intermédiaire avant la suppression d’un obj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pression définitive : vider l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rbeil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sibilité  d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staur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es objets avant de vider la corbeil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 dans ma clé USB ?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 avec le réseau local ?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12970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 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484280"/>
            <a:ext cx="8278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vrir le poste de travail. Que contient-il 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ns la fenêtre « poste de travail »,  exécuter les actions suivantes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éplacer la fenêt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imensionner la fenêt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r le burea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éplacer des icô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pier/coller des icôn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elles actions sont disponibles au menu contextuelle lié à la corbeille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13:11:01Z</dcterms:created>
  <dc:creator>Manuele Kirsch Pinheiro</dc:creator>
  <dc:description/>
  <dc:language>en-US</dc:language>
  <cp:lastModifiedBy>Manuele Kirsch Pinheiro</cp:lastModifiedBy>
  <dcterms:modified xsi:type="dcterms:W3CDTF">2006-09-17T16:52:06Z</dcterms:modified>
  <cp:revision>38</cp:revision>
  <dc:subject/>
  <dc:title>Informatique Générale ML-AS</dc:title>
</cp:coreProperties>
</file>