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34A-0B9C-448C-86ED-6E7955E4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39E6-A905-4421-958C-3575998E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89AC-C9AF-4B49-8308-FAD09200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1028-9EFB-40A9-A42B-9F8A01D7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3BBC-9CA6-4740-8F89-362F37E0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39EB-B6E1-4CD0-B506-D9D58923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65DC-4B1A-4615-BE52-6A939946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BD96-F651-498D-9ECA-21537082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2105-B3D3-4FB6-856F-760214A0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BC85-300E-4BF9-9134-6A9E17A9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643B-55F1-4889-8B97-F1083F3E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4D63-8D01-4452-9C9E-33B0BEF8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A8AD-4180-4616-BD25-ED8BE158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4D19-84BA-4046-B584-D4A0C1AD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0825-659D-45B0-AD80-A0C309B1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B99D-A92A-4FD1-95CA-4A43C672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9336-FC36-4DC2-9CE9-F330E509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93D-DA69-429B-9793-B13E5E4D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6C4-DC83-4F98-A2F7-52F6471E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3982-D5A3-4413-A816-802B04BD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BBF-E4A5-43A7-8593-2C04B021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8F8D-D304-4097-AB1D-EC30B165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7D1-56F3-4F26-9877-DF6212D1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D378-2547-4CFD-9CF8-22A57C28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8520"/>
            <a:ext cx="230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formatique Générale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623736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0FBA-118B-46C4-86EB-D4FD031D55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3000"/>
            <a:ext cx="1179000" cy="720360"/>
            <a:chOff x="0" y="6093000"/>
            <a:chExt cx="1179000" cy="720360"/>
          </a:xfrm>
        </p:grpSpPr>
        <p:sp>
          <p:nvSpPr>
            <p:cNvPr id="6" name=""/>
            <p:cNvSpPr/>
            <p:nvPr/>
          </p:nvSpPr>
          <p:spPr>
            <a:xfrm>
              <a:off x="19800" y="6106680"/>
              <a:ext cx="1142280" cy="5958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7040" y="6177240"/>
              <a:ext cx="74160" cy="1180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80" y="6353640"/>
              <a:ext cx="830880" cy="37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9960" y="6384600"/>
              <a:ext cx="550800" cy="343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640" y="6131520"/>
              <a:ext cx="141480" cy="110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080" y="6710760"/>
              <a:ext cx="79560" cy="102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440" y="6200280"/>
              <a:ext cx="202320" cy="351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5520" y="6184800"/>
              <a:ext cx="381600" cy="1594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8560" y="6279120"/>
              <a:ext cx="163440" cy="61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0" y="6093000"/>
              <a:ext cx="1179000" cy="715680"/>
              <a:chOff x="0" y="6093000"/>
              <a:chExt cx="1179000" cy="71568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518040" y="6158880"/>
                <a:ext cx="574560" cy="649800"/>
                <a:chOff x="518040" y="6158880"/>
                <a:chExt cx="574560" cy="649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518040" y="6181920"/>
                  <a:ext cx="164520" cy="79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61680" y="6686640"/>
                  <a:ext cx="120600" cy="12204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47600" y="6158880"/>
                  <a:ext cx="45000" cy="1072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74160" y="6315120"/>
                <a:ext cx="624240" cy="229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67480" y="6456240"/>
                <a:ext cx="255960" cy="135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7160" y="6267240"/>
                <a:ext cx="111960" cy="2181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0" y="6093000"/>
                <a:ext cx="1179000" cy="622080"/>
                <a:chOff x="0" y="6093000"/>
                <a:chExt cx="1179000" cy="6220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96600" y="6605280"/>
                  <a:ext cx="78480" cy="79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311160"/>
                  <a:ext cx="883440" cy="403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5840" y="6350040"/>
                  <a:ext cx="8388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65840" y="6093000"/>
                  <a:ext cx="337680" cy="545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1200" y="6239520"/>
                  <a:ext cx="100440" cy="231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8760" y="6221160"/>
                  <a:ext cx="204480" cy="12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85080" y="6136920"/>
                  <a:ext cx="493920" cy="194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47000" y="6199200"/>
                  <a:ext cx="256680" cy="788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179280" y="1413000"/>
            <a:ext cx="385920" cy="4308480"/>
            <a:chOff x="179280" y="1413000"/>
            <a:chExt cx="385920" cy="4308480"/>
          </a:xfrm>
        </p:grpSpPr>
        <p:sp>
          <p:nvSpPr>
            <p:cNvPr id="33" name=""/>
            <p:cNvSpPr/>
            <p:nvPr/>
          </p:nvSpPr>
          <p:spPr>
            <a:xfrm>
              <a:off x="239760" y="345600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79280" y="141300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7775640" y="219240"/>
            <a:ext cx="13683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335D-AFA1-4325-9126-4C2568F42C4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utils.abondance.com/google.html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outils.abondance.com/msn.html" TargetMode="External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riane6.com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tp://ftp.inria.fr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Navigation sur le Web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63680" y="257040"/>
            <a:ext cx="3821040" cy="3316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635280" y="2349360"/>
            <a:ext cx="5181840" cy="4067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971640" y="2492280"/>
            <a:ext cx="2448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4" idx="2"/>
            <a:endCxn id="195" idx="1"/>
          </p:cNvCxnSpPr>
          <p:nvPr/>
        </p:nvCxnSpPr>
        <p:spPr>
          <a:xfrm flipH="1" rot="16200000">
            <a:off x="2599200" y="3347640"/>
            <a:ext cx="810360" cy="12610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1329480" y="465300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util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63000" y="140652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util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ffacer mes tr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99" idx="1"/>
            <a:endCxn id="196" idx="7"/>
          </p:cNvCxnSpPr>
          <p:nvPr/>
        </p:nvCxnSpPr>
        <p:spPr>
          <a:xfrm flipH="1">
            <a:off x="3060720" y="1590480"/>
            <a:ext cx="1440360" cy="95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6877080" y="5084640"/>
            <a:ext cx="179856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95640" y="3789360"/>
            <a:ext cx="0" cy="934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789360"/>
            <a:ext cx="0" cy="934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3789360"/>
            <a:ext cx="0" cy="934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84720" y="3789360"/>
            <a:ext cx="0" cy="934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32720" y="3789360"/>
            <a:ext cx="0" cy="934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3789360"/>
            <a:ext cx="0" cy="934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88720" y="333360"/>
            <a:ext cx="23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Sur Firefox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Recherche d’Information sur le Web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usieurs sites de recher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yahoo.f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voila.f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dmoz.f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google.f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ariane6.f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metacrawler.co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Moteurs de recherch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000" y="1852560"/>
            <a:ext cx="366372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s indexent des p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tilisation des « robots » ou « spider »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herche par mots clef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" descr="Goog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5157720"/>
            <a:ext cx="1463760" cy="6066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MSN Searc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24000" y="5516640"/>
            <a:ext cx="1371600" cy="587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3780000" y="1700280"/>
            <a:ext cx="5184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Utilisation des moteur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5715000" cy="14256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5362920" cy="704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22920" y="2360520"/>
            <a:ext cx="215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Titre de la p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28195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5640" y="3505320"/>
            <a:ext cx="216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Résumé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- extrait textu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63040" y="495144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57320" y="5332320"/>
            <a:ext cx="21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Taille</a:t>
            </a: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 de la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01680" y="5637240"/>
            <a:ext cx="37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Bell MT"/>
              </a:rPr>
              <a:t>Copie</a:t>
            </a:r>
            <a:r>
              <a:rPr b="0" lang="fr-FR" sz="2000" spc="-1" strike="noStrike">
                <a:solidFill>
                  <a:srgbClr val="000000"/>
                </a:solidFill>
                <a:latin typeface="Bell MT"/>
              </a:rPr>
              <a:t> de la page chez 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32120" y="495144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Sites 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l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362320" y="35049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438280" y="441936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267080" y="449532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5867280" y="4572000"/>
            <a:ext cx="152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7162560" y="44956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echerche Avancé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0920" y="1228680"/>
            <a:ext cx="6769080" cy="5513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860400" y="2708280"/>
            <a:ext cx="10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2600" y="3645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73080" y="5013360"/>
            <a:ext cx="71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92360" y="3068640"/>
            <a:ext cx="576000" cy="93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4005360"/>
            <a:ext cx="86364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619280" y="4509720"/>
            <a:ext cx="57636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Opérateurs Goog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141444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ression ("")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mple : "dans la trace d'un guide«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ésultats : pages incluant l'expression entiè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T :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Documents contenant </a:t>
            </a:r>
            <a:r>
              <a:rPr b="1" lang="en-US" sz="2400" spc="-1" strike="noStrike">
                <a:solidFill>
                  <a:srgbClr val="703dff"/>
                </a:solidFill>
                <a:latin typeface="Tahoma"/>
              </a:rPr>
              <a:t>tous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 les mo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mple : Ours  Slovéni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ésultats : Les pages où il est question d’ours et de la Slovéni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U : 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Documents contenant </a:t>
            </a:r>
            <a:r>
              <a:rPr b="1" lang="en-US" sz="2400" spc="-1" strike="noStrike">
                <a:solidFill>
                  <a:srgbClr val="703dff"/>
                </a:solidFill>
                <a:latin typeface="Tahoma"/>
              </a:rPr>
              <a:t>au moins un</a:t>
            </a:r>
            <a:r>
              <a:rPr b="0" lang="en-US" sz="2400" spc="-1" strike="noStrike">
                <a:solidFill>
                  <a:srgbClr val="703dff"/>
                </a:solidFill>
                <a:latin typeface="Tahoma"/>
              </a:rPr>
              <a:t> des mo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mple : Ou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Slovéni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ésultats : Les pages où il est question d’ours, les pages où il est question de Slovénie, éventuellement celles qui parlent des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SAUF : </a:t>
            </a:r>
            <a:r>
              <a:rPr b="1" lang="fr-FR" sz="2400" spc="-1" strike="noStrike">
                <a:solidFill>
                  <a:srgbClr val="703dff"/>
                </a:solidFill>
                <a:latin typeface="Tahoma"/>
              </a:rPr>
              <a:t>Exclu</a:t>
            </a:r>
            <a:r>
              <a:rPr b="0" lang="fr-FR" sz="2400" spc="-1" strike="noStrike">
                <a:solidFill>
                  <a:srgbClr val="703dff"/>
                </a:solidFill>
                <a:latin typeface="Tahoma"/>
              </a:rPr>
              <a:t> certains documents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Exemple : Ours </a:t>
            </a:r>
            <a:r>
              <a:rPr b="1" i="1" lang="fr-FR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Pyrénées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Résultats : pages où il est question d’ours, à l'exception de celles qui parlent des Pyréné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ahoma"/>
              </a:rPr>
              <a:t>« Mot vide » (+)</a:t>
            </a:r>
            <a:br>
              <a:rPr sz="2600"/>
            </a:br>
            <a:r>
              <a:rPr b="0" i="1" lang="fr-FR" sz="2600" spc="-1" strike="noStrike">
                <a:solidFill>
                  <a:srgbClr val="000000"/>
                </a:solidFill>
                <a:latin typeface="Tahoma"/>
              </a:rPr>
              <a:t>Exemple : +la  bress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600" spc="-1" strike="noStrike">
                <a:solidFill>
                  <a:srgbClr val="000000"/>
                </a:solidFill>
                <a:latin typeface="Tahoma"/>
              </a:rPr>
              <a:t>Résultats : Uniquement les pages indexées avec les mots Bresse et "la"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ahoma"/>
              </a:rPr>
              <a:t>Requêtes composées</a:t>
            </a: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600" spc="-1" strike="noStrike">
                <a:solidFill>
                  <a:srgbClr val="000000"/>
                </a:solidFill>
                <a:latin typeface="Tahoma"/>
              </a:rPr>
              <a:t>Exemple : ours +slovenie –Pyréné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600" spc="-1" strike="noStrike">
                <a:solidFill>
                  <a:srgbClr val="000000"/>
                </a:solidFill>
                <a:latin typeface="Tahoma"/>
              </a:rPr>
              <a:t>Résultats : Document relatifs à l’ours, qui parlent de slovenie, mais qui ne concernent pas les Pyréné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Métamoteur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4537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hercher une expression simultanément  sur plusieurs moteu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de recherche avancé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ariane6.com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://www.metacrawler.com/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427640" y="1479600"/>
            <a:ext cx="439236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écupération d’informatio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nregistrer sous…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mages, Pages entiè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chier HTML sans les images, Texte seul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opier/Coll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ocuments non HTML (pdf, flash, real-audio, etc..)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plugin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, visionneuse, logici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Attention aux droits d’aute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Si on fait référence à une page, on donne l’URL et la dat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27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Visiter les sit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http://www.wikipedia.f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http://www.pcastuces.com/pratique/default.ht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ans l’URL</a:t>
            </a:r>
            <a:br>
              <a:rPr sz="28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http://www.pcastuces.com/pratique/default.htm, </a:t>
            </a:r>
            <a:br>
              <a:rPr sz="2400"/>
            </a:b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quelle partie indique le serveur, quelle parte indique la ressource Web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416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Web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aissance : début des années 90 au CERN (Suiss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’application la plus utilisée sur Inter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esponsable de la démocratisation de l’Inter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emier navigateur : Mosa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Navigateurs disponibles : Firefox, Internet Explorer, Netscape, Opera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avigation par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hypertexte, multiméd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rotocole :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 HTT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ur Google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chercher les sites qui parlent d’art nouveau a Nanc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chercher les sites qui parlent de l’école à Nancy, mais qui ne parlent pas d’architec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echerche les mêmes informations sur Ariane6. Comparer les réponses avec celles de Goog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écupérer une image, une page (avec les images), et juste le texte d’une pag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avoris (Signets)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rder une trace des adresses intéressa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ser en dossiers par thématiq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97720" y="4302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ur 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2869920" cy="3313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211640" y="2759040"/>
            <a:ext cx="4540320" cy="34704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204800" y="129384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vori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rganiser les favo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5280" y="2133720"/>
            <a:ext cx="165744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857480" y="40464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Sur Firef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892680" y="2525760"/>
            <a:ext cx="5000400" cy="41432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3381480" cy="3114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943440" y="1406520"/>
            <a:ext cx="46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rque-page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gérer les marque-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35280" y="1916280"/>
            <a:ext cx="151308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5560" y="1682640"/>
            <a:ext cx="6130800" cy="42674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ignets sur EN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84720" y="1844640"/>
            <a:ext cx="3059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 bureau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ign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ntage : disponibilit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modes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if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viga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2987640" y="3573360"/>
            <a:ext cx="792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71640" y="3284640"/>
            <a:ext cx="1368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5640" y="4365720"/>
            <a:ext cx="172872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ignets : Mode Modificat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79280" y="2533680"/>
            <a:ext cx="8425080" cy="25509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 flipH="1">
            <a:off x="1258920" y="2133720"/>
            <a:ext cx="792000" cy="143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916000" y="2276640"/>
            <a:ext cx="647640" cy="129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4292640"/>
            <a:ext cx="194472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40360" y="2276640"/>
            <a:ext cx="0" cy="129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33280" y="1628640"/>
            <a:ext cx="26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mporter les signet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E, Firefox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ignets : import / expor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E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ichier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importer et expor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irefox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arque-pages -&gt; gérer les marque-p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nsu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ichier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importer (ou export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ésultat (exporter) : page HTML contenant les liens vers les URL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mporter vos favoris dans l’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Hypertext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e page Web contient de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e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vers d'autres p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uctur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'hypertex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 liens créent une « toile » de docu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7416720" cy="9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Web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06560" y="1112760"/>
            <a:ext cx="6913440" cy="5629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661080" y="2276640"/>
            <a:ext cx="1366920" cy="122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31520" y="40464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érents média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xte, images, s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08360" y="3645000"/>
            <a:ext cx="273672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5" idx="2"/>
            <a:endCxn id="144" idx="0"/>
          </p:cNvCxnSpPr>
          <p:nvPr/>
        </p:nvCxnSpPr>
        <p:spPr>
          <a:xfrm>
            <a:off x="6462720" y="1046160"/>
            <a:ext cx="883440" cy="12182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stealth" w="lg"/>
          </a:ln>
        </p:spPr>
      </p:cxnSp>
      <p:cxnSp>
        <p:nvCxnSpPr>
          <p:cNvPr id="148" name=""/>
          <p:cNvCxnSpPr>
            <a:stCxn id="145" idx="2"/>
            <a:endCxn id="146" idx="0"/>
          </p:cNvCxnSpPr>
          <p:nvPr/>
        </p:nvCxnSpPr>
        <p:spPr>
          <a:xfrm flipH="1">
            <a:off x="5076360" y="1045800"/>
            <a:ext cx="1386720" cy="258660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149" name=""/>
          <p:cNvSpPr/>
          <p:nvPr/>
        </p:nvSpPr>
        <p:spPr>
          <a:xfrm>
            <a:off x="2411280" y="4653000"/>
            <a:ext cx="115272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6480" y="3860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yper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50" idx="2"/>
            <a:endCxn id="149" idx="2"/>
          </p:cNvCxnSpPr>
          <p:nvPr/>
        </p:nvCxnSpPr>
        <p:spPr>
          <a:xfrm>
            <a:off x="1273320" y="4227480"/>
            <a:ext cx="1126080" cy="6422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152" name=""/>
          <p:cNvSpPr/>
          <p:nvPr/>
        </p:nvSpPr>
        <p:spPr>
          <a:xfrm>
            <a:off x="3276720" y="1484280"/>
            <a:ext cx="309564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43520" y="62064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ress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1"/>
          </p:cNvCxnSpPr>
          <p:nvPr/>
        </p:nvCxnSpPr>
        <p:spPr>
          <a:xfrm>
            <a:off x="2168280" y="987480"/>
            <a:ext cx="1562760" cy="53676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155" name=""/>
          <p:cNvSpPr/>
          <p:nvPr/>
        </p:nvSpPr>
        <p:spPr>
          <a:xfrm>
            <a:off x="482400" y="2295360"/>
            <a:ext cx="149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vig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row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042920" y="1414080"/>
            <a:ext cx="792360" cy="934920"/>
          </a:xfrm>
          <a:prstGeom prst="line">
            <a:avLst/>
          </a:prstGeom>
          <a:ln w="381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41440" y="2998800"/>
            <a:ext cx="660240" cy="647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116000" y="3141720"/>
            <a:ext cx="6602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Modèle client/serveur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109520" y="3657600"/>
            <a:ext cx="576360" cy="706320"/>
          </a:xfrm>
          <a:prstGeom prst="flowChartMagneticDisk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933480" cy="1596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85280" y="44830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093080" y="3068640"/>
            <a:ext cx="1457280" cy="127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130880" y="4749840"/>
            <a:ext cx="191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avigate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203640" y="3068640"/>
            <a:ext cx="2952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9080" y="2560680"/>
            <a:ext cx="315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quê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ttp://serveur/pag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292560" y="4221000"/>
            <a:ext cx="2935080" cy="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33160" y="3718080"/>
            <a:ext cx="140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ag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dresse Web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27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Une adresse Web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URL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Comic Sans MS"/>
              </a:rPr>
              <a:t>Uniform Resource Locator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996120" y="3197160"/>
            <a:ext cx="78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http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://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www.iuta.univ-nancy2.f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fr-FR" sz="2800" spc="-1" strike="noStrike">
                <a:solidFill>
                  <a:srgbClr val="00b200"/>
                </a:solidFill>
                <a:latin typeface="Comic Sans MS"/>
              </a:rPr>
              <a:t>Diplome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46640" y="407664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toco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560" y="486900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« service 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91360" y="4005360"/>
            <a:ext cx="12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u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0328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3200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1164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27680" y="402912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ge (ressour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050920" y="4653000"/>
            <a:ext cx="3240000" cy="984240"/>
            <a:chOff x="2050920" y="4653000"/>
            <a:chExt cx="3240000" cy="984240"/>
          </a:xfrm>
        </p:grpSpPr>
        <p:sp>
          <p:nvSpPr>
            <p:cNvPr id="181" name=""/>
            <p:cNvSpPr/>
            <p:nvPr/>
          </p:nvSpPr>
          <p:spPr>
            <a:xfrm>
              <a:off x="2050920" y="4653000"/>
              <a:ext cx="360360" cy="93672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66920" y="4653000"/>
              <a:ext cx="30240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t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tp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 u="sng">
                  <a:solidFill>
                    <a:srgbClr val="00b200"/>
                  </a:solidFill>
                  <a:uFillTx/>
                  <a:latin typeface="Comic Sans MS"/>
                  <a:hlinkClick r:id="rId1"/>
                </a:rPr>
                <a:t>ftp://ftp.inria.fr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’information sur le Web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L’information est incontrôlé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’importe qui peut publier sur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s d’organisme de contrôle, multiplicité des législ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L’information est abonda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s centaines de millions (milliard ?) de p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L’information évolue tous les jou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e  référence sur Internet n’est pas une garanti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s de garantie de pérennité, pas d ’intégrité référentielle (« 404 not found »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L’information est glob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ternet ne connaît pas les frontières physiq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Navigateur: confidentialité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apidité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copie sur le disque (pages et image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a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rgonomi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sauvegarde de l’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histor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niers électroniques, authentifications…: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ook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ème de confidentialité : le navigateur garde l’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Solution: vider le cache, effacer historique et cook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16000" y="1146240"/>
            <a:ext cx="6337440" cy="5451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059280" y="3860640"/>
            <a:ext cx="136836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35640" y="4797360"/>
            <a:ext cx="136836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27280" y="1268280"/>
            <a:ext cx="136836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43720" y="541440"/>
            <a:ext cx="29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util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options int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492360" y="907560"/>
            <a:ext cx="28764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1560" y="317520"/>
            <a:ext cx="15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ur IE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2:56:24Z</dcterms:created>
  <dc:creator>Manuele Kirsch Pinheiro</dc:creator>
  <dc:description/>
  <dc:language>en-US</dc:language>
  <cp:lastModifiedBy>Manuele Kirsch Pinheiro</cp:lastModifiedBy>
  <dcterms:modified xsi:type="dcterms:W3CDTF">2006-09-26T07:42:43Z</dcterms:modified>
  <cp:revision>11</cp:revision>
  <dc:subject/>
  <dc:title>Navigation sur le Web</dc:title>
</cp:coreProperties>
</file>