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875-48EC-45F2-BC6B-4ABB8013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5A8-1857-4805-BA90-97670E31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EE9-6CF8-4EAC-ABCC-4BE085BA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4A-F9CB-48DE-8F81-CB647ED1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D78-41CE-4E6D-8AB3-C80FC032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7E1-4557-4102-BD72-807BA37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086-1B97-42AF-AEB0-64C1579F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CF2C-88A6-4F50-8657-0E424BC6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A331-7177-43E2-9836-50578C6C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125B-2825-46A4-92B4-A9066AD9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FD9-EBD6-48BD-8961-BC6DF657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330-702E-41F3-89E8-31713C2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612B-9566-4164-8E14-BBA2976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38C1-F95A-48D4-9E2F-3149D00A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FC2-C773-4CA3-B224-F1C4579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3F50-28BB-401D-9429-9BECD2D1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E2C2-C21E-4B88-A37D-A4EDA996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E40-D4C5-418E-8857-EC27A45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047-6190-4D94-B0A6-54536CA3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1DE-1A1C-4BE7-8FF4-5F4CCA08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DA7-2F14-4470-8CB9-69C4D46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FDD-EF3E-4294-BD19-1660423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3DD-5254-4DC2-9104-0540255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219-65AB-4B84-9A01-0FF5774B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55B1-D6BB-44C9-87B6-B1CF181B64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B533-DC21-488E-A4DE-D3C136B41A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ableur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ce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acilités d’édi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éle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plusieurs cell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ur sélectionner un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zone rectangul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ec le bouton gauche de la souris toujours appuyé, passer sur la zone à sélectio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ur sélectionner plusieur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ellules non contiguë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maintenant la touche « control » enfoncée, cliquer sur les cellules vou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éplac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 contenu d’une/de cellule(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électionner la/les cellule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ec le bouton gauche enfoncé, emmener le cadre gras de sélection de la cellule vers la cellule de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acilités d’édi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pie incrémen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tile pour générer de longues séries de valeurs (1, 2, 3, …, janvier, février, mars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fair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buter la série (sur une ligne ou sur une colon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quer sur la dernière cell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rer sur le carré noir pour allonger la ligne ou la colon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faudra appuyer ou non sur la touche « control » selon que l’on veut une copie simple (1, 1, 1, 1…) ou incrémentale (1, 2, 3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0920" y="4292640"/>
          <a:ext cx="159696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92640"/>
                    <a:ext cx="1596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476360" y="5373720"/>
            <a:ext cx="287280" cy="288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rier les donné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2520" y="1828800"/>
            <a:ext cx="41734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est possible de trier les lignes selon le contenu des colon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électionner une cellule (ou une plage des cellules) à tr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nu Donné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seigner les colonnes de tri (1, 2, 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005440" y="1844640"/>
          <a:ext cx="388764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5440" y="1844640"/>
                    <a:ext cx="388764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pression de grands tabl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84720" y="1828800"/>
            <a:ext cx="2735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se en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5160" y="1484280"/>
            <a:ext cx="62355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’aide des facilités d’édition données, créer un classeur comme celui-ci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auvegarder l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lasseur que vou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z créé dan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 fichier nommé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données.xl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94320" y="2535120"/>
            <a:ext cx="4225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uvrir le fichier </a:t>
            </a: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P:\Kirsch\FichiersTest\EU-population-1erJan.xl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pier, vers une </a:t>
            </a: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autre feuil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u classeur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données.xl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», les données de population relatives à l’Europe (15 et 25) et ceux des pays suivants pour les années 1985 à 2005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ance (fr), Belgique (be), Allemagne (de), Luxembourg (lu), Italie (it), Espagne (es), Angleterre (uk) et Suisse (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mmer la nouvelle feuille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ans la feuille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opula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», enlever toutes les occurrences de l’expression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jan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jours dans la feuille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», remplacer toutes les occurrences du caractère </a:t>
            </a:r>
            <a:r>
              <a:rPr b="1" lang="fr-FR" sz="2000" spc="-1" strike="noStrike">
                <a:solidFill>
                  <a:srgbClr val="703dff"/>
                </a:solidFill>
                <a:latin typeface="Comic Sans MS"/>
              </a:rPr>
              <a:t>« . »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ar le caractère </a:t>
            </a:r>
            <a:r>
              <a:rPr b="1" lang="fr-FR" sz="2000" spc="-1" strike="noStrike">
                <a:solidFill>
                  <a:srgbClr val="703dff"/>
                </a:solidFill>
                <a:latin typeface="Comic Sans MS"/>
              </a:rPr>
              <a:t>« , 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nger le format des cellules dans la feuille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» pour que les cellules contenant les données soient présentées dans le format «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nomb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» (« 1234,10 »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7416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aison entre cellu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489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contenu d’une cellule peut être lié à celui d’une au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 : si B7 est liée à A1, et si on change le contenu de A1, celui de B7 est modifié automatiqu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érence entre l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fair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pier/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oller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avec lia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Edition </a:t>
            </a:r>
            <a:r>
              <a:rPr b="0" lang="en-US" sz="20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Collage spéc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isir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"Coller avec liaison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arquez le contenu de l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lule destinatrice d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 collage 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ellule B7 conti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$A$1 (référence à l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e A1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664160" y="2924280"/>
            <a:ext cx="4444920" cy="38988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16360" y="6237360"/>
            <a:ext cx="144000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u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 contenu d’une cellule peut être le résultat d’un calcul incluant le contenu d’autre(s) cellule(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utilise le «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cellules opérandes sont indiquées par leur adres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ul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79640" y="2806560"/>
            <a:ext cx="5164200" cy="2179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50920" y="2878200"/>
            <a:ext cx="1800360" cy="36036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 rot="16200000">
            <a:off x="2112120" y="2001600"/>
            <a:ext cx="513360" cy="1164600"/>
          </a:xfrm>
          <a:prstGeom prst="bentConnector3">
            <a:avLst>
              <a:gd name="adj1" fmla="val 53543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63320" y="18702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m de l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878200"/>
            <a:ext cx="2519640" cy="43164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8" idx="2"/>
            <a:endCxn id="216" idx="0"/>
          </p:cNvCxnSpPr>
          <p:nvPr/>
        </p:nvCxnSpPr>
        <p:spPr>
          <a:xfrm rot="5400000">
            <a:off x="5708880" y="2569320"/>
            <a:ext cx="538920" cy="3600"/>
          </a:xfrm>
          <a:prstGeom prst="bentConnector3">
            <a:avLst>
              <a:gd name="adj1" fmla="val 53342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410000" y="184464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e de l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246560"/>
            <a:ext cx="1511280" cy="360360"/>
          </a:xfrm>
          <a:prstGeom prst="rect">
            <a:avLst/>
          </a:prstGeom>
          <a:noFill/>
          <a:ln w="7632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21" idx="0"/>
            <a:endCxn id="219" idx="2"/>
          </p:cNvCxnSpPr>
          <p:nvPr/>
        </p:nvCxnSpPr>
        <p:spPr>
          <a:xfrm flipV="1" rot="16200000">
            <a:off x="3237120" y="4718160"/>
            <a:ext cx="585000" cy="437040"/>
          </a:xfrm>
          <a:prstGeom prst="bentConnector3">
            <a:avLst>
              <a:gd name="adj1" fmla="val 53201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1194480" y="5229360"/>
            <a:ext cx="51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ésultat / évaluation de la form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yntaxe d’une formu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03280" y="4481640"/>
            <a:ext cx="6337440" cy="1395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56000" y="4653000"/>
            <a:ext cx="720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6" idx="2"/>
            <a:endCxn id="224" idx="0"/>
          </p:cNvCxnSpPr>
          <p:nvPr/>
        </p:nvCxnSpPr>
        <p:spPr>
          <a:xfrm flipH="1" rot="16200000">
            <a:off x="1817640" y="3515760"/>
            <a:ext cx="1618200" cy="580320"/>
          </a:xfrm>
          <a:prstGeom prst="bentConnector3">
            <a:avLst>
              <a:gd name="adj1" fmla="val 51112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579240" y="254016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éférences aux cell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8080" y="184464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Tahoma"/>
              </a:rPr>
              <a:t>Opérandes (données à tra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4000" y="4653000"/>
            <a:ext cx="64764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30" idx="2"/>
            <a:endCxn id="228" idx="0"/>
          </p:cNvCxnSpPr>
          <p:nvPr/>
        </p:nvCxnSpPr>
        <p:spPr>
          <a:xfrm rot="5400000">
            <a:off x="3736080" y="3749400"/>
            <a:ext cx="1016640" cy="715320"/>
          </a:xfrm>
          <a:prstGeom prst="bentConnector3">
            <a:avLst>
              <a:gd name="adj1" fmla="val 51859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706560" y="31417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4653000"/>
            <a:ext cx="129564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33" idx="2"/>
            <a:endCxn id="231" idx="0"/>
          </p:cNvCxnSpPr>
          <p:nvPr/>
        </p:nvCxnSpPr>
        <p:spPr>
          <a:xfrm rot="5400000">
            <a:off x="6148800" y="3651840"/>
            <a:ext cx="1546920" cy="380160"/>
          </a:xfrm>
          <a:prstGeom prst="bentConnector3">
            <a:avLst>
              <a:gd name="adj1" fmla="val 51210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979960" y="26114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ges cell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tilité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stion d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onnées numériq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s forme de tablea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 par extension :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onnées textuel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horair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at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aison entre l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Calcu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utomatique de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ésulta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 fonction de donné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se à jour automatique à chaque changement des données de b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mbreuses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onctions mathématiq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atistiqu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echerc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r l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ésentation des données numériques sous form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graphiq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yntaxe d’une formu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4481640"/>
            <a:ext cx="6337440" cy="1395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132000" y="4653000"/>
            <a:ext cx="576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2"/>
            <a:endCxn id="236" idx="0"/>
          </p:cNvCxnSpPr>
          <p:nvPr/>
        </p:nvCxnSpPr>
        <p:spPr>
          <a:xfrm flipH="1" rot="16200000">
            <a:off x="2089800" y="3284280"/>
            <a:ext cx="1618200" cy="1043640"/>
          </a:xfrm>
          <a:prstGeom prst="bentConnector3">
            <a:avLst>
              <a:gd name="adj1" fmla="val 51112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803520" y="25401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érateur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46720" y="1844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Tahoma"/>
              </a:rPr>
              <a:t>Opérateurs (instr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7640" y="4653000"/>
            <a:ext cx="1800000" cy="720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2" idx="2"/>
            <a:endCxn id="240" idx="0"/>
          </p:cNvCxnSpPr>
          <p:nvPr/>
        </p:nvCxnSpPr>
        <p:spPr>
          <a:xfrm rot="5400000">
            <a:off x="5047560" y="3373560"/>
            <a:ext cx="1521360" cy="962640"/>
          </a:xfrm>
          <a:prstGeom prst="bentConnector3">
            <a:avLst>
              <a:gd name="adj1" fmla="val 51242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5505120" y="263700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éra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hmétiques 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Addition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4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3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B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oustraction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1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u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4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B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ultiplication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4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u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5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B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sion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0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u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/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B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^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uissance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^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3 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(2x2x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comparaison :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férieu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Supérieur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lt;=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=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Inférieur ou éga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Supérieur ou é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lt;&gt;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Éga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Différent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(non ég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Exempl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3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éra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 texte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amp;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Concaté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3097080" cy="2462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50594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nctions « prêtes à l’emploi »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19162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Synt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716280"/>
            <a:ext cx="47242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ALEA(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ABS(A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NB.SI(A3:A6;"pomme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GAUCHE("formule";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429264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Do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49840" y="1557360"/>
            <a:ext cx="5184360" cy="2087640"/>
            <a:chOff x="2949840" y="1557360"/>
            <a:chExt cx="5184360" cy="20876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276720" y="2565360"/>
              <a:ext cx="48574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949840" y="1905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igne « </a:t>
              </a:r>
              <a:r>
                <a:rPr b="1" lang="en-US" sz="2400" spc="-1" strike="noStrike">
                  <a:solidFill>
                    <a:srgbClr val="00b200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1480" y="155736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m de la fo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84200" y="1982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rgumen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3850920" y="2349360"/>
              <a:ext cx="289080" cy="50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932360" y="1915920"/>
              <a:ext cx="0" cy="93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6310800" y="1640520"/>
              <a:ext cx="409680" cy="1871640"/>
            </a:xfrm>
            <a:custGeom>
              <a:avLst/>
              <a:gdLst>
                <a:gd name="textAreaLeft" fmla="*/ 0 w 409680"/>
                <a:gd name="textAreaRight" fmla="*/ 147960 w 409680"/>
                <a:gd name="textAreaTop" fmla="*/ 48600 h 1871640"/>
                <a:gd name="textAreaBottom" fmla="*/ 182304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8"/>
                  </a:lnTo>
                  <a:cubicBezTo>
                    <a:pt x="10800" y="9908"/>
                    <a:pt x="16200" y="10808"/>
                    <a:pt x="21600" y="10808"/>
                  </a:cubicBezTo>
                  <a:cubicBezTo>
                    <a:pt x="16200" y="10808"/>
                    <a:pt x="10800" y="11708"/>
                    <a:pt x="10800" y="1260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053600" y="2781360"/>
            <a:ext cx="2860560" cy="1539000"/>
            <a:chOff x="4053600" y="2781360"/>
            <a:chExt cx="2860560" cy="1539000"/>
          </a:xfrm>
        </p:grpSpPr>
        <p:sp>
          <p:nvSpPr>
            <p:cNvPr id="262" name=""/>
            <p:cNvSpPr/>
            <p:nvPr/>
          </p:nvSpPr>
          <p:spPr>
            <a:xfrm>
              <a:off x="4053600" y="3860640"/>
              <a:ext cx="146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enthè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46160" y="386064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igne «</a:t>
              </a:r>
              <a:r>
                <a:rPr b="0" lang="en-US" sz="2400" spc="-1" strike="noStrike">
                  <a:solidFill>
                    <a:srgbClr val="00b200"/>
                  </a:solidFill>
                  <a:latin typeface="Comic Sans MS"/>
                </a:rPr>
                <a:t> ;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64000" y="2781360"/>
              <a:ext cx="360360" cy="503280"/>
            </a:xfrm>
            <a:prstGeom prst="ellipse">
              <a:avLst/>
            </a:prstGeom>
            <a:noFill/>
            <a:ln w="284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280" y="2781360"/>
              <a:ext cx="360360" cy="503280"/>
            </a:xfrm>
            <a:prstGeom prst="ellipse">
              <a:avLst/>
            </a:prstGeom>
            <a:noFill/>
            <a:ln w="2844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0"/>
              <a:endCxn id="264" idx="3"/>
            </p:cNvCxnSpPr>
            <p:nvPr/>
          </p:nvCxnSpPr>
          <p:spPr>
            <a:xfrm flipV="1">
              <a:off x="4785840" y="3225240"/>
              <a:ext cx="631080" cy="635400"/>
            </a:xfrm>
            <a:prstGeom prst="straightConnector1">
              <a:avLst/>
            </a:prstGeom>
            <a:ln w="38160">
              <a:solidFill>
                <a:srgbClr val="00b2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3" idx="0"/>
              <a:endCxn id="265" idx="4"/>
            </p:cNvCxnSpPr>
            <p:nvPr/>
          </p:nvCxnSpPr>
          <p:spPr>
            <a:xfrm flipH="1" flipV="1">
              <a:off x="6047640" y="3297960"/>
              <a:ext cx="183240" cy="562680"/>
            </a:xfrm>
            <a:prstGeom prst="straightConnector1">
              <a:avLst/>
            </a:prstGeom>
            <a:ln w="38160">
              <a:solidFill>
                <a:srgbClr val="00b2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nsertion des formul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positionner sur la cellu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er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uivi de l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u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ans la zone de formule et vali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514600" y="3581280"/>
          <a:ext cx="41911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581280"/>
                    <a:ext cx="41911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a palette de formu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1905120"/>
          <a:ext cx="78487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8487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erreurs de calcu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2104560"/>
            <a:ext cx="8610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#####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trer une date sous forme de XX mois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XXXX et réduire la largeur de la colonne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#DIV/0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viser une valeur par la valeur d’une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llule vide (ou par 0)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#NOM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ire Somme(&lt;référence d’une cellule&gt;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xxxx)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#NOMBR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ire 1000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1000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! (dépassement de capacit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Comic Sans MS"/>
              </a:rPr>
              <a:t>#VALE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sayer de calculer la valeur absolue d’un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rgument de type texte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nctions conditionnel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55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ction 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SI(test ; valeur_si_vrai ; valeur_si_faux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79930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23560"/>
            <a:ext cx="741672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vrir le classeur «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données.xl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». Calculer les moyennes des étudia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ans la feuille «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popula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» du même classeur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lculer la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moyenn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a population des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pays voisin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la France pour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chaque année de 2000 à 2005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lculer la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moyenne globa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a population des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tous les pays voisin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la France pour les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cinq dernières anné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érifier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population de la France est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supérieure ou inférieur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la moyenne des pays voisi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érifier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a population de la France est supérieure ou inférieure à la moyenne de l’Europe des 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ouver la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popula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plus importante (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maxima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parmi les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voisin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a Fr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ructure d’un document de table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tableur produit des class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classeur contient d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feuil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feuille est un tableau de cases, e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lign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e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lon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case s’appelle un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ell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lage de cellul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st un ensemble de cell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 terme de fichier, plusieurs format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xls pour MS Exc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ods pour OpenOffice Cal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n document vide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0960" y="1473120"/>
            <a:ext cx="7097760" cy="5124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44720" y="198900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e feui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27280" y="2492280"/>
            <a:ext cx="1295640" cy="8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3284640"/>
            <a:ext cx="1008000" cy="360360"/>
          </a:xfrm>
          <a:prstGeom prst="rect">
            <a:avLst/>
          </a:pr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2840" y="2781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e cellule (</a:t>
            </a: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C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3429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e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971640" y="2852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7" idx="2"/>
            <a:endCxn id="146" idx="3"/>
          </p:cNvCxnSpPr>
          <p:nvPr/>
        </p:nvCxnSpPr>
        <p:spPr>
          <a:xfrm flipH="1">
            <a:off x="3150720" y="3147840"/>
            <a:ext cx="1053360" cy="317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3851280" y="3860640"/>
            <a:ext cx="1728720" cy="936720"/>
          </a:xfrm>
          <a:prstGeom prst="rect">
            <a:avLst/>
          </a:prstGeom>
          <a:noFill/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42480" y="5013360"/>
            <a:ext cx="343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ge de cellules (de E8 à F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 la not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E8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F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1"/>
            <a:endCxn id="151" idx="2"/>
          </p:cNvCxnSpPr>
          <p:nvPr/>
        </p:nvCxnSpPr>
        <p:spPr>
          <a:xfrm flipH="1" flipV="1">
            <a:off x="4716000" y="4816080"/>
            <a:ext cx="720000" cy="564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54" name=""/>
          <p:cNvGrpSpPr/>
          <p:nvPr/>
        </p:nvGrpSpPr>
        <p:grpSpPr>
          <a:xfrm>
            <a:off x="611280" y="4149720"/>
            <a:ext cx="3187440" cy="2231640"/>
            <a:chOff x="611280" y="4149720"/>
            <a:chExt cx="3187440" cy="2231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611280" y="5365440"/>
              <a:ext cx="3187440" cy="10159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156" name=""/>
            <p:cNvSpPr/>
            <p:nvPr/>
          </p:nvSpPr>
          <p:spPr>
            <a:xfrm>
              <a:off x="684360" y="414972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 classeur peut contenir plusieurs feuil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6" idx="2"/>
              <a:endCxn id="155" idx="0"/>
            </p:cNvCxnSpPr>
            <p:nvPr/>
          </p:nvCxnSpPr>
          <p:spPr>
            <a:xfrm>
              <a:off x="2197080" y="4790520"/>
              <a:ext cx="8640" cy="5749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tenu d’une cellu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12840" y="4383000"/>
            <a:ext cx="4546800" cy="142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340080" cy="1066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00360" y="2060640"/>
            <a:ext cx="1584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060640"/>
            <a:ext cx="158400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56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resse de l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314172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nu de l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9760" y="4456080"/>
            <a:ext cx="1584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13200" y="4456080"/>
            <a:ext cx="1584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24720" y="299736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ltat visible du contenu de l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3" idx="3"/>
            <a:endCxn id="161" idx="3"/>
          </p:cNvCxnSpPr>
          <p:nvPr/>
        </p:nvCxnSpPr>
        <p:spPr>
          <a:xfrm flipV="1">
            <a:off x="2413080" y="2382120"/>
            <a:ext cx="519840" cy="594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3"/>
            <a:endCxn id="165" idx="0"/>
          </p:cNvCxnSpPr>
          <p:nvPr/>
        </p:nvCxnSpPr>
        <p:spPr>
          <a:xfrm>
            <a:off x="2413080" y="2976480"/>
            <a:ext cx="419760" cy="14659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4" idx="0"/>
            <a:endCxn id="162" idx="3"/>
          </p:cNvCxnSpPr>
          <p:nvPr/>
        </p:nvCxnSpPr>
        <p:spPr>
          <a:xfrm flipV="1">
            <a:off x="4176360" y="2382480"/>
            <a:ext cx="556200" cy="759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4" idx="2"/>
            <a:endCxn id="166" idx="0"/>
          </p:cNvCxnSpPr>
          <p:nvPr/>
        </p:nvCxnSpPr>
        <p:spPr>
          <a:xfrm>
            <a:off x="4176720" y="3963600"/>
            <a:ext cx="529200" cy="478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 flipH="1" flipV="1">
            <a:off x="5795640" y="2923920"/>
            <a:ext cx="863640" cy="71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43640" y="3645000"/>
            <a:ext cx="21600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onner un conten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5556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quer sur la cellule vou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er le cont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i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per sur entr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ule sélectionnée suivante = celle du b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 cliquer sur une autre cell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ule sélectionnée suivante = celle du c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 utiliser une touche flè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ule sélectionnée suivante = dépend de la flè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348000" y="1571760"/>
            <a:ext cx="5619960" cy="4216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se en forme des cellu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377172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u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mat </a:t>
            </a:r>
            <a:r>
              <a:rPr b="0" lang="en-US" sz="2800" spc="-1" strike="noStrike">
                <a:solidFill>
                  <a:srgbClr val="703d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Cell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quée à la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ellule ac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u aux cellules activ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se en forme des cellu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04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sibilit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Nomb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 Permet d’indiquer la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nature du conten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nombre, date, texte…). Le format dépend de la nature du conten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Alignement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uche, droite, mais aussi alignement vertical (haut, bas, centré..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ol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 Comme dans 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Bord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 Apparition ou non des bords de la cellule (par définition, elles sont invisible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Moti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 Arrière plan de la cell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ro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: Permet d’éviter de modifier/effacer le contenu d’une cellule par inadvert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ise en forme de lignes et de colonn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7280" y="1828800"/>
            <a:ext cx="2737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la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auteu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ig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Forma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igne) et la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argeu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lonne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Forma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lon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265800" cy="2548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4920" y="3989520"/>
            <a:ext cx="6337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8:43:10Z</dcterms:created>
  <dc:creator>angelo</dc:creator>
  <dc:description/>
  <dc:language>en-US</dc:language>
  <cp:lastModifiedBy>angelo</cp:lastModifiedBy>
  <dcterms:modified xsi:type="dcterms:W3CDTF">2006-10-14T22:08:00Z</dcterms:modified>
  <cp:revision>34</cp:revision>
  <dc:subject/>
  <dc:title>Tableur Excel</dc:title>
</cp:coreProperties>
</file>