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7DE2-2A53-4EAA-910A-ACD8961E4B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’est dans ce dossier que tous les nouveaux styles utilisateurs seront stock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.dot, c’est un .doc dans lequel l’information importante est composée des styles (et non du contenu du document). Le .dot peut être utilisé comme fichier d’exemple du sty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commentaire peut être ajouté à l’endroit courant dans le texte (c’est-à-dire, à la place du curseur), en utilisant la commande « Commentaire » dans le menu inse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 référer à la future activité : appliquer différents styles à un même document : séparation du contenu et du look and f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302D-148D-434D-863F-746A49121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ACBD-899F-41DB-9715-102AEE6A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FB32-36DD-4D2E-A8E8-FCAAF6B95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D17B-2E61-493C-9DAB-A813CA2AD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1BDE-E172-471D-BB9B-95BB4511E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C74D-C6F9-4039-9850-CD6ACECA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ADFF-351E-456E-9E24-0E92F4C0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8316-EFE4-4D56-AFA5-DD5EB792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ABFA-3C50-428D-B2B3-DD383EF6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24000" y="223560"/>
            <a:ext cx="7416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B214-452F-45AC-82FA-D35E4865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D25D-3DBB-4BA3-A318-78ED6C9D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5AD3-FECC-4E04-B61D-A41CFD9F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F0E0-9699-411A-BEF9-089B3260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B39B-D046-4398-A71E-984EF63E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7D02-8F8E-4363-8C00-40893FBB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4B8F-7FF2-4570-863A-2716DDD4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3B88-B210-4138-A537-9607C6760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133E-C2D6-4F5A-BB93-DDEC774C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0737-0F8C-4B67-BBDB-6F0704D9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5512-F9AC-40ED-94EB-F5410579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24000" y="223560"/>
            <a:ext cx="7416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EDC7-FC10-4BD1-82CE-1A891D96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1A32-7A07-4125-BD67-1553CB18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C5EB-5877-4EA0-8439-61F07FBA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5E90-1D21-45D2-998B-0B5AD039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86920" y="6248520"/>
            <a:ext cx="230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ureautiq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48000" y="6237360"/>
            <a:ext cx="32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Manuele.Kirsch-Pinheiro@univ-nancy2.f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EC60-2E4E-4D9F-8B43-34EECA1D8BF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093000"/>
            <a:ext cx="1179000" cy="720360"/>
            <a:chOff x="0" y="6093000"/>
            <a:chExt cx="1179000" cy="720360"/>
          </a:xfrm>
        </p:grpSpPr>
        <p:sp>
          <p:nvSpPr>
            <p:cNvPr id="6" name=""/>
            <p:cNvSpPr/>
            <p:nvPr/>
          </p:nvSpPr>
          <p:spPr>
            <a:xfrm>
              <a:off x="19800" y="6106680"/>
              <a:ext cx="1142280" cy="59580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067040" y="6177240"/>
              <a:ext cx="74160" cy="1180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5480" y="6353640"/>
              <a:ext cx="830880" cy="3762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9960" y="6384600"/>
              <a:ext cx="550800" cy="343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03640" y="6131520"/>
              <a:ext cx="141480" cy="110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67080" y="6710760"/>
              <a:ext cx="79560" cy="10260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440" y="6200280"/>
              <a:ext cx="202320" cy="35136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95520" y="6184800"/>
              <a:ext cx="381600" cy="15948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58560" y="6279120"/>
              <a:ext cx="163440" cy="61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"/>
            <p:cNvGrpSpPr/>
            <p:nvPr/>
          </p:nvGrpSpPr>
          <p:grpSpPr>
            <a:xfrm>
              <a:off x="0" y="6093000"/>
              <a:ext cx="1179000" cy="715680"/>
              <a:chOff x="0" y="6093000"/>
              <a:chExt cx="1179000" cy="715680"/>
            </a:xfrm>
          </p:grpSpPr>
          <p:grpSp>
            <p:nvGrpSpPr>
              <p:cNvPr id="16" name=""/>
              <p:cNvGrpSpPr/>
              <p:nvPr/>
            </p:nvGrpSpPr>
            <p:grpSpPr>
              <a:xfrm>
                <a:off x="518040" y="6158880"/>
                <a:ext cx="574560" cy="649800"/>
                <a:chOff x="518040" y="6158880"/>
                <a:chExt cx="574560" cy="64980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518040" y="6181920"/>
                  <a:ext cx="164520" cy="7956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61680" y="6686640"/>
                  <a:ext cx="120600" cy="12204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1047600" y="6158880"/>
                  <a:ext cx="45000" cy="10728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74160" y="6315120"/>
                <a:ext cx="624240" cy="2293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67480" y="6456240"/>
                <a:ext cx="255960" cy="135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87160" y="6267240"/>
                <a:ext cx="111960" cy="21816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" name=""/>
              <p:cNvGrpSpPr/>
              <p:nvPr/>
            </p:nvGrpSpPr>
            <p:grpSpPr>
              <a:xfrm>
                <a:off x="0" y="6093000"/>
                <a:ext cx="1179000" cy="622080"/>
                <a:chOff x="0" y="6093000"/>
                <a:chExt cx="1179000" cy="622080"/>
              </a:xfrm>
            </p:grpSpPr>
            <p:sp>
              <p:nvSpPr>
                <p:cNvPr id="24" name=""/>
                <p:cNvSpPr/>
                <p:nvPr/>
              </p:nvSpPr>
              <p:spPr>
                <a:xfrm>
                  <a:off x="696600" y="6605280"/>
                  <a:ext cx="78480" cy="7956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0" y="6311160"/>
                  <a:ext cx="883440" cy="4039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105840" y="6350040"/>
                  <a:ext cx="83880" cy="1530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465840" y="6093000"/>
                  <a:ext cx="337680" cy="5450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01200" y="6239520"/>
                  <a:ext cx="100440" cy="23148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338760" y="6221160"/>
                  <a:ext cx="204480" cy="1238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685080" y="6136920"/>
                  <a:ext cx="493920" cy="1944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47000" y="6199200"/>
                  <a:ext cx="256680" cy="788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" name=""/>
          <p:cNvGrpSpPr/>
          <p:nvPr/>
        </p:nvGrpSpPr>
        <p:grpSpPr>
          <a:xfrm>
            <a:off x="179280" y="1413000"/>
            <a:ext cx="385920" cy="4308480"/>
            <a:chOff x="179280" y="1413000"/>
            <a:chExt cx="385920" cy="4308480"/>
          </a:xfrm>
        </p:grpSpPr>
        <p:sp>
          <p:nvSpPr>
            <p:cNvPr id="33" name=""/>
            <p:cNvSpPr/>
            <p:nvPr/>
          </p:nvSpPr>
          <p:spPr>
            <a:xfrm>
              <a:off x="239760" y="345600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79280" y="141300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" name="" descr=""/>
          <p:cNvPicPr/>
          <p:nvPr/>
        </p:nvPicPr>
        <p:blipFill>
          <a:blip r:embed="rId2"/>
          <a:stretch/>
        </p:blipFill>
        <p:spPr>
          <a:xfrm>
            <a:off x="7775640" y="219240"/>
            <a:ext cx="136836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7381-C4B3-48AA-B28D-51FE7B7B724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8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oncepts avancés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ssocier un modèl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195640" y="2565360"/>
            <a:ext cx="6438600" cy="36576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761400" y="1844640"/>
            <a:ext cx="2787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rial"/>
              </a:rPr>
              <a:t>Fichier </a:t>
            </a:r>
            <a:r>
              <a:rPr b="0" lang="en-US" sz="2400" spc="-1" strike="noStrike">
                <a:solidFill>
                  <a:srgbClr val="703d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703dff"/>
                </a:solidFill>
                <a:latin typeface="Arial"/>
              </a:rPr>
              <a:t> Nouv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7416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Configurer le dossier par défaut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736720" y="1905120"/>
            <a:ext cx="5867640" cy="4343400"/>
          </a:xfrm>
          <a:prstGeom prst="rect">
            <a:avLst/>
          </a:prstGeom>
          <a:ln w="0">
            <a:noFill/>
          </a:ln>
        </p:spPr>
      </p:pic>
      <p:grpSp>
        <p:nvGrpSpPr>
          <p:cNvPr id="204" name=""/>
          <p:cNvGrpSpPr/>
          <p:nvPr/>
        </p:nvGrpSpPr>
        <p:grpSpPr>
          <a:xfrm>
            <a:off x="351360" y="2492280"/>
            <a:ext cx="4291920" cy="1657440"/>
            <a:chOff x="351360" y="2492280"/>
            <a:chExt cx="4291920" cy="1657440"/>
          </a:xfrm>
        </p:grpSpPr>
        <p:sp>
          <p:nvSpPr>
            <p:cNvPr id="205" name=""/>
            <p:cNvSpPr/>
            <p:nvPr/>
          </p:nvSpPr>
          <p:spPr>
            <a:xfrm>
              <a:off x="2738520" y="3768840"/>
              <a:ext cx="19047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"/>
            <p:cNvCxnSpPr>
              <a:stCxn id="207" idx="2"/>
              <a:endCxn id="205" idx="2"/>
            </p:cNvCxnSpPr>
            <p:nvPr/>
          </p:nvCxnSpPr>
          <p:spPr>
            <a:xfrm flipH="1" rot="16200000">
              <a:off x="1636560" y="2872440"/>
              <a:ext cx="967680" cy="1207080"/>
            </a:xfrm>
            <a:prstGeom prst="bentConnector2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07" name=""/>
            <p:cNvSpPr/>
            <p:nvPr/>
          </p:nvSpPr>
          <p:spPr>
            <a:xfrm>
              <a:off x="351360" y="2492280"/>
              <a:ext cx="233100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03dff"/>
                  </a:solidFill>
                  <a:latin typeface="Arial"/>
                </a:rPr>
                <a:t>(1) Sélectionn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7020000" y="5805360"/>
            <a:ext cx="143964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210" idx="2"/>
            <a:endCxn id="208" idx="2"/>
          </p:cNvCxnSpPr>
          <p:nvPr/>
        </p:nvCxnSpPr>
        <p:spPr>
          <a:xfrm flipH="1" rot="16200000">
            <a:off x="3902400" y="2955600"/>
            <a:ext cx="761400" cy="54442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10" name=""/>
          <p:cNvSpPr/>
          <p:nvPr/>
        </p:nvSpPr>
        <p:spPr>
          <a:xfrm>
            <a:off x="700560" y="4797360"/>
            <a:ext cx="17229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rial"/>
              </a:rPr>
              <a:t>(2) Mod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1413000"/>
            <a:ext cx="8064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Arial"/>
              </a:rPr>
              <a:t>Outils  </a:t>
            </a:r>
            <a:r>
              <a:rPr b="0" lang="en-US" sz="2400" spc="-1" strike="noStrike">
                <a:solidFill>
                  <a:srgbClr val="703d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703dff"/>
                </a:solidFill>
                <a:latin typeface="Arial"/>
              </a:rPr>
              <a:t> Options, onglet « Dossiers par défaut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84720" y="2708280"/>
            <a:ext cx="2016360" cy="433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réer un nouveau modèl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403280" y="1859040"/>
            <a:ext cx="6782040" cy="4665600"/>
          </a:xfrm>
          <a:prstGeom prst="rect">
            <a:avLst/>
          </a:prstGeom>
          <a:ln w="0">
            <a:noFill/>
          </a:ln>
        </p:spPr>
      </p:pic>
      <p:grpSp>
        <p:nvGrpSpPr>
          <p:cNvPr id="215" name=""/>
          <p:cNvGrpSpPr/>
          <p:nvPr/>
        </p:nvGrpSpPr>
        <p:grpSpPr>
          <a:xfrm>
            <a:off x="1187280" y="1773360"/>
            <a:ext cx="6048360" cy="1892520"/>
            <a:chOff x="1187280" y="1773360"/>
            <a:chExt cx="6048360" cy="1892520"/>
          </a:xfrm>
        </p:grpSpPr>
        <p:sp>
          <p:nvSpPr>
            <p:cNvPr id="216" name=""/>
            <p:cNvSpPr/>
            <p:nvPr/>
          </p:nvSpPr>
          <p:spPr>
            <a:xfrm>
              <a:off x="1187280" y="1773360"/>
              <a:ext cx="198108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7" name=""/>
            <p:cNvCxnSpPr>
              <a:stCxn id="218" idx="0"/>
              <a:endCxn id="216" idx="6"/>
            </p:cNvCxnSpPr>
            <p:nvPr/>
          </p:nvCxnSpPr>
          <p:spPr>
            <a:xfrm flipV="1" rot="16200000">
              <a:off x="3599280" y="1532160"/>
              <a:ext cx="876960" cy="1739520"/>
            </a:xfrm>
            <a:prstGeom prst="bentConnector2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18" name=""/>
            <p:cNvSpPr/>
            <p:nvPr/>
          </p:nvSpPr>
          <p:spPr>
            <a:xfrm>
              <a:off x="2579040" y="2840400"/>
              <a:ext cx="4656600" cy="825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03dff"/>
                  </a:solidFill>
                  <a:latin typeface="Arial"/>
                </a:rPr>
                <a:t>(1) Créer les nouveaux styles et Enregistrer sous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0920" y="4064040"/>
            <a:ext cx="4195080" cy="1525680"/>
            <a:chOff x="70920" y="4064040"/>
            <a:chExt cx="4195080" cy="1525680"/>
          </a:xfrm>
        </p:grpSpPr>
        <p:sp>
          <p:nvSpPr>
            <p:cNvPr id="220" name=""/>
            <p:cNvSpPr/>
            <p:nvPr/>
          </p:nvSpPr>
          <p:spPr>
            <a:xfrm>
              <a:off x="3173400" y="5208840"/>
              <a:ext cx="9907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1" name=""/>
            <p:cNvCxnSpPr>
              <a:stCxn id="222" idx="2"/>
              <a:endCxn id="220" idx="2"/>
            </p:cNvCxnSpPr>
            <p:nvPr/>
          </p:nvCxnSpPr>
          <p:spPr>
            <a:xfrm flipH="1" rot="16200000">
              <a:off x="2236680" y="4463280"/>
              <a:ext cx="867600" cy="1005480"/>
            </a:xfrm>
            <a:prstGeom prst="bentConnector2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70920" y="4064040"/>
              <a:ext cx="419508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03dff"/>
                  </a:solidFill>
                  <a:latin typeface="Arial"/>
                </a:rPr>
                <a:t>(2) Choisir un nom de modè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276720" y="4707000"/>
            <a:ext cx="4925160" cy="1601280"/>
            <a:chOff x="3276720" y="4707000"/>
            <a:chExt cx="4925160" cy="1601280"/>
          </a:xfrm>
        </p:grpSpPr>
        <p:sp>
          <p:nvSpPr>
            <p:cNvPr id="224" name=""/>
            <p:cNvSpPr/>
            <p:nvPr/>
          </p:nvSpPr>
          <p:spPr>
            <a:xfrm>
              <a:off x="3276720" y="6003720"/>
              <a:ext cx="1904760" cy="3045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5" name=""/>
            <p:cNvCxnSpPr>
              <a:stCxn id="226" idx="2"/>
              <a:endCxn id="224" idx="6"/>
            </p:cNvCxnSpPr>
            <p:nvPr/>
          </p:nvCxnSpPr>
          <p:spPr>
            <a:xfrm rot="5400000">
              <a:off x="5172120" y="5183640"/>
              <a:ext cx="981360" cy="964080"/>
            </a:xfrm>
            <a:prstGeom prst="bentConnector2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26" name=""/>
            <p:cNvSpPr/>
            <p:nvPr/>
          </p:nvSpPr>
          <p:spPr>
            <a:xfrm>
              <a:off x="4089240" y="4707000"/>
              <a:ext cx="4112640" cy="459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03dff"/>
                  </a:solidFill>
                  <a:latin typeface="Arial"/>
                </a:rPr>
                <a:t>(3) Sélectionner le format </a:t>
              </a:r>
              <a:r>
                <a:rPr b="0" i="1" lang="en-US" sz="2400" spc="-1" strike="noStrike">
                  <a:solidFill>
                    <a:srgbClr val="703dff"/>
                  </a:solidFill>
                  <a:latin typeface="Arial"/>
                </a:rPr>
                <a:t>do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7696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réer document comme celui de l’image à côté, en utilisant les </a:t>
            </a:r>
            <a:r>
              <a:rPr b="0" lang="fr-FR" sz="3200" spc="-1" strike="noStrike">
                <a:solidFill>
                  <a:srgbClr val="703dff"/>
                </a:solidFill>
                <a:latin typeface="Comic Sans MS"/>
              </a:rPr>
              <a:t>styles.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Nommer-le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« exemple.doc 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réer un </a:t>
            </a:r>
            <a:r>
              <a:rPr b="0" lang="fr-FR" sz="3200" spc="-1" strike="noStrike">
                <a:solidFill>
                  <a:srgbClr val="703dff"/>
                </a:solidFill>
                <a:latin typeface="Comic Sans MS"/>
              </a:rPr>
              <a:t>modè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ontenant les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tyles utilisé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dans ce docu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284720" y="2494080"/>
            <a:ext cx="47908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Formulaires sur Word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Formulaires 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ion des documents servant à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recueillir des informati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iblées (questionnaires, sondages, évaluation des connaissances…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met l’envoie du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formulaire en format électroniq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non seulement papier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cuments contenant des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cases à coch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des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zones de text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t des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listes déroulan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réation d’un formulair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rre d’outils formulai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Menu « Affichage </a:t>
            </a:r>
            <a:r>
              <a:rPr b="0" lang="en-US" sz="2800" spc="-1" strike="noStrike">
                <a:solidFill>
                  <a:srgbClr val="703d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Barres d’outils </a:t>
            </a:r>
            <a:r>
              <a:rPr b="0" lang="en-US" sz="2800" spc="-1" strike="noStrike">
                <a:solidFill>
                  <a:srgbClr val="703d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Formulaires 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ertion du texte et de la mise en for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ertion des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champ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rote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u documen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84720" y="1773360"/>
            <a:ext cx="288000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hoix des champ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76960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hamps de type tex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Bu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: recevoir une information tapée par l’utilisateu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Propriété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menu contextuel) 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ngue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xte par défa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se en for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majuscule, minuscul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Texte d’a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580000" y="1251000"/>
            <a:ext cx="2016360" cy="5601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859280" y="2492280"/>
            <a:ext cx="4211640" cy="41068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5580000" y="476280"/>
            <a:ext cx="3168720" cy="6080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5508720" y="674640"/>
            <a:ext cx="50328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12000" y="1108080"/>
            <a:ext cx="72072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132000" y="2708280"/>
            <a:ext cx="2016000" cy="1612800"/>
            <a:chOff x="3132000" y="2708280"/>
            <a:chExt cx="2016000" cy="1612800"/>
          </a:xfrm>
        </p:grpSpPr>
        <p:pic>
          <p:nvPicPr>
            <p:cNvPr id="245" name="" descr=""/>
            <p:cNvPicPr/>
            <p:nvPr/>
          </p:nvPicPr>
          <p:blipFill>
            <a:blip r:embed="rId4"/>
            <a:stretch/>
          </p:blipFill>
          <p:spPr>
            <a:xfrm>
              <a:off x="3132000" y="2708280"/>
              <a:ext cx="1508400" cy="16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 flipH="1" flipV="1">
              <a:off x="4571640" y="3284640"/>
              <a:ext cx="576360" cy="288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5003640" y="3716280"/>
            <a:ext cx="1366920" cy="649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7667280" y="3070080"/>
            <a:ext cx="576360" cy="28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6502320" y="3789360"/>
            <a:ext cx="231768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8000" y="125280"/>
            <a:ext cx="7416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hoix des champ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7696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hamps de type cases à coch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Bu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: choix entre plusieurs options préétabli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Propriété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menu contextue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il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leur par défau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ctivée / désactivé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Texte d’a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3168720" cy="6080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372360" y="1228680"/>
            <a:ext cx="2288880" cy="4064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796000" y="507960"/>
            <a:ext cx="36036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300720" y="941400"/>
            <a:ext cx="647640" cy="358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4925880" y="2708280"/>
            <a:ext cx="4038840" cy="38606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 flipH="1">
            <a:off x="6659640" y="2997360"/>
            <a:ext cx="50472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6372360" y="3573360"/>
            <a:ext cx="50472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8000" y="125280"/>
            <a:ext cx="7416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hoix des champ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7696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hamps de type liste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éroula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Bu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: choix unique entre plusieurs options dans une lis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Propriété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menu contextue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e d’élé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sib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Texte d’a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3168720" cy="6080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083280" y="507960"/>
            <a:ext cx="36036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372360" y="907920"/>
            <a:ext cx="287280" cy="28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6083280" y="1197000"/>
            <a:ext cx="2160720" cy="10317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827600" y="2724120"/>
            <a:ext cx="4208400" cy="40896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932360" y="3595680"/>
            <a:ext cx="129708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56360" y="3021120"/>
            <a:ext cx="936720" cy="287280"/>
          </a:xfrm>
          <a:custGeom>
            <a:avLst/>
            <a:gdLst>
              <a:gd name="textAreaLeft" fmla="*/ 163800 w 936720"/>
              <a:gd name="textAreaRight" fmla="*/ 679320 w 93672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Pour aller plus loin…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nctionnalités avancées dans Wo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è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mulai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Édition coopérat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tres fonctionnalités intéressan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registrer sous… We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rimer … PD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Texte d’aid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e aide sur le champ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5624640" y="2421000"/>
            <a:ext cx="3340080" cy="2133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755640" y="2565360"/>
            <a:ext cx="5113440" cy="35020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5264280" y="4221000"/>
            <a:ext cx="302580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Protection du document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5398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pêcher l’édition du formulai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mettre le remplissage du formulai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68360" y="3716280"/>
            <a:ext cx="3168360" cy="649440"/>
            <a:chOff x="468360" y="3716280"/>
            <a:chExt cx="3168360" cy="649440"/>
          </a:xfrm>
        </p:grpSpPr>
        <p:pic>
          <p:nvPicPr>
            <p:cNvPr id="276" name="" descr=""/>
            <p:cNvPicPr/>
            <p:nvPr/>
          </p:nvPicPr>
          <p:blipFill>
            <a:blip r:embed="rId1"/>
            <a:stretch/>
          </p:blipFill>
          <p:spPr>
            <a:xfrm>
              <a:off x="468360" y="3716280"/>
              <a:ext cx="316836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3276360" y="3932280"/>
              <a:ext cx="360360" cy="4334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705480" y="3645000"/>
            <a:ext cx="22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Outils </a:t>
            </a:r>
            <a:r>
              <a:rPr b="0" lang="en-US" sz="1800" spc="-1" strike="noStrike">
                <a:solidFill>
                  <a:srgbClr val="703d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 Protége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5946840" y="1557360"/>
            <a:ext cx="3162240" cy="5300640"/>
          </a:xfrm>
          <a:prstGeom prst="rect">
            <a:avLst/>
          </a:prstGeom>
          <a:ln w="0">
            <a:noFill/>
          </a:ln>
        </p:spPr>
      </p:pic>
      <p:grpSp>
        <p:nvGrpSpPr>
          <p:cNvPr id="280" name=""/>
          <p:cNvGrpSpPr/>
          <p:nvPr/>
        </p:nvGrpSpPr>
        <p:grpSpPr>
          <a:xfrm>
            <a:off x="2881440" y="4508640"/>
            <a:ext cx="2266920" cy="2349360"/>
            <a:chOff x="2881440" y="4508640"/>
            <a:chExt cx="2266920" cy="2349360"/>
          </a:xfrm>
        </p:grpSpPr>
        <p:pic>
          <p:nvPicPr>
            <p:cNvPr id="281" name="" descr=""/>
            <p:cNvPicPr/>
            <p:nvPr/>
          </p:nvPicPr>
          <p:blipFill>
            <a:blip r:embed="rId3"/>
            <a:stretch/>
          </p:blipFill>
          <p:spPr>
            <a:xfrm>
              <a:off x="2881440" y="4508640"/>
              <a:ext cx="226692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2881440" y="5373720"/>
              <a:ext cx="1224000" cy="431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 flipH="1">
            <a:off x="4066920" y="4508640"/>
            <a:ext cx="2305080" cy="93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56880" y="5380200"/>
            <a:ext cx="167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Mot de passe </a:t>
            </a:r>
            <a:br>
              <a:rPr sz="1800"/>
            </a:b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optionn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340000" y="5950080"/>
            <a:ext cx="719280" cy="287280"/>
          </a:xfrm>
          <a:prstGeom prst="line">
            <a:avLst/>
          </a:prstGeom>
          <a:ln w="2844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Exercices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60280" y="1139760"/>
            <a:ext cx="8415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truire un formulaire comme celui-ci 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601560" y="1893960"/>
            <a:ext cx="821844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Édition collaborative sur Word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Édition collaborative 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91856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Objectif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: éditer de manière collaborative un docu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groupe peut être géographiquement distribué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groupe peut travailler de manière asynchrone (en différé)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Outils dans Wor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ivi de modific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entair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Identification des auteur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que co-auteur doit s’identifi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3247920" y="2060640"/>
            <a:ext cx="5861160" cy="4753080"/>
            <a:chOff x="3247920" y="2060640"/>
            <a:chExt cx="5861160" cy="475308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3247920" y="2060640"/>
              <a:ext cx="5861160" cy="475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3247920" y="3025800"/>
              <a:ext cx="1908720" cy="1205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480240" y="2492280"/>
            <a:ext cx="266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Menu outils </a:t>
            </a:r>
            <a:r>
              <a:rPr b="0" lang="en-US" sz="2400" spc="-1" strike="noStrike">
                <a:solidFill>
                  <a:srgbClr val="703d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opti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onglet Utilis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416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ommentair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0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xte dans le docu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notation pour l’auteur, et les personnes ayant accès au texte électroniq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3780000" y="1700280"/>
            <a:ext cx="5203800" cy="35352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 flipV="1">
            <a:off x="4356000" y="3141360"/>
            <a:ext cx="936720" cy="863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741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ommentair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353440" cy="44701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78000" y="2565360"/>
            <a:ext cx="8658000" cy="2109960"/>
          </a:xfrm>
          <a:prstGeom prst="rect">
            <a:avLst/>
          </a:prstGeom>
          <a:ln w="57240">
            <a:solidFill>
              <a:srgbClr val="00b2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Suivi des modification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mettre aux co-auteurs de suivre le travail effectué par les collègu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908000" y="1341360"/>
            <a:ext cx="6912000" cy="5376960"/>
            <a:chOff x="1908000" y="1341360"/>
            <a:chExt cx="6912000" cy="5376960"/>
          </a:xfrm>
        </p:grpSpPr>
        <p:pic>
          <p:nvPicPr>
            <p:cNvPr id="310" name="" descr=""/>
            <p:cNvPicPr/>
            <p:nvPr/>
          </p:nvPicPr>
          <p:blipFill>
            <a:blip r:embed="rId1"/>
            <a:stretch/>
          </p:blipFill>
          <p:spPr>
            <a:xfrm>
              <a:off x="1908000" y="1341360"/>
              <a:ext cx="6912000" cy="537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 flipV="1">
              <a:off x="4140360" y="3428640"/>
              <a:ext cx="1079280" cy="576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818080" y="4005360"/>
              <a:ext cx="281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Suivi des modific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236520" y="44280"/>
            <a:ext cx="4724280" cy="59058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5435280" y="1341360"/>
            <a:ext cx="3529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rre d’outi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«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Révis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Affichage </a:t>
            </a:r>
            <a:r>
              <a:rPr b="0" lang="en-US" sz="2800" spc="-1" strike="noStrike">
                <a:solidFill>
                  <a:srgbClr val="00b2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Barres d’outils </a:t>
            </a:r>
            <a:r>
              <a:rPr b="0" lang="en-US" sz="2800" spc="-1" strike="noStrike">
                <a:solidFill>
                  <a:srgbClr val="00b2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Révi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2771640" y="3933720"/>
            <a:ext cx="194472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16000" y="1413000"/>
            <a:ext cx="194472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14560" y="189000"/>
            <a:ext cx="72072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898560" y="4653000"/>
            <a:ext cx="7074000" cy="1955880"/>
            <a:chOff x="898560" y="4653000"/>
            <a:chExt cx="7074000" cy="1955880"/>
          </a:xfrm>
        </p:grpSpPr>
        <p:pic>
          <p:nvPicPr>
            <p:cNvPr id="319" name="" descr=""/>
            <p:cNvPicPr/>
            <p:nvPr/>
          </p:nvPicPr>
          <p:blipFill>
            <a:blip r:embed="rId2"/>
            <a:stretch/>
          </p:blipFill>
          <p:spPr>
            <a:xfrm>
              <a:off x="1116000" y="4653000"/>
              <a:ext cx="6856560" cy="1955880"/>
            </a:xfrm>
            <a:prstGeom prst="rect">
              <a:avLst/>
            </a:prstGeom>
            <a:ln w="38160">
              <a:solidFill>
                <a:srgbClr val="00b200"/>
              </a:solidFill>
              <a:miter/>
            </a:ln>
          </p:spPr>
        </p:pic>
        <p:sp>
          <p:nvSpPr>
            <p:cNvPr id="320" name=""/>
            <p:cNvSpPr/>
            <p:nvPr/>
          </p:nvSpPr>
          <p:spPr>
            <a:xfrm>
              <a:off x="898560" y="5516640"/>
              <a:ext cx="5834160" cy="576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vant-propos…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C2i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, ça vous dit ?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ertificat national d’informatique et Intern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oncepts : bureautique et Intern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raitement de texte : Wor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ableur : Exc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ésentation assisté par ordinateur : PowerPoi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nternet : recherche Google, messagerie électronique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9360" y="2492280"/>
            <a:ext cx="9171000" cy="29559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4427640" y="2781360"/>
            <a:ext cx="1439640" cy="431640"/>
          </a:xfrm>
          <a:prstGeom prst="ellipse">
            <a:avLst/>
          </a:prstGeom>
          <a:noFill/>
          <a:ln w="507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195640" y="2421000"/>
            <a:ext cx="1728720" cy="360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04000" y="2276640"/>
            <a:ext cx="2266920" cy="1081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443840" y="858960"/>
            <a:ext cx="251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odificatio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325" idx="2"/>
            <a:endCxn id="323" idx="0"/>
          </p:cNvCxnSpPr>
          <p:nvPr/>
        </p:nvCxnSpPr>
        <p:spPr>
          <a:xfrm flipH="1">
            <a:off x="3060000" y="1378080"/>
            <a:ext cx="2640600" cy="1018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25" idx="2"/>
            <a:endCxn id="322" idx="0"/>
          </p:cNvCxnSpPr>
          <p:nvPr/>
        </p:nvCxnSpPr>
        <p:spPr>
          <a:xfrm flipH="1">
            <a:off x="5148000" y="1377720"/>
            <a:ext cx="552960" cy="1378440"/>
          </a:xfrm>
          <a:prstGeom prst="straightConnector1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25" idx="2"/>
            <a:endCxn id="324" idx="0"/>
          </p:cNvCxnSpPr>
          <p:nvPr/>
        </p:nvCxnSpPr>
        <p:spPr>
          <a:xfrm>
            <a:off x="5700600" y="1377720"/>
            <a:ext cx="2237760" cy="873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9" name=""/>
          <p:cNvSpPr/>
          <p:nvPr/>
        </p:nvSpPr>
        <p:spPr>
          <a:xfrm>
            <a:off x="368640" y="1197000"/>
            <a:ext cx="323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fférents couleu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fférents au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03dff"/>
                </a:solidFill>
                <a:latin typeface="Comic Sans MS"/>
              </a:rPr>
              <a:t>Identification des relecteur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70436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00160" y="189000"/>
            <a:ext cx="5740200" cy="36320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6212880" y="1125360"/>
            <a:ext cx="293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ctiver le « vol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évision » dans 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arre d’ou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924000" y="1557360"/>
            <a:ext cx="2376360" cy="1150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779400" y="2852640"/>
            <a:ext cx="8256600" cy="3835440"/>
            <a:chOff x="779400" y="2852640"/>
            <a:chExt cx="8256600" cy="3835440"/>
          </a:xfrm>
        </p:grpSpPr>
        <p:pic>
          <p:nvPicPr>
            <p:cNvPr id="336" name="" descr=""/>
            <p:cNvPicPr/>
            <p:nvPr/>
          </p:nvPicPr>
          <p:blipFill>
            <a:blip r:embed="rId2"/>
            <a:stretch/>
          </p:blipFill>
          <p:spPr>
            <a:xfrm>
              <a:off x="3295800" y="2852640"/>
              <a:ext cx="5740200" cy="38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79400" y="4365720"/>
              <a:ext cx="21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Modification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908000" y="4869000"/>
              <a:ext cx="1511640" cy="36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utres fonctionnalités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nregistrer sous…Web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589520" cy="39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éation facile d’une page We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registrer un document Word comme une page Web (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format HTM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u Fichi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nregistre sous, puis choix du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type de fichi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Attention !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 utilisation des standards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2411280" y="1727280"/>
            <a:ext cx="6451200" cy="4941360"/>
            <a:chOff x="2411280" y="1727280"/>
            <a:chExt cx="6451200" cy="4941360"/>
          </a:xfrm>
        </p:grpSpPr>
        <p:pic>
          <p:nvPicPr>
            <p:cNvPr id="344" name="" descr=""/>
            <p:cNvPicPr/>
            <p:nvPr/>
          </p:nvPicPr>
          <p:blipFill>
            <a:blip r:embed="rId1"/>
            <a:stretch/>
          </p:blipFill>
          <p:spPr>
            <a:xfrm>
              <a:off x="2411280" y="1727280"/>
              <a:ext cx="6451200" cy="49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3315240" y="5418360"/>
              <a:ext cx="1129680" cy="5371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295880" y="5802840"/>
              <a:ext cx="1658160" cy="3830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nregistrer sous…Web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6985080" cy="52070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932040" y="1341360"/>
            <a:ext cx="803268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Imprimer … PDF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réation d’un document PDF : impression en PD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vantages 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ortabilité du docu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oins de problèmes de mises en page lors de l’impres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ogiciels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dobe Acrob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03dff"/>
                </a:solidFill>
                <a:latin typeface="Comic Sans MS"/>
              </a:rPr>
              <a:t>PDFCrea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imoPDF,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Imprimer … PDF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409080" cy="41482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463680" y="1341360"/>
            <a:ext cx="855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enu Fichier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imprimer, puis choix de l’imprimante (« PDFCreator 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484360" y="2349360"/>
            <a:ext cx="395928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6691320" cy="528336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Imprimer … PDF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5580000" y="5950080"/>
            <a:ext cx="1511280" cy="718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304040" y="328464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priétés du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020000" y="1989000"/>
            <a:ext cx="216000" cy="3384720"/>
          </a:xfrm>
          <a:custGeom>
            <a:avLst/>
            <a:gdLst>
              <a:gd name="textAreaLeft" fmla="*/ 0 w 216000"/>
              <a:gd name="textAreaRight" fmla="*/ 78120 w 216000"/>
              <a:gd name="textAreaTop" fmla="*/ 88200 h 3384720"/>
              <a:gd name="textAreaBottom" fmla="*/ 3296520 h 338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164360" y="5883120"/>
            <a:ext cx="18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registrer le document 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Ouvrir le document « exemple.doc ». Enregistrer-le sous le format HTM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Générer un PDF du document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« exemple.doc 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Modèles sur Word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vant-propo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8278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Styl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ce n’est pas que de la présentation, c’est de l’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organis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orm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: base pour les autres sty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itre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: titres d’un certain niveau hiérarchiqu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s de Titre 3 sans Titre 2, ni Titre 1 !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rps du documen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créer autant de styles que nécessai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. ex.: style 1er paragraphe, style paragraphe de numérotation…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4920" y="476280"/>
            <a:ext cx="8458200" cy="630540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4427640" y="1341360"/>
            <a:ext cx="3341520" cy="2950920"/>
            <a:chOff x="4427640" y="1341360"/>
            <a:chExt cx="3341520" cy="2950920"/>
          </a:xfrm>
        </p:grpSpPr>
        <p:sp>
          <p:nvSpPr>
            <p:cNvPr id="155" name=""/>
            <p:cNvSpPr/>
            <p:nvPr/>
          </p:nvSpPr>
          <p:spPr>
            <a:xfrm>
              <a:off x="4427640" y="1341360"/>
              <a:ext cx="2908080" cy="2624040"/>
            </a:xfrm>
            <a:custGeom>
              <a:avLst/>
              <a:gdLst/>
              <a:ahLst/>
              <a:rect l="l" t="t" r="r" b="b"/>
              <a:pathLst>
                <a:path w="1832" h="1486">
                  <a:moveTo>
                    <a:pt x="1832" y="1486"/>
                  </a:moveTo>
                  <a:lnTo>
                    <a:pt x="1823" y="9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77160" y="3965400"/>
              <a:ext cx="792000" cy="326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900000" y="1844640"/>
            <a:ext cx="5832720" cy="3024360"/>
            <a:chOff x="900000" y="1844640"/>
            <a:chExt cx="5832720" cy="3024360"/>
          </a:xfrm>
        </p:grpSpPr>
        <p:sp>
          <p:nvSpPr>
            <p:cNvPr id="158" name=""/>
            <p:cNvSpPr/>
            <p:nvPr/>
          </p:nvSpPr>
          <p:spPr>
            <a:xfrm>
              <a:off x="900000" y="1844640"/>
              <a:ext cx="1562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00000" y="4869000"/>
              <a:ext cx="1562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flipV="1">
              <a:off x="2411280" y="1915920"/>
              <a:ext cx="4321440" cy="253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2484000" y="4456080"/>
              <a:ext cx="4248360" cy="341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826920" y="1844640"/>
            <a:ext cx="7058160" cy="3097080"/>
            <a:chOff x="826920" y="1844640"/>
            <a:chExt cx="7058160" cy="3097080"/>
          </a:xfrm>
        </p:grpSpPr>
        <p:sp>
          <p:nvSpPr>
            <p:cNvPr id="163" name=""/>
            <p:cNvSpPr/>
            <p:nvPr/>
          </p:nvSpPr>
          <p:spPr>
            <a:xfrm>
              <a:off x="6589800" y="4630680"/>
              <a:ext cx="1295280" cy="311040"/>
            </a:xfrm>
            <a:prstGeom prst="ellipse">
              <a:avLst/>
            </a:prstGeom>
            <a:noFill/>
            <a:ln w="28440">
              <a:solidFill>
                <a:srgbClr val="340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1979640" y="2060280"/>
              <a:ext cx="4610160" cy="2725560"/>
            </a:xfrm>
            <a:prstGeom prst="line">
              <a:avLst/>
            </a:prstGeom>
            <a:ln w="38160">
              <a:solidFill>
                <a:srgbClr val="3400c8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flipV="1">
              <a:off x="2268360" y="3429000"/>
              <a:ext cx="4321440" cy="1357200"/>
            </a:xfrm>
            <a:prstGeom prst="line">
              <a:avLst/>
            </a:prstGeom>
            <a:ln w="38160">
              <a:solidFill>
                <a:srgbClr val="3400c8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6920" y="1844640"/>
              <a:ext cx="1152720" cy="289080"/>
            </a:xfrm>
            <a:prstGeom prst="ellipse">
              <a:avLst/>
            </a:prstGeom>
            <a:noFill/>
            <a:ln w="28440">
              <a:solidFill>
                <a:srgbClr val="340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6920" y="3284640"/>
              <a:ext cx="1443240" cy="336600"/>
            </a:xfrm>
            <a:prstGeom prst="ellipse">
              <a:avLst/>
            </a:prstGeom>
            <a:noFill/>
            <a:ln w="28440">
              <a:solidFill>
                <a:srgbClr val="340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219280" y="2276640"/>
            <a:ext cx="2737440" cy="2808000"/>
            <a:chOff x="5219280" y="2276640"/>
            <a:chExt cx="2737440" cy="2808000"/>
          </a:xfrm>
        </p:grpSpPr>
        <p:sp>
          <p:nvSpPr>
            <p:cNvPr id="169" name=""/>
            <p:cNvSpPr/>
            <p:nvPr/>
          </p:nvSpPr>
          <p:spPr>
            <a:xfrm flipH="1" flipV="1">
              <a:off x="5219280" y="2276640"/>
              <a:ext cx="1436760" cy="527040"/>
            </a:xfrm>
            <a:prstGeom prst="line">
              <a:avLst/>
            </a:prstGeom>
            <a:ln w="28440">
              <a:solidFill>
                <a:srgbClr val="00b2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5219640" y="2952720"/>
              <a:ext cx="1441440" cy="692280"/>
            </a:xfrm>
            <a:prstGeom prst="line">
              <a:avLst/>
            </a:prstGeom>
            <a:ln w="28440">
              <a:solidFill>
                <a:srgbClr val="00b2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5219280" y="2997360"/>
              <a:ext cx="1584360" cy="2087280"/>
            </a:xfrm>
            <a:prstGeom prst="line">
              <a:avLst/>
            </a:prstGeom>
            <a:ln w="28440">
              <a:solidFill>
                <a:srgbClr val="00b2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61080" y="2692440"/>
              <a:ext cx="1295640" cy="347760"/>
            </a:xfrm>
            <a:prstGeom prst="ellipse">
              <a:avLst/>
            </a:prstGeom>
            <a:noFill/>
            <a:ln w="2844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219640" y="2781000"/>
            <a:ext cx="2808360" cy="2808720"/>
            <a:chOff x="5219640" y="2781000"/>
            <a:chExt cx="2808360" cy="2808720"/>
          </a:xfrm>
        </p:grpSpPr>
        <p:sp>
          <p:nvSpPr>
            <p:cNvPr id="174" name=""/>
            <p:cNvSpPr/>
            <p:nvPr/>
          </p:nvSpPr>
          <p:spPr>
            <a:xfrm>
              <a:off x="6934320" y="3284640"/>
              <a:ext cx="1093680" cy="0"/>
            </a:xfrm>
            <a:prstGeom prst="line">
              <a:avLst/>
            </a:prstGeom>
            <a:ln w="38160">
              <a:solidFill>
                <a:srgbClr val="340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5292360" y="2781000"/>
              <a:ext cx="1562040" cy="430200"/>
            </a:xfrm>
            <a:prstGeom prst="line">
              <a:avLst/>
            </a:prstGeom>
            <a:ln w="28440">
              <a:solidFill>
                <a:srgbClr val="3400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219640" y="3211560"/>
              <a:ext cx="1635120" cy="938160"/>
            </a:xfrm>
            <a:prstGeom prst="line">
              <a:avLst/>
            </a:prstGeom>
            <a:ln w="28440">
              <a:solidFill>
                <a:srgbClr val="3400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5292360" y="3211560"/>
              <a:ext cx="1562040" cy="2378160"/>
            </a:xfrm>
            <a:prstGeom prst="line">
              <a:avLst/>
            </a:prstGeom>
            <a:ln w="28440">
              <a:solidFill>
                <a:srgbClr val="3400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258920" y="3500280"/>
            <a:ext cx="5833800" cy="2881440"/>
            <a:chOff x="1258920" y="3500280"/>
            <a:chExt cx="5833800" cy="2881440"/>
          </a:xfrm>
        </p:grpSpPr>
        <p:sp>
          <p:nvSpPr>
            <p:cNvPr id="179" name=""/>
            <p:cNvSpPr/>
            <p:nvPr/>
          </p:nvSpPr>
          <p:spPr>
            <a:xfrm>
              <a:off x="1258920" y="5877000"/>
              <a:ext cx="1727280" cy="504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3058920" y="3500280"/>
              <a:ext cx="4033800" cy="25927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4135320" cy="61930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284360" y="692280"/>
            <a:ext cx="4282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ur que les titres soient correctement numérotés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ifier style -&gt; format -&gt; numérot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211640" y="3112920"/>
            <a:ext cx="4824360" cy="36356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79280" y="4365720"/>
            <a:ext cx="107964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6560" y="5950080"/>
            <a:ext cx="1081080" cy="358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619280" y="5516280"/>
            <a:ext cx="3960720" cy="64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5240" y="189000"/>
            <a:ext cx="4533840" cy="30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ur que le premier paragraphe correspond au style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1erParagraph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t les suivants correspondent au style 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Corps du docum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63440" y="115920"/>
            <a:ext cx="4376880" cy="4681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748040" y="2133720"/>
            <a:ext cx="4287960" cy="46512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4920" y="4797360"/>
            <a:ext cx="4716360" cy="207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ifier l’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nchaînem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s styles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Titre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Titre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t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1erParagrap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413000"/>
            <a:ext cx="172728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92360" y="620640"/>
            <a:ext cx="172728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050920" y="1413000"/>
            <a:ext cx="172728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61080" y="3429000"/>
            <a:ext cx="172692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32720" y="3429000"/>
            <a:ext cx="172692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73800" y="2637000"/>
            <a:ext cx="172728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Modèl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 modèle s'applique à un docu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l correspond à un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ensemble de styl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réalablement défin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l existe des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modèles prédéfin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'utilisateur peut créer ses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pres modè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 modèle est stocké dans un document de format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.do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ssier par défaut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odèles de l'utilisate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0:49:30Z</dcterms:created>
  <dc:creator>angelo</dc:creator>
  <dc:description/>
  <dc:language>en-US</dc:language>
  <cp:lastModifiedBy>angelo</cp:lastModifiedBy>
  <dcterms:modified xsi:type="dcterms:W3CDTF">2006-12-04T23:53:42Z</dcterms:modified>
  <cp:revision>40</cp:revision>
  <dc:subject/>
  <dc:title> Word « avancé » Édition d’images</dc:title>
</cp:coreProperties>
</file>