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C99-A598-4DB0-86D6-EDF9866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F46-0CD9-43FA-BF21-314FFF4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C1A-7E3E-4CEF-A693-772336F2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9D7-87E4-479A-9B7C-E6D3A7A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812C-402D-425C-9F10-824325BA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8CE2-1F32-491F-B549-4F89B3F7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642D-418C-45A3-884C-D98946CD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453-A6C0-434E-A78E-56DCD43B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174D-59C0-45DA-9C36-BC53A6C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0A43-38C3-4E21-834C-2B8E4A0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1EE1-5AA8-4882-AB45-420CB3CB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4ED-6FE7-4853-8D59-9BA1886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C12-742D-484F-A929-DC475F2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0AE4-781F-4A49-80A3-694883E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E164-CEFC-438B-91D1-05A4CCED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3EC9-FDC2-44E5-AAE6-C39CFEC3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F429-6187-4F4D-93F6-555B748A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8A9-116D-4B85-A9ED-EFAE702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372-D440-4320-B7FA-CBA76926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154-FB01-4DF8-88BB-039B0CEA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9DA-4BB0-4F9D-90BB-E8327F8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870-69EF-42F5-88BA-13C9F16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1F3-4F97-42BF-AC44-E7F150B8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A64-B252-4DB4-BF24-CACCD3C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2664-4836-4DC8-BC4A-1E6BE3E85E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905-5C18-4A5C-A2D6-E192E891A6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ableu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ce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érie des donné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8360" y="1413000"/>
            <a:ext cx="4659480" cy="4680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932360" y="1989000"/>
            <a:ext cx="396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peut modifier/définir les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sé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00280"/>
            <a:ext cx="792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268000" y="2852640"/>
            <a:ext cx="259092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tions : quadrill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220968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juste le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quadrill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fonction d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nous supprimons tout quadr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1354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tions : tit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220968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définit les différents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tit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n fonction d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éfinissons le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titre du </a:t>
            </a:r>
            <a:br>
              <a:rPr sz="2400"/>
            </a:b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graphiq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 les titres des différents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666800"/>
            <a:ext cx="52038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tions : légend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5588280" y="2205000"/>
            <a:ext cx="341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place la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lég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laçons en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ha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5520" y="1549440"/>
            <a:ext cx="52801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tions : étiquet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2209680"/>
            <a:ext cx="333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fixe les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étiquet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nous affichons la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vale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 l’étiqu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4277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mplacement du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7921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choisit enfin l’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mplace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ù on mémorise le graphiqu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ns la feuille préexistante ou dans une nouvelle feuil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l’occurrence, on la place sur la feuil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alcul « occupation 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806480" y="1557360"/>
            <a:ext cx="54295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ult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92360" y="1844640"/>
          <a:ext cx="5575320" cy="36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57532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1427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uvrir le tableur «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donnes.xl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. Créer un graphique comme le suivant pour les données relatives aux notes des étudiants :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12944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 partir des données de la feuil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, créer un histogramme, par pays, de la population pour les années 2002 à 200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3152880"/>
            <a:ext cx="70581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jours à partir des données de la feuille 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, créer un graphique de type 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ecteu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 (« camembert ») des données de population relatives à l’anné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 pay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voisi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à la France. Placer le graphique dans un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uvel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euil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48000" y="1268280"/>
            <a:ext cx="471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(tableau)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2109960" y="4292640"/>
            <a:ext cx="509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mbre moyen d’étudiants fréquent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s salles machines durant les plages horai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libre-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673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(graphique)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43000" y="1905120"/>
          <a:ext cx="715176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15176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 d’un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43000" y="1905120"/>
          <a:ext cx="715176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15176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52280" y="2209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Série 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590920"/>
            <a:ext cx="175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Série 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438280"/>
            <a:ext cx="228600" cy="19814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438280"/>
            <a:ext cx="1066680" cy="1295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438280"/>
            <a:ext cx="213336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3048120"/>
            <a:ext cx="914400" cy="251460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05360" y="3048120"/>
            <a:ext cx="152280" cy="2133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714640" y="3048120"/>
            <a:ext cx="1143000" cy="83808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572000" y="3048120"/>
            <a:ext cx="228600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 d’un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43000" y="1905120"/>
          <a:ext cx="715176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15176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133720" y="23623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Axe des or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819520"/>
            <a:ext cx="1752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Axe des absc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24680" y="3657600"/>
            <a:ext cx="228600" cy="220968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 d’un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1905120"/>
          <a:ext cx="715176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15176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209680" y="2590920"/>
            <a:ext cx="1752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Titre du graph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71800" y="2285640"/>
            <a:ext cx="4572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105520"/>
            <a:ext cx="17524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Titre des absc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86040" y="5943600"/>
            <a:ext cx="1066680" cy="38088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181480"/>
            <a:ext cx="1752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Titre des or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1447560" y="4876920"/>
            <a:ext cx="22860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2971800"/>
            <a:ext cx="175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Lég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562720" y="2666520"/>
            <a:ext cx="38088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809880"/>
            <a:ext cx="1752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Etiquettes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14640" y="3962160"/>
            <a:ext cx="1219320" cy="15228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410080" y="3733920"/>
            <a:ext cx="1524240" cy="38088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ation d’un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28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il « 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sistant graphiq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isir du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les données et spécifier les sé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er les op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x du quadrill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ix des tit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lacement de la légen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finition des étiquet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isir l’emplacement du graph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308720" y="1844640"/>
            <a:ext cx="60984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hoix d’un type de graph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610160" cy="4897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043600" y="2362320"/>
            <a:ext cx="376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e variété de type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ques est proposé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c’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histogramme qui est 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us adap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ource de donné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4502160" y="1989000"/>
            <a:ext cx="4390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indique ici la localis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peut inclure les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plages des tit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ns la plage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l’occurrence, nous av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sé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angées par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lig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sées dans la </a:t>
            </a: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plage A1:G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3680" y="1484280"/>
            <a:ext cx="428796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20:36:48Z</dcterms:created>
  <dc:creator>angelo</dc:creator>
  <dc:description/>
  <dc:language>en-US</dc:language>
  <cp:lastModifiedBy>angelo</cp:lastModifiedBy>
  <dcterms:modified xsi:type="dcterms:W3CDTF">2006-10-14T22:04:26Z</dcterms:modified>
  <cp:revision>11</cp:revision>
  <dc:subject/>
  <dc:title>Tableur Excel</dc:title>
</cp:coreProperties>
</file>