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A97-19B4-4D86-8686-961277D8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B6F-C1B6-4342-9BE9-11B32894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60C-4AD2-406D-9FC8-0ED4FFEC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B7D-31D4-4D83-B81B-B173AAC0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D423-2601-4768-B16C-562F5969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2676-A60A-48E0-B3CB-B582FA7B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0421-A0EE-4F39-9737-D3B96C88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F7C0-C8AB-47F5-85CF-A7BD2122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E716-E416-4A3D-990A-8317DB6A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C27C-BE6E-4CFA-9933-48988E76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B7CF-71B6-4AF4-A5B9-18AFB62B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526-218D-4616-8C2C-01EDD693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430E-2607-4E12-A24F-01FF70F7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CFAC-0B0D-4E9A-B18F-305FFFCA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E734-6479-4928-AC9C-775DEF0F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638C-D92C-4EA8-8E28-680AE73E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3DF4-A480-4812-B27B-F2A76696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7E9-255D-4CD1-9985-41982423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61E-0AFF-4BF1-B9C0-217388A2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4F7-1970-49D9-94B9-655D6F0B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116-BF71-439E-AA42-64DD0FF2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8A3-6CD4-4284-9CAF-17324C0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D20-6539-4950-8524-8109C2CF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775-1129-4281-BFDB-4D48AFCB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Générale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FE1F-5600-4225-9DCE-0546DFAFC1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3476-23DC-47FB-8CE8-911CDBA85B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fr.wikipedia.org/wiki/Phishing" TargetMode="External"/><Relationship Id="rId2" Type="http://schemas.openxmlformats.org/officeDocument/2006/relationships/hyperlink" Target="http://www.ciac.org/ciac/" TargetMode="External"/><Relationship Id="rId3" Type="http://schemas.openxmlformats.org/officeDocument/2006/relationships/hyperlink" Target="http://www.ciac.org/ciac/" TargetMode="External"/><Relationship Id="rId4" Type="http://schemas.openxmlformats.org/officeDocument/2006/relationships/hyperlink" Target="http://www.ciac.org/ciac/" TargetMode="External"/><Relationship Id="rId5" Type="http://schemas.openxmlformats.org/officeDocument/2006/relationships/hyperlink" Target="http://www.ciac.org/ciac/" TargetMode="External"/><Relationship Id="rId6" Type="http://schemas.openxmlformats.org/officeDocument/2006/relationships/hyperlink" Target="http://www.ciac.org/ciac/" TargetMode="External"/><Relationship Id="rId7" Type="http://schemas.openxmlformats.org/officeDocument/2006/relationships/hyperlink" Target="http://www.secuser.com/" TargetMode="External"/><Relationship Id="rId8" Type="http://schemas.openxmlformats.org/officeDocument/2006/relationships/hyperlink" Target="http://www.secuser.com/" TargetMode="External"/><Relationship Id="rId9" Type="http://schemas.openxmlformats.org/officeDocument/2006/relationships/hyperlink" Target="http://www.secuser.com/" TargetMode="External"/><Relationship Id="rId10" Type="http://schemas.openxmlformats.org/officeDocument/2006/relationships/hyperlink" Target="http://www.cert.org/" TargetMode="External"/><Relationship Id="rId11" Type="http://schemas.openxmlformats.org/officeDocument/2006/relationships/hyperlink" Target="http://www.cert.org/" TargetMode="External"/><Relationship Id="rId12" Type="http://schemas.openxmlformats.org/officeDocument/2006/relationships/hyperlink" Target="http://www.cert.org/" TargetMode="External"/><Relationship Id="rId1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essageri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Envoie d’un message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8000" y="1136520"/>
            <a:ext cx="8354880" cy="4584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037280" y="328464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tinat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076720" y="2997000"/>
            <a:ext cx="194328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643280" y="3212640"/>
            <a:ext cx="216072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19480" y="363852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pie 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86840" y="44308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j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834920" y="3860640"/>
            <a:ext cx="460836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8840" y="529416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rps du mes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347640" y="4941720"/>
            <a:ext cx="1368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14080" y="148428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ièces jointes (attac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59640" y="1844640"/>
            <a:ext cx="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Webmail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7040" y="1082520"/>
            <a:ext cx="8629920" cy="5010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2421000"/>
            <a:ext cx="64764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421000"/>
            <a:ext cx="64800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84360" y="2421000"/>
            <a:ext cx="64764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769080" cy="3531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08000" y="4443480"/>
            <a:ext cx="6743520" cy="2009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040880" y="141300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tinat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71200" y="242100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jet (obj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66480" y="378936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jet (obj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32960" y="465300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èces joi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7600" y="558972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o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01760" y="602136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oin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572000" y="836640"/>
            <a:ext cx="244800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572000" y="1125360"/>
            <a:ext cx="244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787640" y="1699920"/>
            <a:ext cx="230508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3068640"/>
            <a:ext cx="287280" cy="1873080"/>
          </a:xfrm>
          <a:custGeom>
            <a:avLst/>
            <a:gdLst>
              <a:gd name="textAreaLeft" fmla="*/ 0 w 287280"/>
              <a:gd name="textAreaRight" fmla="*/ 10368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858920" y="5734080"/>
            <a:ext cx="223380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300360" y="6093000"/>
            <a:ext cx="1295640" cy="7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5164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51640" y="5084640"/>
            <a:ext cx="792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2565360"/>
            <a:ext cx="2232000" cy="2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4941720"/>
            <a:ext cx="1944720" cy="28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2133720"/>
            <a:ext cx="1152720" cy="35856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arnet d’adress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71720" y="1693800"/>
            <a:ext cx="681336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ossie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0440" y="2997360"/>
            <a:ext cx="8629560" cy="3619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044960" y="1270080"/>
            <a:ext cx="4775040" cy="3454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3160" y="54388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059280" y="1628280"/>
            <a:ext cx="936360" cy="374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16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voyer un email à son collègue à côté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re l’email que son collègue a envoy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voyer un email à son collègue avec un copie à vous-mê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pondre à l’email de votre collèg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voyer à votre collègue une pièce jointe (une image, par exe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cupérer la pièce jointe que votre collègue vous a envoy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éer un dossier pour les messages de votre enseignante d’informa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PAM</a:t>
            </a: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066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’est quoi un SPA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message non sollicité (généralement de la publicit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« fléau » de l’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urcharge des serveurs et des BAL des utilisate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s millions d’euros sont dépensés chaque année pour limiter les dégâ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vitez d’afficher votre e-mail ouvert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tilisez un logiciel anti-sp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HOA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5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 « hoax » est u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anula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envoyé par mai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Mine d’or en Côte d’Ivoire…Envoyez de l’argen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le fichier win.exe est un viru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ême principe pour les « pyramides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Microsoft donne de l’argent pour chaque mail reçu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Envoyez ce message à 10 amis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oujours vérifier l’exactitude de l’information avant de repasser le mail à d’autres person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Phishing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989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chnique d'ingénierie sociale qui consiste à envoyer un courriel en se faisant passer pour une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organisation de confianc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une banque, une administration, etc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mande de fournir des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renseignement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personnels que le pirate pourra exploiter ultérieurement (carte de crédit, compte bancaire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ites intéressantes à consul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fr.wikipedia.org/wiki/Phishing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www.ciac.org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/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ciac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http://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www.secuser.com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/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http://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www.cert.org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/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ilt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cip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éfinition de règles de filtrage des emails sel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Expéditeur, sujet, contenu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ermet une meilleure organisation des mails reç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Organisation de dossiers thématiq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Aussi permet le filtrage partiel des SPAMs et HO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dresse électroniqu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Identité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@</a:t>
            </a:r>
            <a:r>
              <a:rPr b="0" lang="fr-FR" sz="3600" spc="-1" strike="noStrike">
                <a:solidFill>
                  <a:srgbClr val="00b200"/>
                </a:solidFill>
                <a:latin typeface="Comic Sans MS"/>
              </a:rPr>
              <a:t>serveu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m : Manuele.Kirsch-Pinhei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@ : séparateur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("at", chez…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dentifiant du serveur :</a:t>
            </a: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univ-nancy2.f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914720" cy="5040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780520" y="162864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s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il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3500280"/>
            <a:ext cx="25923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2720" y="2949480"/>
            <a:ext cx="36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Critères : expression d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email à quelqu’un (To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d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email de quelqu’un (From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obje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sujet du message (Subject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corp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corps du mess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éfinir un filtre sur votre messagerie (ENT) afin que les messages de votre enseignants soient déplacés ver le dossier que vous avez créé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hercher sur le Web des informations sur phishing, hoax et spam, et repasser ces informations par email à son collèg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incipes de bas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utilisateur du courrier électronique peut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Envoy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s messages à une ou plusieurs person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Recevoi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s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Répond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à des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Faire suiv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n message à une autre person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étruire, sauvegarder ou imprimer les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’abonner à des listes de diffu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nctionnemen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80920" y="2054160"/>
            <a:ext cx="1425600" cy="903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332240" y="1909800"/>
            <a:ext cx="854280" cy="985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877080" y="314172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435640" y="4797360"/>
            <a:ext cx="1523880" cy="111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0" y="3357720"/>
            <a:ext cx="2857680" cy="1663560"/>
          </a:xfrm>
          <a:prstGeom prst="rect">
            <a:avLst/>
          </a:prstGeom>
          <a:ln w="0">
            <a:noFill/>
          </a:ln>
        </p:spPr>
      </p:pic>
      <p:cxnSp>
        <p:nvCxnSpPr>
          <p:cNvPr id="148" name=""/>
          <p:cNvCxnSpPr>
            <a:stCxn id="147" idx="0"/>
            <a:endCxn id="143" idx="2"/>
          </p:cNvCxnSpPr>
          <p:nvPr/>
        </p:nvCxnSpPr>
        <p:spPr>
          <a:xfrm flipH="1" flipV="1" rot="5400000">
            <a:off x="1310760" y="3074760"/>
            <a:ext cx="401040" cy="165600"/>
          </a:xfrm>
          <a:prstGeom prst="bentConnector3">
            <a:avLst>
              <a:gd name="adj1" fmla="val 499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268360" y="1628640"/>
            <a:ext cx="2160720" cy="503280"/>
          </a:xfrm>
          <a:custGeom>
            <a:avLst/>
            <a:gdLst>
              <a:gd name="textAreaLeft" fmla="*/ 378000 w 2160720"/>
              <a:gd name="textAreaRight" fmla="*/ 1566720 w 216072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85160" y="221148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e 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85240" y="35082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es 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P ou I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3148800">
            <a:off x="5832000" y="3536640"/>
            <a:ext cx="504720" cy="1584360"/>
          </a:xfrm>
          <a:custGeom>
            <a:avLst/>
            <a:gdLst>
              <a:gd name="textAreaLeft" fmla="*/ 67320 w 504720"/>
              <a:gd name="textAreaRight" fmla="*/ 437400 w 50472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4" idx="3"/>
            <a:endCxn id="145" idx="0"/>
          </p:cNvCxnSpPr>
          <p:nvPr/>
        </p:nvCxnSpPr>
        <p:spPr>
          <a:xfrm>
            <a:off x="5186520" y="2403000"/>
            <a:ext cx="2148480" cy="739080"/>
          </a:xfrm>
          <a:prstGeom prst="bentConnector2">
            <a:avLst/>
          </a:prstGeom>
          <a:ln w="76320">
            <a:solidFill>
              <a:srgbClr val="ffb8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5292360" y="14842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700360" y="5445000"/>
            <a:ext cx="2722680" cy="1228680"/>
          </a:xfrm>
          <a:prstGeom prst="rect">
            <a:avLst/>
          </a:prstGeom>
          <a:ln w="0">
            <a:noFill/>
          </a:ln>
        </p:spPr>
      </p:pic>
      <p:cxnSp>
        <p:nvCxnSpPr>
          <p:cNvPr id="156" name=""/>
          <p:cNvCxnSpPr>
            <a:stCxn id="146" idx="2"/>
            <a:endCxn id="155" idx="3"/>
          </p:cNvCxnSpPr>
          <p:nvPr/>
        </p:nvCxnSpPr>
        <p:spPr>
          <a:xfrm rot="5400000">
            <a:off x="5737680" y="5599440"/>
            <a:ext cx="14472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7956720" y="4005360"/>
            <a:ext cx="718920" cy="647640"/>
          </a:xfrm>
          <a:prstGeom prst="ca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45" idx="3"/>
            <a:endCxn id="157" idx="1"/>
          </p:cNvCxnSpPr>
          <p:nvPr/>
        </p:nvCxnSpPr>
        <p:spPr>
          <a:xfrm>
            <a:off x="7791480" y="3751200"/>
            <a:ext cx="526320" cy="254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7189560" y="4702320"/>
            <a:ext cx="19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îte Aux Lett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Électronique (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Webmail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7040" y="1082520"/>
            <a:ext cx="862992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incipes …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unication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asynchr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message reste stocké au serveu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courrier électronique n'est pas 100% sû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pertes sont possibl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de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confidentialit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un mail circule de façon non crypt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cture par des tiers est poss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seil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iblez vos correspond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E LES AGRESSEZ P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ous êtes responsables de vos prop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ous contribuez à l’image de votre communaut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fférences culturelles, risque de malentendu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érifiez vos fichiers en annex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ttention aux menaces : </a:t>
            </a:r>
            <a:r>
              <a:rPr b="0" i="1" lang="fr-FR" sz="2800" spc="-1" strike="noStrike">
                <a:solidFill>
                  <a:srgbClr val="00b200"/>
                </a:solidFill>
                <a:latin typeface="Comic Sans MS"/>
              </a:rPr>
              <a:t>spam, hoax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virus</a:t>
            </a:r>
            <a:r>
              <a:rPr b="0" i="1" lang="fr-FR" sz="2800" spc="-1" strike="noStrike">
                <a:solidFill>
                  <a:srgbClr val="00b200"/>
                </a:solidFill>
                <a:latin typeface="Comic Sans MS"/>
              </a:rPr>
              <a:t>, phishing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position d’un mess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Les entêt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o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resses des destinataires séparées pa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c (copier carbone)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resses des destinataires 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copie du message (séparées par d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Bcc (blind copy)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res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es destinataires 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copie non visible aux destinataires (ceux du champ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To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Subject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sujet (objet) du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ièces jointes (Attached) 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liste des fichiers attachés au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Le corps (body)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rps du message (contenu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6080" y="1071720"/>
            <a:ext cx="7748640" cy="5165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42920" y="1987560"/>
            <a:ext cx="3529080" cy="10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144360" cy="251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5516640"/>
            <a:ext cx="115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essage reçu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3:03:56Z</dcterms:created>
  <dc:creator>Manuele Kirsch Pinheiro</dc:creator>
  <dc:description/>
  <dc:language>en-US</dc:language>
  <cp:lastModifiedBy>Manuele Kirsch Pinheiro</cp:lastModifiedBy>
  <dcterms:modified xsi:type="dcterms:W3CDTF">2006-09-26T10:34:51Z</dcterms:modified>
  <cp:revision>9</cp:revision>
  <dc:subject/>
  <dc:title>Messagerie</dc:title>
</cp:coreProperties>
</file>