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9.png" ContentType="image/png"/>
  <Override PartName="/ppt/media/image11.jpeg" ContentType="image/jpeg"/>
  <Override PartName="/ppt/media/image13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9CA9-6C5C-47C4-BFEC-1D571ABED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994-2E0E-473E-A879-5B5B791F2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BE39-8642-4714-916A-FA01D0790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A853-67B6-4403-A72E-A789AAA5AE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F11-9E0D-4E9E-9359-E3746399E9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DE33-9BA1-4BA9-8B6B-F69A9BF9B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04E6-87C7-442B-AEAA-D3849F2DC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D27-788F-4A99-BE0D-1102A2E99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6B4-96C4-4E8D-9C56-D5E66317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7C2-522E-417E-BAF7-F8938BF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B53-7C70-49BF-A10B-D81D733E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35D-DEFB-43E7-A8E5-B5C87872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91EE-834C-463D-A86A-ABD237AC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1BB1-7639-4470-B2D3-4BF1AB10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DFC-299C-4485-BD4A-CEB66B39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E46-8F88-4D78-81FD-ED45E12A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AEBC-C08B-4E10-B776-5F84669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9167-999A-44CB-B8F4-0CEFC464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E6D-A489-4997-80BC-E9AF70B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4F6-CB7A-4E45-B968-CDA7871D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92B5-3E7F-4B86-8876-7BE6B101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244-50BF-4149-B827-4212F08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5FFA-C515-4A88-84B1-C6F94DAB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2668-FB41-4554-94CA-62747F68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D490-F1BC-4517-9640-D1EEE9E5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6F4-00D0-4F15-BA31-DB60588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63A-26A2-4476-8481-8F42662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AC3-423C-4201-ABA1-B9EBCDF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19-2EBD-40B8-97BC-A3276DA7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E96-6A4D-468E-A519-ED90C4E9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30C-40E1-4A8D-BFF2-73011FD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1BE-01B7-4690-A6E2-5CF198D5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reau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4988-5DBA-424F-A53A-FAC50985FE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D97-29AF-4CDE-9C9E-147E2724D0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3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07D-9FD8-44C3-9754-173BF6E750E0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FD1-094F-4DDB-B80C-E2BDD70227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23.jpeg"/><Relationship Id="rId30" Type="http://schemas.openxmlformats.org/officeDocument/2006/relationships/image" Target="../media/image24.jpeg"/><Relationship Id="rId31" Type="http://schemas.openxmlformats.org/officeDocument/2006/relationships/image" Target="../media/image25.jpe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23.jpeg"/><Relationship Id="rId36" Type="http://schemas.openxmlformats.org/officeDocument/2006/relationships/image" Target="../media/image24.jpeg"/><Relationship Id="rId37" Type="http://schemas.openxmlformats.org/officeDocument/2006/relationships/image" Target="../media/image25.jpe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23.jpeg"/><Relationship Id="rId42" Type="http://schemas.openxmlformats.org/officeDocument/2006/relationships/image" Target="../media/image24.jpeg"/><Relationship Id="rId43" Type="http://schemas.openxmlformats.org/officeDocument/2006/relationships/image" Target="../media/image25.jpeg"/><Relationship Id="rId44" Type="http://schemas.openxmlformats.org/officeDocument/2006/relationships/image" Target="../media/image26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23.jpeg"/><Relationship Id="rId49" Type="http://schemas.openxmlformats.org/officeDocument/2006/relationships/image" Target="../media/image24.jpeg"/><Relationship Id="rId50" Type="http://schemas.openxmlformats.org/officeDocument/2006/relationships/image" Target="../media/image25.jpe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23.jpeg"/><Relationship Id="rId55" Type="http://schemas.openxmlformats.org/officeDocument/2006/relationships/image" Target="../media/image24.jpeg"/><Relationship Id="rId56" Type="http://schemas.openxmlformats.org/officeDocument/2006/relationships/image" Target="../media/image25.jpe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23.jpeg"/><Relationship Id="rId61" Type="http://schemas.openxmlformats.org/officeDocument/2006/relationships/image" Target="../media/image24.jpeg"/><Relationship Id="rId62" Type="http://schemas.openxmlformats.org/officeDocument/2006/relationships/image" Target="../media/image25.jpe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23.jpeg"/><Relationship Id="rId67" Type="http://schemas.openxmlformats.org/officeDocument/2006/relationships/image" Target="../media/image24.jpeg"/><Relationship Id="rId68" Type="http://schemas.openxmlformats.org/officeDocument/2006/relationships/image" Target="../media/image25.jpeg"/><Relationship Id="rId69" Type="http://schemas.openxmlformats.org/officeDocument/2006/relationships/image" Target="../media/image26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23.jpeg"/><Relationship Id="rId74" Type="http://schemas.openxmlformats.org/officeDocument/2006/relationships/image" Target="../media/image24.jpeg"/><Relationship Id="rId75" Type="http://schemas.openxmlformats.org/officeDocument/2006/relationships/image" Target="../media/image25.jpe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23.jpeg"/><Relationship Id="rId80" Type="http://schemas.openxmlformats.org/officeDocument/2006/relationships/image" Target="../media/image24.jpeg"/><Relationship Id="rId81" Type="http://schemas.openxmlformats.org/officeDocument/2006/relationships/image" Target="../media/image25.jpe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23.jpeg"/><Relationship Id="rId86" Type="http://schemas.openxmlformats.org/officeDocument/2006/relationships/image" Target="../media/image24.jpeg"/><Relationship Id="rId87" Type="http://schemas.openxmlformats.org/officeDocument/2006/relationships/image" Target="../media/image25.jpe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23.jpeg"/><Relationship Id="rId92" Type="http://schemas.openxmlformats.org/officeDocument/2006/relationships/image" Target="../media/image24.jpeg"/><Relationship Id="rId93" Type="http://schemas.openxmlformats.org/officeDocument/2006/relationships/image" Target="../media/image25.jpeg"/><Relationship Id="rId94" Type="http://schemas.openxmlformats.org/officeDocument/2006/relationships/image" Target="../media/image26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23.jpeg"/><Relationship Id="rId99" Type="http://schemas.openxmlformats.org/officeDocument/2006/relationships/image" Target="../media/image24.jpeg"/><Relationship Id="rId100" Type="http://schemas.openxmlformats.org/officeDocument/2006/relationships/image" Target="../media/image25.jpe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23.jpeg"/><Relationship Id="rId105" Type="http://schemas.openxmlformats.org/officeDocument/2006/relationships/image" Target="../media/image24.jpeg"/><Relationship Id="rId106" Type="http://schemas.openxmlformats.org/officeDocument/2006/relationships/image" Target="../media/image25.jpe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23.jpeg"/><Relationship Id="rId111" Type="http://schemas.openxmlformats.org/officeDocument/2006/relationships/image" Target="../media/image24.jpeg"/><Relationship Id="rId112" Type="http://schemas.openxmlformats.org/officeDocument/2006/relationships/image" Target="../media/image25.jpe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23.jpeg"/><Relationship Id="rId117" Type="http://schemas.openxmlformats.org/officeDocument/2006/relationships/image" Target="../media/image24.jpeg"/><Relationship Id="rId118" Type="http://schemas.openxmlformats.org/officeDocument/2006/relationships/image" Target="../media/image25.jpeg"/><Relationship Id="rId119" Type="http://schemas.openxmlformats.org/officeDocument/2006/relationships/image" Target="../media/image26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23.jpeg"/><Relationship Id="rId124" Type="http://schemas.openxmlformats.org/officeDocument/2006/relationships/image" Target="../media/image24.jpeg"/><Relationship Id="rId125" Type="http://schemas.openxmlformats.org/officeDocument/2006/relationships/image" Target="../media/image25.jpeg"/><Relationship Id="rId126" Type="http://schemas.openxmlformats.org/officeDocument/2006/relationships/image" Target="../media/image5.png"/><Relationship Id="rId127" Type="http://schemas.openxmlformats.org/officeDocument/2006/relationships/image" Target="../media/image5.png"/><Relationship Id="rId128" Type="http://schemas.openxmlformats.org/officeDocument/2006/relationships/image" Target="../media/image5.png"/><Relationship Id="rId129" Type="http://schemas.openxmlformats.org/officeDocument/2006/relationships/image" Target="../media/image23.jpeg"/><Relationship Id="rId130" Type="http://schemas.openxmlformats.org/officeDocument/2006/relationships/image" Target="../media/image24.jpeg"/><Relationship Id="rId131" Type="http://schemas.openxmlformats.org/officeDocument/2006/relationships/image" Target="../media/image25.jpeg"/><Relationship Id="rId132" Type="http://schemas.openxmlformats.org/officeDocument/2006/relationships/image" Target="../media/image5.png"/><Relationship Id="rId133" Type="http://schemas.openxmlformats.org/officeDocument/2006/relationships/image" Target="../media/image5.png"/><Relationship Id="rId134" Type="http://schemas.openxmlformats.org/officeDocument/2006/relationships/image" Target="../media/image5.png"/><Relationship Id="rId135" Type="http://schemas.openxmlformats.org/officeDocument/2006/relationships/image" Target="../media/image23.jpeg"/><Relationship Id="rId136" Type="http://schemas.openxmlformats.org/officeDocument/2006/relationships/image" Target="../media/image24.jpeg"/><Relationship Id="rId137" Type="http://schemas.openxmlformats.org/officeDocument/2006/relationships/image" Target="../media/image25.jpe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23.jpeg"/><Relationship Id="rId142" Type="http://schemas.openxmlformats.org/officeDocument/2006/relationships/image" Target="../media/image24.jpeg"/><Relationship Id="rId143" Type="http://schemas.openxmlformats.org/officeDocument/2006/relationships/image" Target="../media/image25.jpeg"/><Relationship Id="rId144" Type="http://schemas.openxmlformats.org/officeDocument/2006/relationships/image" Target="../media/image26.png"/><Relationship Id="rId145" Type="http://schemas.openxmlformats.org/officeDocument/2006/relationships/image" Target="../media/image5.png"/><Relationship Id="rId146" Type="http://schemas.openxmlformats.org/officeDocument/2006/relationships/image" Target="../media/image5.png"/><Relationship Id="rId147" Type="http://schemas.openxmlformats.org/officeDocument/2006/relationships/image" Target="../media/image5.png"/><Relationship Id="rId148" Type="http://schemas.openxmlformats.org/officeDocument/2006/relationships/image" Target="../media/image23.jpeg"/><Relationship Id="rId149" Type="http://schemas.openxmlformats.org/officeDocument/2006/relationships/image" Target="../media/image24.jpeg"/><Relationship Id="rId150" Type="http://schemas.openxmlformats.org/officeDocument/2006/relationships/image" Target="../media/image25.jpeg"/><Relationship Id="rId151" Type="http://schemas.openxmlformats.org/officeDocument/2006/relationships/image" Target="../media/image5.png"/><Relationship Id="rId152" Type="http://schemas.openxmlformats.org/officeDocument/2006/relationships/image" Target="../media/image5.png"/><Relationship Id="rId153" Type="http://schemas.openxmlformats.org/officeDocument/2006/relationships/image" Target="../media/image5.png"/><Relationship Id="rId154" Type="http://schemas.openxmlformats.org/officeDocument/2006/relationships/image" Target="../media/image23.jpeg"/><Relationship Id="rId155" Type="http://schemas.openxmlformats.org/officeDocument/2006/relationships/image" Target="../media/image24.jpeg"/><Relationship Id="rId156" Type="http://schemas.openxmlformats.org/officeDocument/2006/relationships/image" Target="../media/image25.jpeg"/><Relationship Id="rId157" Type="http://schemas.openxmlformats.org/officeDocument/2006/relationships/image" Target="../media/image5.png"/><Relationship Id="rId158" Type="http://schemas.openxmlformats.org/officeDocument/2006/relationships/image" Target="../media/image5.png"/><Relationship Id="rId159" Type="http://schemas.openxmlformats.org/officeDocument/2006/relationships/image" Target="../media/image5.png"/><Relationship Id="rId160" Type="http://schemas.openxmlformats.org/officeDocument/2006/relationships/image" Target="../media/image23.jpeg"/><Relationship Id="rId161" Type="http://schemas.openxmlformats.org/officeDocument/2006/relationships/image" Target="../media/image24.jpeg"/><Relationship Id="rId162" Type="http://schemas.openxmlformats.org/officeDocument/2006/relationships/image" Target="../media/image25.jpeg"/><Relationship Id="rId163" Type="http://schemas.openxmlformats.org/officeDocument/2006/relationships/image" Target="../media/image5.png"/><Relationship Id="rId164" Type="http://schemas.openxmlformats.org/officeDocument/2006/relationships/image" Target="../media/image5.png"/><Relationship Id="rId165" Type="http://schemas.openxmlformats.org/officeDocument/2006/relationships/image" Target="../media/image5.png"/><Relationship Id="rId166" Type="http://schemas.openxmlformats.org/officeDocument/2006/relationships/image" Target="../media/image23.jpeg"/><Relationship Id="rId167" Type="http://schemas.openxmlformats.org/officeDocument/2006/relationships/image" Target="../media/image24.jpeg"/><Relationship Id="rId168" Type="http://schemas.openxmlformats.org/officeDocument/2006/relationships/image" Target="../media/image25.jpeg"/><Relationship Id="rId169" Type="http://schemas.openxmlformats.org/officeDocument/2006/relationships/image" Target="../media/image26.png"/><Relationship Id="rId170" Type="http://schemas.openxmlformats.org/officeDocument/2006/relationships/image" Target="../media/image5.png"/><Relationship Id="rId171" Type="http://schemas.openxmlformats.org/officeDocument/2006/relationships/image" Target="../media/image5.png"/><Relationship Id="rId172" Type="http://schemas.openxmlformats.org/officeDocument/2006/relationships/image" Target="../media/image5.png"/><Relationship Id="rId173" Type="http://schemas.openxmlformats.org/officeDocument/2006/relationships/image" Target="../media/image23.jpeg"/><Relationship Id="rId174" Type="http://schemas.openxmlformats.org/officeDocument/2006/relationships/image" Target="../media/image24.jpeg"/><Relationship Id="rId175" Type="http://schemas.openxmlformats.org/officeDocument/2006/relationships/image" Target="../media/image25.jpeg"/><Relationship Id="rId176" Type="http://schemas.openxmlformats.org/officeDocument/2006/relationships/image" Target="../media/image5.png"/><Relationship Id="rId177" Type="http://schemas.openxmlformats.org/officeDocument/2006/relationships/image" Target="../media/image5.png"/><Relationship Id="rId178" Type="http://schemas.openxmlformats.org/officeDocument/2006/relationships/image" Target="../media/image5.png"/><Relationship Id="rId179" Type="http://schemas.openxmlformats.org/officeDocument/2006/relationships/image" Target="../media/image23.jpeg"/><Relationship Id="rId180" Type="http://schemas.openxmlformats.org/officeDocument/2006/relationships/image" Target="../media/image24.jpeg"/><Relationship Id="rId181" Type="http://schemas.openxmlformats.org/officeDocument/2006/relationships/image" Target="../media/image25.jpeg"/><Relationship Id="rId18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renater.fr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etu3/potic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1875960"/>
            <a:ext cx="75927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ureautiqu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mmunication d’Entrepris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nné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2256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Processe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'est le “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erveau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”  de l'ordinateur, il contient  différents composants responsables pour l'interprétation des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instructions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et le calcul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78440" y="4083120"/>
            <a:ext cx="1925640" cy="2522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436760" y="4016520"/>
            <a:ext cx="1981080" cy="25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801-879B-4C58-B913-18C5CA4B342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620E1-F25D-4FCB-BAB8-064ADE36E51F}" type="datetime1">
              <a:rPr lang="en-US"/>
              <a:t>07/29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arte Mè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Elle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relie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les différents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omposants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d'un ordinateur, à travers un « bus »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-35136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a carte mère est aussi responsable de contrôler l'accès aux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artes filles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51360" indent="-35136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Cartes fille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761400" indent="-293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s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61400" indent="-293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graphiqu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61400" indent="-293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te réseau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796-6025-4E3C-990F-F7B69C4B57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9706-87E9-4B29-A78D-D0A1C82ACD78}" type="datetime1">
              <a:rPr lang="en-US"/>
              <a:t>07/29/2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arte Mè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39160" cy="446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E32-E94C-4E60-ACA2-84B04AC7A40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377AD-6A7D-49AE-B6E4-4FCA310C99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a mémoire vive (RAM)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1680" y="1915920"/>
            <a:ext cx="8481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Pour travailler avec plusieurs données, le processeur doit utiliser une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mémoire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auxiliaire pour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sauvegarder temporairement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les données</a:t>
            </a:r>
            <a:br>
              <a:rPr sz="2900"/>
            </a:b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La mémoire RAM (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Random Access Memory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) est une mémoire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volatile</a:t>
            </a:r>
            <a:r>
              <a:rPr b="0" lang="fr-FR" sz="2900" spc="-1" strike="noStrike">
                <a:solidFill>
                  <a:srgbClr val="000000"/>
                </a:solidFill>
                <a:latin typeface="Comic Sans MS"/>
              </a:rPr>
              <a:t>, c'est-à-dire qu'elle ne peut garder des informations que si elle est alimentée électriquement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472080" y="5192640"/>
            <a:ext cx="2671920" cy="16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9D1-1A1E-4D36-8484-EC059D2286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2E4FF-987E-47E0-A05D-4F97521F4ECD}" type="datetime1">
              <a:rPr lang="en-US"/>
              <a:t>07/29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mémoires de mass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978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Utiles quand on doit </a:t>
            </a:r>
            <a:r>
              <a:rPr b="0" lang="en-GB" sz="2900" spc="-1" strike="noStrike">
                <a:solidFill>
                  <a:srgbClr val="703dff"/>
                </a:solidFill>
                <a:latin typeface="Comic Sans MS"/>
              </a:rPr>
              <a:t>sauvegarder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les données d'une façon </a:t>
            </a:r>
            <a:r>
              <a:rPr b="0" lang="fr-FR" sz="2900" spc="-1" strike="noStrike">
                <a:solidFill>
                  <a:srgbClr val="703dff"/>
                </a:solidFill>
                <a:latin typeface="Comic Sans MS"/>
              </a:rPr>
              <a:t>persistante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(par exemple, quand l'ordinateur est éteint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omic Sans MS"/>
              </a:rPr>
              <a:t>Disque dur, disquette, Clé USB, CD, DVD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lnSpc>
                <a:spcPct val="13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Plus </a:t>
            </a:r>
            <a:r>
              <a:rPr b="0" lang="en-GB" sz="2900" spc="-1" strike="noStrike">
                <a:solidFill>
                  <a:srgbClr val="703dff"/>
                </a:solidFill>
                <a:latin typeface="Comic Sans MS"/>
              </a:rPr>
              <a:t>lentes</a:t>
            </a: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 que la mémoire vive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1519560" cy="1519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755640" y="479916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804000" y="4724280"/>
            <a:ext cx="1623960" cy="122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700360" y="4869000"/>
            <a:ext cx="136692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2C4-1BB0-4D6A-83D0-421480AA89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41A6-A19F-4400-A66E-FFBF532EF641}" type="datetime1">
              <a:rPr lang="en-US"/>
              <a:t>07/29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capacités à ce jour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8984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moire vive : entre 256Mo et 1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moires de mass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isque dur : entre 40Go et 160Go (voir +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CD-ROM, CD-R, CD-RW : entre 650Mo et 700M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VD, DVD +/- R, DVD +/- RW : de 4Go à 8G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Clé USB : 16Mo, 32Mo, … , 512Mo, 1Go …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mic Sans MS"/>
              </a:rPr>
              <a:t>Disquette : 1.44M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496-64C7-465F-93C8-ED35FC745A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5D1B2-84F0-4686-858C-F5348C6229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0440" y="31680"/>
            <a:ext cx="7837560" cy="16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périphériques d'entrée </a:t>
            </a:r>
            <a:br>
              <a:rPr sz="4000"/>
            </a:b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et de sorti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7520" y="1795320"/>
            <a:ext cx="80992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Ce sont les composants qui permettent à l'ordinateur de </a:t>
            </a:r>
            <a:r>
              <a:rPr b="0" lang="en-US" sz="2900" spc="-1" strike="noStrike">
                <a:solidFill>
                  <a:srgbClr val="703dff"/>
                </a:solidFill>
                <a:latin typeface="Comic Sans MS"/>
              </a:rPr>
              <a:t>communique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avec l'extérieur (utilisateur ou autre ordinateur)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d'entré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clavier, souris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de 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sorti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écran, imprimante, etc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ériphériques d’</a:t>
            </a:r>
            <a:r>
              <a:rPr b="0" lang="en-US" sz="2500" spc="-1" strike="noStrike">
                <a:solidFill>
                  <a:srgbClr val="703dff"/>
                </a:solidFill>
                <a:latin typeface="Comic Sans MS"/>
              </a:rPr>
              <a:t>entrée/sorti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: modem, disque dur, lecteur de CD/DVD, clé USB …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79640" y="5157720"/>
            <a:ext cx="1727280" cy="979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43280" y="5157720"/>
            <a:ext cx="1140120" cy="1141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6732720" y="5084640"/>
            <a:ext cx="1730160" cy="9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4D5-AD36-435B-8853-EC1F7A1277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1A61C-90DD-4259-92DE-8B4DD59BA1B4}" type="datetime1">
              <a:rPr lang="en-US"/>
              <a:t>07/29/26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connec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ès aux périphériques et aux cartes fil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920" y="2708280"/>
            <a:ext cx="9036000" cy="411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9A4-9555-4150-8725-D19F28387A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04E15-A83D-44AC-BBEA-C8CF7643DA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ce veut s’acheter un ordinateur pour la rentrée. Étudiez l’offre qui lui est proposé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7777440" cy="847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7777440" cy="425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770436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79280" y="3578400"/>
            <a:ext cx="8858520" cy="149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4316400"/>
            <a:ext cx="8896320" cy="10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738-F318-4957-A6DC-B8D32103A1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216F6-A7A9-40EB-BA9E-0E957C496F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ions de Base 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éseaux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EE1-E8BD-4E98-B3E8-C3A3312BEB2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3D865-0E35-4F7D-B740-0213D68655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Object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: introduction à la bureau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approprier l’environnement de trav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hercher l'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vegarder, sécuriser, archiver les donn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aliser des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hanger et communiquer à d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E32-91E2-4F97-9B4B-929B54BF01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F6CF0-1F7B-4868-ADD4-7C02C4557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eau local 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LAN – Local Area Network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age d’informations et de ressources dans une organ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seau mondial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nexion des réseaux à travers les dorsales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ckbon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035-C644-4209-822F-07B078E168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CA717-3BE5-4620-BEDA-791CCCE219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ntag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art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’informations et de services, communication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ques :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ir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piratage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Services"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ourrier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fert des fich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E8E-D811-4F20-A7C4-1D08BE6DE7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DDC68-42B4-45A2-924C-45798A6CA1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1844640"/>
            <a:ext cx="3628800" cy="3494160"/>
            <a:chOff x="900000" y="1844640"/>
            <a:chExt cx="3628800" cy="3494160"/>
          </a:xfrm>
        </p:grpSpPr>
        <p:sp>
          <p:nvSpPr>
            <p:cNvPr id="217" name=""/>
            <p:cNvSpPr/>
            <p:nvPr/>
          </p:nvSpPr>
          <p:spPr>
            <a:xfrm>
              <a:off x="3059280" y="4869000"/>
              <a:ext cx="649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15242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 flipH="1">
              <a:off x="2700000" y="3357720"/>
              <a:ext cx="106524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059280" y="2133720"/>
              <a:ext cx="0" cy="15825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411280" y="3284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411280" y="2276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411280" y="458136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59280" y="4005360"/>
              <a:ext cx="0" cy="122220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 flipH="1">
              <a:off x="3347640" y="2398680"/>
              <a:ext cx="11811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flipH="1">
              <a:off x="3058920" y="2637000"/>
              <a:ext cx="433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 flipH="1">
              <a:off x="3634920" y="4370400"/>
              <a:ext cx="69876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1116000" y="1557360"/>
            <a:ext cx="7198920" cy="4463640"/>
            <a:chOff x="1116000" y="1557360"/>
            <a:chExt cx="7198920" cy="4463640"/>
          </a:xfrm>
        </p:grpSpPr>
        <p:grpSp>
          <p:nvGrpSpPr>
            <p:cNvPr id="231" name=""/>
            <p:cNvGrpSpPr/>
            <p:nvPr/>
          </p:nvGrpSpPr>
          <p:grpSpPr>
            <a:xfrm>
              <a:off x="1116000" y="1557360"/>
              <a:ext cx="2376000" cy="1872720"/>
              <a:chOff x="1116000" y="1557360"/>
              <a:chExt cx="2376000" cy="1872720"/>
            </a:xfrm>
          </p:grpSpPr>
          <p:sp>
            <p:nvSpPr>
              <p:cNvPr id="232" name=""/>
              <p:cNvSpPr/>
              <p:nvPr/>
            </p:nvSpPr>
            <p:spPr>
              <a:xfrm>
                <a:off x="2529720" y="3178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00" y="1557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00" y="2135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00" y="2831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2294280" y="2368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2529720" y="1712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105280" y="2329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105280" y="1788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105280" y="3024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29720" y="2715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718720" y="1854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flipH="1">
                <a:off x="2529360" y="1981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906640" y="2911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"/>
            <p:cNvGrpSpPr/>
            <p:nvPr/>
          </p:nvGrpSpPr>
          <p:grpSpPr>
            <a:xfrm>
              <a:off x="5867640" y="1700280"/>
              <a:ext cx="2376360" cy="1872720"/>
              <a:chOff x="5867640" y="1700280"/>
              <a:chExt cx="2376360" cy="18727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6405120" y="3321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7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7246080" y="1700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7246080" y="2278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7246080" y="2973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368040" y="2511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6829920" y="1855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30280" y="2472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30280" y="1931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30280" y="3167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29920" y="2858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640" y="1997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546960" y="2124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95440" y="3054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9" name="" descr=""/>
            <p:cNvPicPr/>
            <p:nvPr/>
          </p:nvPicPr>
          <p:blipFill>
            <a:blip r:embed="rId19"/>
            <a:stretch/>
          </p:blipFill>
          <p:spPr>
            <a:xfrm>
              <a:off x="3924360" y="3129120"/>
              <a:ext cx="1903320" cy="13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"/>
            <p:cNvGrpSpPr/>
            <p:nvPr/>
          </p:nvGrpSpPr>
          <p:grpSpPr>
            <a:xfrm>
              <a:off x="1187280" y="4005360"/>
              <a:ext cx="2376360" cy="1872720"/>
              <a:chOff x="1187280" y="4005360"/>
              <a:chExt cx="2376360" cy="1872720"/>
            </a:xfrm>
          </p:grpSpPr>
          <p:sp>
            <p:nvSpPr>
              <p:cNvPr id="261" name=""/>
              <p:cNvSpPr/>
              <p:nvPr/>
            </p:nvSpPr>
            <p:spPr>
              <a:xfrm>
                <a:off x="2601360" y="562644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187280" y="40053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187280" y="45838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187280" y="52790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23"/>
              <a:stretch/>
            </p:blipFill>
            <p:spPr>
              <a:xfrm flipH="1">
                <a:off x="2365920" y="481644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2601360" y="416016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176920" y="47772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176920" y="4236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176920" y="54723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01360" y="516348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24"/>
              <a:stretch/>
            </p:blipFill>
            <p:spPr>
              <a:xfrm flipH="1">
                <a:off x="2790360" y="430236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 flipH="1">
                <a:off x="2601000" y="442980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25"/>
              <a:stretch/>
            </p:blipFill>
            <p:spPr>
              <a:xfrm flipH="1">
                <a:off x="2978280" y="535932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"/>
            <p:cNvGrpSpPr/>
            <p:nvPr/>
          </p:nvGrpSpPr>
          <p:grpSpPr>
            <a:xfrm>
              <a:off x="5938920" y="4148280"/>
              <a:ext cx="2376000" cy="1872720"/>
              <a:chOff x="5938920" y="4148280"/>
              <a:chExt cx="2376000" cy="1872720"/>
            </a:xfrm>
          </p:grpSpPr>
          <p:sp>
            <p:nvSpPr>
              <p:cNvPr id="275" name=""/>
              <p:cNvSpPr/>
              <p:nvPr/>
            </p:nvSpPr>
            <p:spPr>
              <a:xfrm flipH="1">
                <a:off x="6476400" y="576936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" descr=""/>
              <p:cNvPicPr/>
              <p:nvPr/>
            </p:nvPicPr>
            <p:blipFill>
              <a:blip r:embed="rId26"/>
              <a:stretch/>
            </p:blipFill>
            <p:spPr>
              <a:xfrm flipH="1">
                <a:off x="7317000" y="41482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27"/>
              <a:stretch/>
            </p:blipFill>
            <p:spPr>
              <a:xfrm flipH="1">
                <a:off x="7317000" y="47268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28"/>
              <a:stretch/>
            </p:blipFill>
            <p:spPr>
              <a:xfrm flipH="1">
                <a:off x="7317000" y="542196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6439320" y="495936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6901200" y="430308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01560" y="49201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01560" y="4379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01560" y="56152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01200" y="530640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5938920" y="444528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6618240" y="457272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6066720" y="550224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>
              <a:off x="3059280" y="263700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59280" y="508464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59280" y="2781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2360" y="522936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00720" y="2637000"/>
              <a:ext cx="0" cy="647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59280" y="2781360"/>
              <a:ext cx="0" cy="431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00720" y="4365720"/>
              <a:ext cx="0" cy="71892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32360" y="4437000"/>
              <a:ext cx="0" cy="7923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26920" y="1773360"/>
            <a:ext cx="7777080" cy="4680000"/>
            <a:chOff x="826920" y="1773360"/>
            <a:chExt cx="7777080" cy="4680000"/>
          </a:xfrm>
        </p:grpSpPr>
        <p:grpSp>
          <p:nvGrpSpPr>
            <p:cNvPr id="297" name=""/>
            <p:cNvGrpSpPr/>
            <p:nvPr/>
          </p:nvGrpSpPr>
          <p:grpSpPr>
            <a:xfrm>
              <a:off x="5435640" y="1773360"/>
              <a:ext cx="1800000" cy="1368360"/>
              <a:chOff x="5435640" y="1773360"/>
              <a:chExt cx="1800000" cy="13683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5435640" y="1773360"/>
                <a:ext cx="593640" cy="574200"/>
                <a:chOff x="5435640" y="1773360"/>
                <a:chExt cx="593640" cy="5742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789160" y="22705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0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5435640" y="1773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5435640" y="1950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435640" y="21639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35"/>
                <a:stretch/>
              </p:blipFill>
              <p:spPr>
                <a:xfrm flipH="1">
                  <a:off x="5730120" y="20221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4" name=""/>
                <p:cNvSpPr/>
                <p:nvPr/>
              </p:nvSpPr>
              <p:spPr>
                <a:xfrm>
                  <a:off x="5789160" y="18208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682960" y="2009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5682960" y="184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682960" y="22230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789160" y="21283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9" name="" descr=""/>
                <p:cNvPicPr/>
                <p:nvPr/>
              </p:nvPicPr>
              <p:blipFill>
                <a:blip r:embed="rId36"/>
                <a:stretch/>
              </p:blipFill>
              <p:spPr>
                <a:xfrm flipH="1">
                  <a:off x="5835960" y="18644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 flipH="1">
                  <a:off x="5789160" y="19033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1" name="" descr=""/>
                <p:cNvPicPr/>
                <p:nvPr/>
              </p:nvPicPr>
              <p:blipFill>
                <a:blip r:embed="rId37"/>
                <a:stretch/>
              </p:blipFill>
              <p:spPr>
                <a:xfrm flipH="1">
                  <a:off x="5883120" y="21884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2" name=""/>
              <p:cNvGrpSpPr/>
              <p:nvPr/>
            </p:nvGrpSpPr>
            <p:grpSpPr>
              <a:xfrm>
                <a:off x="6623640" y="1816920"/>
                <a:ext cx="594000" cy="574200"/>
                <a:chOff x="6623640" y="1816920"/>
                <a:chExt cx="594000" cy="5742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6757920" y="23140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4" name="" descr=""/>
                <p:cNvPicPr/>
                <p:nvPr/>
              </p:nvPicPr>
              <p:blipFill>
                <a:blip r:embed="rId38"/>
                <a:stretch/>
              </p:blipFill>
              <p:spPr>
                <a:xfrm flipH="1">
                  <a:off x="6968160" y="18169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39"/>
                <a:stretch/>
              </p:blipFill>
              <p:spPr>
                <a:xfrm flipH="1">
                  <a:off x="6968160" y="1994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40"/>
                <a:stretch/>
              </p:blipFill>
              <p:spPr>
                <a:xfrm flipH="1">
                  <a:off x="6968160" y="220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6748560" y="20656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>
                  <a:off x="6864120" y="18644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864480" y="2053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864480" y="188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64480" y="2266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864120" y="21718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3" name="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6623640" y="19080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6793560" y="194688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5" name="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655320" y="223200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6138000" y="225504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7" name=""/>
              <p:cNvGrpSpPr/>
              <p:nvPr/>
            </p:nvGrpSpPr>
            <p:grpSpPr>
              <a:xfrm>
                <a:off x="5453280" y="2523600"/>
                <a:ext cx="594000" cy="574200"/>
                <a:chOff x="5453280" y="2523600"/>
                <a:chExt cx="594000" cy="5742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806800" y="30207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9" name="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5453280" y="252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5453280" y="27010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5453280" y="291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48"/>
                <a:stretch/>
              </p:blipFill>
              <p:spPr>
                <a:xfrm flipH="1">
                  <a:off x="5748120" y="27723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5806800" y="25711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5700600" y="2760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5700600" y="2594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5700600" y="29732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06800" y="28785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8" name="" descr=""/>
                <p:cNvPicPr/>
                <p:nvPr/>
              </p:nvPicPr>
              <p:blipFill>
                <a:blip r:embed="rId49"/>
                <a:stretch/>
              </p:blipFill>
              <p:spPr>
                <a:xfrm flipH="1">
                  <a:off x="5853960" y="26146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flipH="1">
                  <a:off x="5806440" y="26535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0" name="" descr=""/>
                <p:cNvPicPr/>
                <p:nvPr/>
              </p:nvPicPr>
              <p:blipFill>
                <a:blip r:embed="rId50"/>
                <a:stretch/>
              </p:blipFill>
              <p:spPr>
                <a:xfrm flipH="1">
                  <a:off x="5901120" y="29386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1" name=""/>
              <p:cNvGrpSpPr/>
              <p:nvPr/>
            </p:nvGrpSpPr>
            <p:grpSpPr>
              <a:xfrm>
                <a:off x="6642000" y="2567520"/>
                <a:ext cx="593640" cy="574200"/>
                <a:chOff x="6642000" y="2567520"/>
                <a:chExt cx="593640" cy="574200"/>
              </a:xfrm>
            </p:grpSpPr>
            <p:sp>
              <p:nvSpPr>
                <p:cNvPr id="342" name=""/>
                <p:cNvSpPr/>
                <p:nvPr/>
              </p:nvSpPr>
              <p:spPr>
                <a:xfrm flipH="1">
                  <a:off x="6775920" y="30646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3" name="" descr=""/>
                <p:cNvPicPr/>
                <p:nvPr/>
              </p:nvPicPr>
              <p:blipFill>
                <a:blip r:embed="rId51"/>
                <a:stretch/>
              </p:blipFill>
              <p:spPr>
                <a:xfrm flipH="1">
                  <a:off x="6986160" y="256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52"/>
                <a:stretch/>
              </p:blipFill>
              <p:spPr>
                <a:xfrm flipH="1">
                  <a:off x="6986160" y="2745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53"/>
                <a:stretch/>
              </p:blipFill>
              <p:spPr>
                <a:xfrm flipH="1">
                  <a:off x="6986160" y="295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766920" y="28162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>
                  <a:off x="6882120" y="26150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882480" y="28040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882480" y="2638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82480" y="301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882120" y="29224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2" name="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6642000" y="26586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3" name=""/>
                <p:cNvSpPr/>
                <p:nvPr/>
              </p:nvSpPr>
              <p:spPr>
                <a:xfrm>
                  <a:off x="6811560" y="269748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4" name="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6674040" y="298260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55" name=""/>
              <p:cNvSpPr/>
              <p:nvPr/>
            </p:nvSpPr>
            <p:spPr>
              <a:xfrm>
                <a:off x="5921640" y="210420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21640" y="28544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71640" y="2148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90000" y="2899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82000" y="210420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71640" y="214848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282000" y="263412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90000" y="265608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804000" y="5084640"/>
              <a:ext cx="1800000" cy="1368720"/>
              <a:chOff x="6804000" y="5084640"/>
              <a:chExt cx="1800000" cy="136872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6804000" y="5084640"/>
                <a:ext cx="593640" cy="574200"/>
                <a:chOff x="6804000" y="5084640"/>
                <a:chExt cx="593640" cy="5742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157520" y="5581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6" name="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6804000" y="508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6804000" y="5262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6804000" y="547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60"/>
                <a:stretch/>
              </p:blipFill>
              <p:spPr>
                <a:xfrm flipH="1">
                  <a:off x="7098480" y="5333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>
                  <a:off x="7157520" y="5132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7051320" y="5321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7051320" y="5155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7051320" y="553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157520" y="5439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5" name="" descr=""/>
                <p:cNvPicPr/>
                <p:nvPr/>
              </p:nvPicPr>
              <p:blipFill>
                <a:blip r:embed="rId61"/>
                <a:stretch/>
              </p:blipFill>
              <p:spPr>
                <a:xfrm flipH="1">
                  <a:off x="7204320" y="5175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"/>
                <p:cNvSpPr/>
                <p:nvPr/>
              </p:nvSpPr>
              <p:spPr>
                <a:xfrm flipH="1">
                  <a:off x="7157520" y="5214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7" name="" descr=""/>
                <p:cNvPicPr/>
                <p:nvPr/>
              </p:nvPicPr>
              <p:blipFill>
                <a:blip r:embed="rId62"/>
                <a:stretch/>
              </p:blipFill>
              <p:spPr>
                <a:xfrm flipH="1">
                  <a:off x="7251480" y="5499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8" name=""/>
              <p:cNvGrpSpPr/>
              <p:nvPr/>
            </p:nvGrpSpPr>
            <p:grpSpPr>
              <a:xfrm>
                <a:off x="7992000" y="5128200"/>
                <a:ext cx="594000" cy="574200"/>
                <a:chOff x="7992000" y="5128200"/>
                <a:chExt cx="594000" cy="57420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8126280" y="5625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0" name="" descr=""/>
                <p:cNvPicPr/>
                <p:nvPr/>
              </p:nvPicPr>
              <p:blipFill>
                <a:blip r:embed="rId63"/>
                <a:stretch/>
              </p:blipFill>
              <p:spPr>
                <a:xfrm flipH="1">
                  <a:off x="8336520" y="5128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" descr=""/>
                <p:cNvPicPr/>
                <p:nvPr/>
              </p:nvPicPr>
              <p:blipFill>
                <a:blip r:embed="rId64"/>
                <a:stretch/>
              </p:blipFill>
              <p:spPr>
                <a:xfrm flipH="1">
                  <a:off x="8336520" y="5305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65"/>
                <a:stretch/>
              </p:blipFill>
              <p:spPr>
                <a:xfrm flipH="1">
                  <a:off x="8336520" y="5518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8116920" y="5376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"/>
                <p:cNvSpPr/>
                <p:nvPr/>
              </p:nvSpPr>
              <p:spPr>
                <a:xfrm>
                  <a:off x="8232480" y="5175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232840" y="5364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232840" y="5199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232840" y="557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232480" y="5483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9" name="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7992000" y="5219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"/>
                <p:cNvSpPr/>
                <p:nvPr/>
              </p:nvSpPr>
              <p:spPr>
                <a:xfrm>
                  <a:off x="8161920" y="5258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1" name="" descr="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023680" y="5543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92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506360" y="5566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3" name=""/>
              <p:cNvGrpSpPr/>
              <p:nvPr/>
            </p:nvGrpSpPr>
            <p:grpSpPr>
              <a:xfrm>
                <a:off x="6821640" y="5835240"/>
                <a:ext cx="594000" cy="574200"/>
                <a:chOff x="6821640" y="5835240"/>
                <a:chExt cx="594000" cy="574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175160" y="6332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5" name="" descr="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6821640" y="583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6821640" y="6012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821640" y="6225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3"/>
                <a:stretch/>
              </p:blipFill>
              <p:spPr>
                <a:xfrm flipH="1">
                  <a:off x="7116480" y="6084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"/>
                <p:cNvSpPr/>
                <p:nvPr/>
              </p:nvSpPr>
              <p:spPr>
                <a:xfrm>
                  <a:off x="7175160" y="5882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7068960" y="6071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68960" y="5906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7068960" y="6284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175160" y="6190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4" name="" descr=""/>
                <p:cNvPicPr/>
                <p:nvPr/>
              </p:nvPicPr>
              <p:blipFill>
                <a:blip r:embed="rId74"/>
                <a:stretch/>
              </p:blipFill>
              <p:spPr>
                <a:xfrm flipH="1">
                  <a:off x="7222320" y="5926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 flipH="1">
                  <a:off x="7174800" y="5965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6" name="" descr=""/>
                <p:cNvPicPr/>
                <p:nvPr/>
              </p:nvPicPr>
              <p:blipFill>
                <a:blip r:embed="rId75"/>
                <a:stretch/>
              </p:blipFill>
              <p:spPr>
                <a:xfrm flipH="1">
                  <a:off x="7269480" y="6250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7" name=""/>
              <p:cNvGrpSpPr/>
              <p:nvPr/>
            </p:nvGrpSpPr>
            <p:grpSpPr>
              <a:xfrm>
                <a:off x="8010360" y="5879160"/>
                <a:ext cx="593640" cy="574200"/>
                <a:chOff x="8010360" y="5879160"/>
                <a:chExt cx="593640" cy="57420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8144280" y="6376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9" name="" descr=""/>
                <p:cNvPicPr/>
                <p:nvPr/>
              </p:nvPicPr>
              <p:blipFill>
                <a:blip r:embed="rId76"/>
                <a:stretch/>
              </p:blipFill>
              <p:spPr>
                <a:xfrm flipH="1">
                  <a:off x="8354520" y="5879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77"/>
                <a:stretch/>
              </p:blipFill>
              <p:spPr>
                <a:xfrm flipH="1">
                  <a:off x="8354520" y="605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78"/>
                <a:stretch/>
              </p:blipFill>
              <p:spPr>
                <a:xfrm flipH="1">
                  <a:off x="8354520" y="6269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8135280" y="6127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>
                  <a:off x="8250480" y="5926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250840" y="6115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250840" y="5950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250840" y="6328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250480" y="6234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8" name="" descr="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8010360" y="5970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"/>
                <p:cNvSpPr/>
                <p:nvPr/>
              </p:nvSpPr>
              <p:spPr>
                <a:xfrm>
                  <a:off x="8179920" y="6009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0" name="" descr="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8042400" y="6294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1" name=""/>
              <p:cNvSpPr/>
              <p:nvPr/>
            </p:nvSpPr>
            <p:spPr>
              <a:xfrm>
                <a:off x="7290000" y="5415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90000" y="6166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40000" y="5459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58360" y="6210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50360" y="5415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40000" y="5459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50360" y="5945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58360" y="5967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059280" y="4653000"/>
              <a:ext cx="1800000" cy="1368360"/>
              <a:chOff x="3059280" y="4653000"/>
              <a:chExt cx="1800000" cy="136836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3059280" y="4653000"/>
                <a:ext cx="593640" cy="574200"/>
                <a:chOff x="3059280" y="4653000"/>
                <a:chExt cx="593640" cy="5742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12800" y="5150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2" name="" descr="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3059280" y="4653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3059280" y="4830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3059280" y="504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85"/>
                <a:stretch/>
              </p:blipFill>
              <p:spPr>
                <a:xfrm flipH="1">
                  <a:off x="3353760" y="4901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>
                  <a:off x="3412800" y="4700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3306600" y="4889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3306600" y="4723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3306600" y="5102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12800" y="5007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1" name="" descr=""/>
                <p:cNvPicPr/>
                <p:nvPr/>
              </p:nvPicPr>
              <p:blipFill>
                <a:blip r:embed="rId86"/>
                <a:stretch/>
              </p:blipFill>
              <p:spPr>
                <a:xfrm flipH="1">
                  <a:off x="3459600" y="4744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2" name=""/>
                <p:cNvSpPr/>
                <p:nvPr/>
              </p:nvSpPr>
              <p:spPr>
                <a:xfrm flipH="1">
                  <a:off x="3412800" y="4782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3" name="" descr=""/>
                <p:cNvPicPr/>
                <p:nvPr/>
              </p:nvPicPr>
              <p:blipFill>
                <a:blip r:embed="rId87"/>
                <a:stretch/>
              </p:blipFill>
              <p:spPr>
                <a:xfrm flipH="1">
                  <a:off x="3506760" y="5068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4" name=""/>
              <p:cNvGrpSpPr/>
              <p:nvPr/>
            </p:nvGrpSpPr>
            <p:grpSpPr>
              <a:xfrm>
                <a:off x="4247640" y="4696560"/>
                <a:ext cx="593640" cy="574200"/>
                <a:chOff x="4247640" y="4696560"/>
                <a:chExt cx="593640" cy="574200"/>
              </a:xfrm>
            </p:grpSpPr>
            <p:sp>
              <p:nvSpPr>
                <p:cNvPr id="445" name=""/>
                <p:cNvSpPr/>
                <p:nvPr/>
              </p:nvSpPr>
              <p:spPr>
                <a:xfrm flipH="1">
                  <a:off x="4381560" y="5193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6" name="" descr=""/>
                <p:cNvPicPr/>
                <p:nvPr/>
              </p:nvPicPr>
              <p:blipFill>
                <a:blip r:embed="rId88"/>
                <a:stretch/>
              </p:blipFill>
              <p:spPr>
                <a:xfrm flipH="1">
                  <a:off x="4591800" y="4696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89"/>
                <a:stretch/>
              </p:blipFill>
              <p:spPr>
                <a:xfrm flipH="1">
                  <a:off x="4591800" y="4874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90"/>
                <a:stretch/>
              </p:blipFill>
              <p:spPr>
                <a:xfrm flipH="1">
                  <a:off x="4591800" y="508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4372560" y="4945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0" name=""/>
                <p:cNvSpPr/>
                <p:nvPr/>
              </p:nvSpPr>
              <p:spPr>
                <a:xfrm>
                  <a:off x="4487760" y="4744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88120" y="4933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88120" y="4767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488120" y="5146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87760" y="5051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5" name="" descr="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4247640" y="4787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4417200" y="48265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7" name="" descr="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4279680" y="51116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58" name="" descr=""/>
              <p:cNvPicPr/>
              <p:nvPr/>
            </p:nvPicPr>
            <p:blipFill>
              <a:blip r:embed="rId94"/>
              <a:stretch/>
            </p:blipFill>
            <p:spPr>
              <a:xfrm>
                <a:off x="3761280" y="5134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9" name=""/>
              <p:cNvGrpSpPr/>
              <p:nvPr/>
            </p:nvGrpSpPr>
            <p:grpSpPr>
              <a:xfrm>
                <a:off x="3076920" y="5403240"/>
                <a:ext cx="593640" cy="574200"/>
                <a:chOff x="3076920" y="5403240"/>
                <a:chExt cx="593640" cy="5742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0440" y="5900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1" name="" descr="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3076920" y="5403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3076920" y="5580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3076920" y="5793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98"/>
                <a:stretch/>
              </p:blipFill>
              <p:spPr>
                <a:xfrm flipH="1">
                  <a:off x="3371400" y="5652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>
                  <a:off x="3430440" y="5450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3324240" y="5639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3324240" y="5474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3324240" y="5852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430440" y="5758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0" name="" descr=""/>
                <p:cNvPicPr/>
                <p:nvPr/>
              </p:nvPicPr>
              <p:blipFill>
                <a:blip r:embed="rId99"/>
                <a:stretch/>
              </p:blipFill>
              <p:spPr>
                <a:xfrm flipH="1">
                  <a:off x="3477240" y="5494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 flipH="1">
                  <a:off x="3430440" y="55332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2" name="" descr=""/>
                <p:cNvPicPr/>
                <p:nvPr/>
              </p:nvPicPr>
              <p:blipFill>
                <a:blip r:embed="rId100"/>
                <a:stretch/>
              </p:blipFill>
              <p:spPr>
                <a:xfrm flipH="1">
                  <a:off x="3524400" y="58183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3" name=""/>
              <p:cNvGrpSpPr/>
              <p:nvPr/>
            </p:nvGrpSpPr>
            <p:grpSpPr>
              <a:xfrm>
                <a:off x="4265640" y="5447160"/>
                <a:ext cx="593640" cy="574200"/>
                <a:chOff x="4265640" y="5447160"/>
                <a:chExt cx="593640" cy="574200"/>
              </a:xfrm>
            </p:grpSpPr>
            <p:sp>
              <p:nvSpPr>
                <p:cNvPr id="474" name=""/>
                <p:cNvSpPr/>
                <p:nvPr/>
              </p:nvSpPr>
              <p:spPr>
                <a:xfrm flipH="1">
                  <a:off x="4399560" y="5944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5" name="" descr=""/>
                <p:cNvPicPr/>
                <p:nvPr/>
              </p:nvPicPr>
              <p:blipFill>
                <a:blip r:embed="rId101"/>
                <a:stretch/>
              </p:blipFill>
              <p:spPr>
                <a:xfrm flipH="1">
                  <a:off x="4609800" y="544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102"/>
                <a:stretch/>
              </p:blipFill>
              <p:spPr>
                <a:xfrm flipH="1">
                  <a:off x="4609800" y="562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03"/>
                <a:stretch/>
              </p:blipFill>
              <p:spPr>
                <a:xfrm flipH="1">
                  <a:off x="4609800" y="5837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04"/>
                <a:stretch/>
              </p:blipFill>
              <p:spPr>
                <a:xfrm>
                  <a:off x="4390560" y="5695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"/>
                <p:cNvSpPr/>
                <p:nvPr/>
              </p:nvSpPr>
              <p:spPr>
                <a:xfrm>
                  <a:off x="4505760" y="5494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06120" y="5683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506120" y="5518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506120" y="5896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505760" y="5802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4" name="" descr="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4265640" y="5538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5" name=""/>
                <p:cNvSpPr/>
                <p:nvPr/>
              </p:nvSpPr>
              <p:spPr>
                <a:xfrm>
                  <a:off x="4435200" y="5577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6" name="" descr="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4297680" y="5862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7" name=""/>
              <p:cNvSpPr/>
              <p:nvPr/>
            </p:nvSpPr>
            <p:spPr>
              <a:xfrm>
                <a:off x="3544920" y="4983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44920" y="5734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95280" y="5028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13280" y="5778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05640" y="4983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95280" y="5028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05640" y="5513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013280" y="5535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124000" y="2276640"/>
              <a:ext cx="1800000" cy="1368360"/>
              <a:chOff x="2124000" y="2276640"/>
              <a:chExt cx="1800000" cy="136836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124000" y="2276640"/>
                <a:ext cx="593640" cy="574200"/>
                <a:chOff x="2124000" y="2276640"/>
                <a:chExt cx="593640" cy="574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477520" y="2773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8" name="" descr="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2124000" y="227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2124000" y="2454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2124000" y="2667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10"/>
                <a:stretch/>
              </p:blipFill>
              <p:spPr>
                <a:xfrm flipH="1">
                  <a:off x="2418480" y="2525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2" name=""/>
                <p:cNvSpPr/>
                <p:nvPr/>
              </p:nvSpPr>
              <p:spPr>
                <a:xfrm>
                  <a:off x="2477520" y="2324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2371320" y="2513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2371320" y="2347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2371320" y="2726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77520" y="2631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7" name="" descr=""/>
                <p:cNvPicPr/>
                <p:nvPr/>
              </p:nvPicPr>
              <p:blipFill>
                <a:blip r:embed="rId111"/>
                <a:stretch/>
              </p:blipFill>
              <p:spPr>
                <a:xfrm flipH="1">
                  <a:off x="2524320" y="2367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8" name=""/>
                <p:cNvSpPr/>
                <p:nvPr/>
              </p:nvSpPr>
              <p:spPr>
                <a:xfrm flipH="1">
                  <a:off x="2477520" y="2406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9" name="" descr=""/>
                <p:cNvPicPr/>
                <p:nvPr/>
              </p:nvPicPr>
              <p:blipFill>
                <a:blip r:embed="rId112"/>
                <a:stretch/>
              </p:blipFill>
              <p:spPr>
                <a:xfrm flipH="1">
                  <a:off x="2571480" y="2691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0" name=""/>
              <p:cNvGrpSpPr/>
              <p:nvPr/>
            </p:nvGrpSpPr>
            <p:grpSpPr>
              <a:xfrm>
                <a:off x="3312000" y="2320200"/>
                <a:ext cx="594000" cy="574200"/>
                <a:chOff x="3312000" y="2320200"/>
                <a:chExt cx="594000" cy="574200"/>
              </a:xfrm>
            </p:grpSpPr>
            <p:sp>
              <p:nvSpPr>
                <p:cNvPr id="511" name=""/>
                <p:cNvSpPr/>
                <p:nvPr/>
              </p:nvSpPr>
              <p:spPr>
                <a:xfrm flipH="1">
                  <a:off x="3446280" y="2817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2" name="" descr=""/>
                <p:cNvPicPr/>
                <p:nvPr/>
              </p:nvPicPr>
              <p:blipFill>
                <a:blip r:embed="rId113"/>
                <a:stretch/>
              </p:blipFill>
              <p:spPr>
                <a:xfrm flipH="1">
                  <a:off x="3656520" y="2320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114"/>
                <a:stretch/>
              </p:blipFill>
              <p:spPr>
                <a:xfrm flipH="1">
                  <a:off x="3656520" y="2497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115"/>
                <a:stretch/>
              </p:blipFill>
              <p:spPr>
                <a:xfrm flipH="1">
                  <a:off x="3656520" y="271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3436920" y="2568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6" name=""/>
                <p:cNvSpPr/>
                <p:nvPr/>
              </p:nvSpPr>
              <p:spPr>
                <a:xfrm>
                  <a:off x="3552480" y="2367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552840" y="2556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552840" y="2391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552840" y="2769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552480" y="2675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1" name="" descr=""/>
                <p:cNvPicPr/>
                <p:nvPr/>
              </p:nvPicPr>
              <p:blipFill>
                <a:blip r:embed="rId117"/>
                <a:stretch/>
              </p:blipFill>
              <p:spPr>
                <a:xfrm>
                  <a:off x="3312000" y="2411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"/>
                <p:cNvSpPr/>
                <p:nvPr/>
              </p:nvSpPr>
              <p:spPr>
                <a:xfrm>
                  <a:off x="3481920" y="2450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3" name="" descr=""/>
                <p:cNvPicPr/>
                <p:nvPr/>
              </p:nvPicPr>
              <p:blipFill>
                <a:blip r:embed="rId118"/>
                <a:stretch/>
              </p:blipFill>
              <p:spPr>
                <a:xfrm>
                  <a:off x="3343680" y="2735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4" name="" descr=""/>
              <p:cNvPicPr/>
              <p:nvPr/>
            </p:nvPicPr>
            <p:blipFill>
              <a:blip r:embed="rId119"/>
              <a:stretch/>
            </p:blipFill>
            <p:spPr>
              <a:xfrm>
                <a:off x="2826360" y="275832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5" name=""/>
              <p:cNvGrpSpPr/>
              <p:nvPr/>
            </p:nvGrpSpPr>
            <p:grpSpPr>
              <a:xfrm>
                <a:off x="2141640" y="3026880"/>
                <a:ext cx="594000" cy="574200"/>
                <a:chOff x="2141640" y="3026880"/>
                <a:chExt cx="594000" cy="5742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495160" y="352404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7" name="" descr=""/>
                <p:cNvPicPr/>
                <p:nvPr/>
              </p:nvPicPr>
              <p:blipFill>
                <a:blip r:embed="rId120"/>
                <a:stretch/>
              </p:blipFill>
              <p:spPr>
                <a:xfrm>
                  <a:off x="2141640" y="30268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121"/>
                <a:stretch/>
              </p:blipFill>
              <p:spPr>
                <a:xfrm>
                  <a:off x="2141640" y="3204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122"/>
                <a:stretch/>
              </p:blipFill>
              <p:spPr>
                <a:xfrm>
                  <a:off x="2141640" y="3417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23"/>
                <a:stretch/>
              </p:blipFill>
              <p:spPr>
                <a:xfrm flipH="1">
                  <a:off x="2436480" y="327564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1" name=""/>
                <p:cNvSpPr/>
                <p:nvPr/>
              </p:nvSpPr>
              <p:spPr>
                <a:xfrm>
                  <a:off x="2495160" y="307440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2388960" y="32634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2388960" y="3097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2388960" y="3476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495160" y="338184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6" name="" descr=""/>
                <p:cNvPicPr/>
                <p:nvPr/>
              </p:nvPicPr>
              <p:blipFill>
                <a:blip r:embed="rId124"/>
                <a:stretch/>
              </p:blipFill>
              <p:spPr>
                <a:xfrm flipH="1">
                  <a:off x="2542320" y="311796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"/>
                <p:cNvSpPr/>
                <p:nvPr/>
              </p:nvSpPr>
              <p:spPr>
                <a:xfrm flipH="1">
                  <a:off x="2494800" y="315684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8" name="" descr=""/>
                <p:cNvPicPr/>
                <p:nvPr/>
              </p:nvPicPr>
              <p:blipFill>
                <a:blip r:embed="rId125"/>
                <a:stretch/>
              </p:blipFill>
              <p:spPr>
                <a:xfrm flipH="1">
                  <a:off x="2589480" y="344196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9" name=""/>
              <p:cNvGrpSpPr/>
              <p:nvPr/>
            </p:nvGrpSpPr>
            <p:grpSpPr>
              <a:xfrm>
                <a:off x="3330360" y="3070800"/>
                <a:ext cx="593640" cy="574200"/>
                <a:chOff x="3330360" y="3070800"/>
                <a:chExt cx="593640" cy="574200"/>
              </a:xfrm>
            </p:grpSpPr>
            <p:sp>
              <p:nvSpPr>
                <p:cNvPr id="540" name=""/>
                <p:cNvSpPr/>
                <p:nvPr/>
              </p:nvSpPr>
              <p:spPr>
                <a:xfrm flipH="1">
                  <a:off x="3464280" y="35679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1" name="" descr=""/>
                <p:cNvPicPr/>
                <p:nvPr/>
              </p:nvPicPr>
              <p:blipFill>
                <a:blip r:embed="rId126"/>
                <a:stretch/>
              </p:blipFill>
              <p:spPr>
                <a:xfrm flipH="1">
                  <a:off x="3674520" y="307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127"/>
                <a:stretch/>
              </p:blipFill>
              <p:spPr>
                <a:xfrm flipH="1">
                  <a:off x="3674520" y="32482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128"/>
                <a:stretch/>
              </p:blipFill>
              <p:spPr>
                <a:xfrm flipH="1">
                  <a:off x="3674520" y="3461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29"/>
                <a:stretch/>
              </p:blipFill>
              <p:spPr>
                <a:xfrm>
                  <a:off x="3455280" y="33195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5" name=""/>
                <p:cNvSpPr/>
                <p:nvPr/>
              </p:nvSpPr>
              <p:spPr>
                <a:xfrm>
                  <a:off x="3570480" y="31183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570840" y="33073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570840" y="3141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570840" y="3520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0480" y="34257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0" name="" descr=""/>
                <p:cNvPicPr/>
                <p:nvPr/>
              </p:nvPicPr>
              <p:blipFill>
                <a:blip r:embed="rId130"/>
                <a:stretch/>
              </p:blipFill>
              <p:spPr>
                <a:xfrm>
                  <a:off x="3330360" y="31618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1" name=""/>
                <p:cNvSpPr/>
                <p:nvPr/>
              </p:nvSpPr>
              <p:spPr>
                <a:xfrm>
                  <a:off x="3499920" y="32007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2" name="" descr=""/>
                <p:cNvPicPr/>
                <p:nvPr/>
              </p:nvPicPr>
              <p:blipFill>
                <a:blip r:embed="rId131"/>
                <a:stretch/>
              </p:blipFill>
              <p:spPr>
                <a:xfrm>
                  <a:off x="3362400" y="34858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"/>
              <p:cNvSpPr/>
              <p:nvPr/>
            </p:nvSpPr>
            <p:spPr>
              <a:xfrm>
                <a:off x="2610000" y="2607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10000" y="3357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60000" y="2651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8360" y="34023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970360" y="2607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60000" y="2651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70360" y="313740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078360" y="315936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826920" y="3860640"/>
              <a:ext cx="1800000" cy="1368720"/>
              <a:chOff x="826920" y="3860640"/>
              <a:chExt cx="1800000" cy="13687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826920" y="3860640"/>
                <a:ext cx="593640" cy="574200"/>
                <a:chOff x="826920" y="3860640"/>
                <a:chExt cx="593640" cy="5742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180440" y="4357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64" name="" descr=""/>
                <p:cNvPicPr/>
                <p:nvPr/>
              </p:nvPicPr>
              <p:blipFill>
                <a:blip r:embed="rId132"/>
                <a:stretch/>
              </p:blipFill>
              <p:spPr>
                <a:xfrm>
                  <a:off x="826920" y="386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5" name="" descr=""/>
                <p:cNvPicPr/>
                <p:nvPr/>
              </p:nvPicPr>
              <p:blipFill>
                <a:blip r:embed="rId133"/>
                <a:stretch/>
              </p:blipFill>
              <p:spPr>
                <a:xfrm>
                  <a:off x="826920" y="403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6" name="" descr="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826920" y="425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7" name="" descr=""/>
                <p:cNvPicPr/>
                <p:nvPr/>
              </p:nvPicPr>
              <p:blipFill>
                <a:blip r:embed="rId135"/>
                <a:stretch/>
              </p:blipFill>
              <p:spPr>
                <a:xfrm flipH="1">
                  <a:off x="1121400" y="4109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8" name=""/>
                <p:cNvSpPr/>
                <p:nvPr/>
              </p:nvSpPr>
              <p:spPr>
                <a:xfrm>
                  <a:off x="1180440" y="3908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1074240" y="409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1074240" y="3931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1074240" y="4310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180440" y="4215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3" name="" descr=""/>
                <p:cNvPicPr/>
                <p:nvPr/>
              </p:nvPicPr>
              <p:blipFill>
                <a:blip r:embed="rId136"/>
                <a:stretch/>
              </p:blipFill>
              <p:spPr>
                <a:xfrm flipH="1">
                  <a:off x="1227240" y="3951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"/>
                <p:cNvSpPr/>
                <p:nvPr/>
              </p:nvSpPr>
              <p:spPr>
                <a:xfrm flipH="1">
                  <a:off x="1180440" y="3990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5" name="" descr=""/>
                <p:cNvPicPr/>
                <p:nvPr/>
              </p:nvPicPr>
              <p:blipFill>
                <a:blip r:embed="rId137"/>
                <a:stretch/>
              </p:blipFill>
              <p:spPr>
                <a:xfrm flipH="1">
                  <a:off x="1274400" y="4275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6" name=""/>
              <p:cNvGrpSpPr/>
              <p:nvPr/>
            </p:nvGrpSpPr>
            <p:grpSpPr>
              <a:xfrm>
                <a:off x="2014920" y="3904200"/>
                <a:ext cx="594000" cy="574200"/>
                <a:chOff x="2014920" y="3904200"/>
                <a:chExt cx="594000" cy="574200"/>
              </a:xfrm>
            </p:grpSpPr>
            <p:sp>
              <p:nvSpPr>
                <p:cNvPr id="577" name=""/>
                <p:cNvSpPr/>
                <p:nvPr/>
              </p:nvSpPr>
              <p:spPr>
                <a:xfrm flipH="1">
                  <a:off x="2149200" y="4401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8" name="" descr=""/>
                <p:cNvPicPr/>
                <p:nvPr/>
              </p:nvPicPr>
              <p:blipFill>
                <a:blip r:embed="rId138"/>
                <a:stretch/>
              </p:blipFill>
              <p:spPr>
                <a:xfrm flipH="1">
                  <a:off x="2359440" y="390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9" name="" descr=""/>
                <p:cNvPicPr/>
                <p:nvPr/>
              </p:nvPicPr>
              <p:blipFill>
                <a:blip r:embed="rId139"/>
                <a:stretch/>
              </p:blipFill>
              <p:spPr>
                <a:xfrm flipH="1">
                  <a:off x="2359440" y="4081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40"/>
                <a:stretch/>
              </p:blipFill>
              <p:spPr>
                <a:xfrm flipH="1">
                  <a:off x="2359440" y="4294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2139840" y="4152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2" name=""/>
                <p:cNvSpPr/>
                <p:nvPr/>
              </p:nvSpPr>
              <p:spPr>
                <a:xfrm>
                  <a:off x="2255400" y="3951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255760" y="4140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255760" y="3975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255760" y="4353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5400" y="4259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7" name="" descr="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2014920" y="3995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8" name=""/>
                <p:cNvSpPr/>
                <p:nvPr/>
              </p:nvSpPr>
              <p:spPr>
                <a:xfrm>
                  <a:off x="2184840" y="4034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9" name="" descr="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2046600" y="4319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90" name="" descr=""/>
              <p:cNvPicPr/>
              <p:nvPr/>
            </p:nvPicPr>
            <p:blipFill>
              <a:blip r:embed="rId144"/>
              <a:stretch/>
            </p:blipFill>
            <p:spPr>
              <a:xfrm>
                <a:off x="1529280" y="4342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1" name=""/>
              <p:cNvGrpSpPr/>
              <p:nvPr/>
            </p:nvGrpSpPr>
            <p:grpSpPr>
              <a:xfrm>
                <a:off x="844560" y="4611240"/>
                <a:ext cx="594000" cy="574200"/>
                <a:chOff x="844560" y="4611240"/>
                <a:chExt cx="594000" cy="5742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198080" y="5108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3" name="" descr="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844560" y="461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844560" y="4788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844560" y="5001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48"/>
                <a:stretch/>
              </p:blipFill>
              <p:spPr>
                <a:xfrm flipH="1">
                  <a:off x="1139400" y="4860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7" name=""/>
                <p:cNvSpPr/>
                <p:nvPr/>
              </p:nvSpPr>
              <p:spPr>
                <a:xfrm>
                  <a:off x="1198080" y="4658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1091880" y="4847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1091880" y="4682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1091880" y="5060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198080" y="4966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2" name="" descr=""/>
                <p:cNvPicPr/>
                <p:nvPr/>
              </p:nvPicPr>
              <p:blipFill>
                <a:blip r:embed="rId149"/>
                <a:stretch/>
              </p:blipFill>
              <p:spPr>
                <a:xfrm flipH="1">
                  <a:off x="1245240" y="4702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 flipH="1">
                  <a:off x="1197720" y="4741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4" name="" descr=""/>
                <p:cNvPicPr/>
                <p:nvPr/>
              </p:nvPicPr>
              <p:blipFill>
                <a:blip r:embed="rId150"/>
                <a:stretch/>
              </p:blipFill>
              <p:spPr>
                <a:xfrm flipH="1">
                  <a:off x="1292400" y="5026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5" name=""/>
              <p:cNvGrpSpPr/>
              <p:nvPr/>
            </p:nvGrpSpPr>
            <p:grpSpPr>
              <a:xfrm>
                <a:off x="2033280" y="4655160"/>
                <a:ext cx="593640" cy="574200"/>
                <a:chOff x="2033280" y="4655160"/>
                <a:chExt cx="593640" cy="574200"/>
              </a:xfrm>
            </p:grpSpPr>
            <p:sp>
              <p:nvSpPr>
                <p:cNvPr id="606" name=""/>
                <p:cNvSpPr/>
                <p:nvPr/>
              </p:nvSpPr>
              <p:spPr>
                <a:xfrm flipH="1">
                  <a:off x="2167200" y="5152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7" name="" descr=""/>
                <p:cNvPicPr/>
                <p:nvPr/>
              </p:nvPicPr>
              <p:blipFill>
                <a:blip r:embed="rId151"/>
                <a:stretch/>
              </p:blipFill>
              <p:spPr>
                <a:xfrm flipH="1">
                  <a:off x="2377440" y="4655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" descr=""/>
                <p:cNvPicPr/>
                <p:nvPr/>
              </p:nvPicPr>
              <p:blipFill>
                <a:blip r:embed="rId152"/>
                <a:stretch/>
              </p:blipFill>
              <p:spPr>
                <a:xfrm flipH="1">
                  <a:off x="2377440" y="4832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153"/>
                <a:stretch/>
              </p:blipFill>
              <p:spPr>
                <a:xfrm flipH="1">
                  <a:off x="2377440" y="5045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2158200" y="4903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1" name=""/>
                <p:cNvSpPr/>
                <p:nvPr/>
              </p:nvSpPr>
              <p:spPr>
                <a:xfrm>
                  <a:off x="2273400" y="4702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273760" y="4891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273760" y="4726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273760" y="5104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273400" y="5010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6" name="" descr="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2033280" y="4746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7" name=""/>
                <p:cNvSpPr/>
                <p:nvPr/>
              </p:nvSpPr>
              <p:spPr>
                <a:xfrm>
                  <a:off x="2202840" y="4785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8" name="" descr="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2065320" y="5070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19" name=""/>
              <p:cNvSpPr/>
              <p:nvPr/>
            </p:nvSpPr>
            <p:spPr>
              <a:xfrm>
                <a:off x="1312920" y="4191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12920" y="4942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62920" y="4235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781280" y="4986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673280" y="4191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762920" y="4235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73280" y="4721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781280" y="4743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859280" y="3429000"/>
              <a:ext cx="1800000" cy="1368360"/>
              <a:chOff x="4859280" y="3429000"/>
              <a:chExt cx="1800000" cy="136836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4859280" y="3429000"/>
                <a:ext cx="593640" cy="574200"/>
                <a:chOff x="4859280" y="3429000"/>
                <a:chExt cx="593640" cy="57420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5212800" y="3926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0" name="" descr="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4859280" y="3429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4859280" y="3606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4859280" y="3819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60"/>
                <a:stretch/>
              </p:blipFill>
              <p:spPr>
                <a:xfrm flipH="1">
                  <a:off x="5153760" y="3677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4" name=""/>
                <p:cNvSpPr/>
                <p:nvPr/>
              </p:nvSpPr>
              <p:spPr>
                <a:xfrm>
                  <a:off x="5212800" y="3476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5106600" y="3665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5106600" y="3499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>
                  <a:off x="5106600" y="3878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212800" y="3783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9" name="" descr=""/>
                <p:cNvPicPr/>
                <p:nvPr/>
              </p:nvPicPr>
              <p:blipFill>
                <a:blip r:embed="rId161"/>
                <a:stretch/>
              </p:blipFill>
              <p:spPr>
                <a:xfrm flipH="1">
                  <a:off x="5259600" y="3520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0" name=""/>
                <p:cNvSpPr/>
                <p:nvPr/>
              </p:nvSpPr>
              <p:spPr>
                <a:xfrm flipH="1">
                  <a:off x="5212800" y="3558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1" name="" descr=""/>
                <p:cNvPicPr/>
                <p:nvPr/>
              </p:nvPicPr>
              <p:blipFill>
                <a:blip r:embed="rId162"/>
                <a:stretch/>
              </p:blipFill>
              <p:spPr>
                <a:xfrm flipH="1">
                  <a:off x="5306760" y="3844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2" name=""/>
              <p:cNvGrpSpPr/>
              <p:nvPr/>
            </p:nvGrpSpPr>
            <p:grpSpPr>
              <a:xfrm>
                <a:off x="6047280" y="3472560"/>
                <a:ext cx="594000" cy="574200"/>
                <a:chOff x="6047280" y="3472560"/>
                <a:chExt cx="594000" cy="574200"/>
              </a:xfrm>
            </p:grpSpPr>
            <p:sp>
              <p:nvSpPr>
                <p:cNvPr id="643" name=""/>
                <p:cNvSpPr/>
                <p:nvPr/>
              </p:nvSpPr>
              <p:spPr>
                <a:xfrm flipH="1">
                  <a:off x="6181560" y="3969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4" name="" descr=""/>
                <p:cNvPicPr/>
                <p:nvPr/>
              </p:nvPicPr>
              <p:blipFill>
                <a:blip r:embed="rId163"/>
                <a:stretch/>
              </p:blipFill>
              <p:spPr>
                <a:xfrm flipH="1">
                  <a:off x="6391800" y="3472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164"/>
                <a:stretch/>
              </p:blipFill>
              <p:spPr>
                <a:xfrm flipH="1">
                  <a:off x="6391800" y="3650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" descr=""/>
                <p:cNvPicPr/>
                <p:nvPr/>
              </p:nvPicPr>
              <p:blipFill>
                <a:blip r:embed="rId165"/>
                <a:stretch/>
              </p:blipFill>
              <p:spPr>
                <a:xfrm flipH="1">
                  <a:off x="6391800" y="386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6172200" y="3721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8" name=""/>
                <p:cNvSpPr/>
                <p:nvPr/>
              </p:nvSpPr>
              <p:spPr>
                <a:xfrm>
                  <a:off x="6287760" y="3520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288120" y="3709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288120" y="3543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288120" y="3922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87760" y="3827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3" name="" descr="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6047280" y="3563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4" name=""/>
                <p:cNvSpPr/>
                <p:nvPr/>
              </p:nvSpPr>
              <p:spPr>
                <a:xfrm>
                  <a:off x="6217200" y="360252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5" name="" descr="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6078960" y="388764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56" name="" descr=""/>
              <p:cNvPicPr/>
              <p:nvPr/>
            </p:nvPicPr>
            <p:blipFill>
              <a:blip r:embed="rId169"/>
              <a:stretch/>
            </p:blipFill>
            <p:spPr>
              <a:xfrm>
                <a:off x="5561640" y="3910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7" name=""/>
              <p:cNvGrpSpPr/>
              <p:nvPr/>
            </p:nvGrpSpPr>
            <p:grpSpPr>
              <a:xfrm>
                <a:off x="4876920" y="4179240"/>
                <a:ext cx="594000" cy="574200"/>
                <a:chOff x="4876920" y="4179240"/>
                <a:chExt cx="594000" cy="5742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230440" y="4676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9" name="" descr="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4876920" y="4179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4876920" y="4356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4876920" y="4569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173"/>
                <a:stretch/>
              </p:blipFill>
              <p:spPr>
                <a:xfrm flipH="1">
                  <a:off x="5171760" y="4428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3" name=""/>
                <p:cNvSpPr/>
                <p:nvPr/>
              </p:nvSpPr>
              <p:spPr>
                <a:xfrm>
                  <a:off x="5230440" y="4226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5124240" y="4415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5124240" y="4250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5124240" y="4628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230440" y="4534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8" name="" descr=""/>
                <p:cNvPicPr/>
                <p:nvPr/>
              </p:nvPicPr>
              <p:blipFill>
                <a:blip r:embed="rId174"/>
                <a:stretch/>
              </p:blipFill>
              <p:spPr>
                <a:xfrm flipH="1">
                  <a:off x="5277600" y="4270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9" name=""/>
                <p:cNvSpPr/>
                <p:nvPr/>
              </p:nvSpPr>
              <p:spPr>
                <a:xfrm flipH="1">
                  <a:off x="5230080" y="4309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0" name="" descr=""/>
                <p:cNvPicPr/>
                <p:nvPr/>
              </p:nvPicPr>
              <p:blipFill>
                <a:blip r:embed="rId175"/>
                <a:stretch/>
              </p:blipFill>
              <p:spPr>
                <a:xfrm flipH="1">
                  <a:off x="5324760" y="4594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71" name=""/>
              <p:cNvGrpSpPr/>
              <p:nvPr/>
            </p:nvGrpSpPr>
            <p:grpSpPr>
              <a:xfrm>
                <a:off x="6065640" y="4223160"/>
                <a:ext cx="593640" cy="574200"/>
                <a:chOff x="6065640" y="4223160"/>
                <a:chExt cx="593640" cy="574200"/>
              </a:xfrm>
            </p:grpSpPr>
            <p:sp>
              <p:nvSpPr>
                <p:cNvPr id="672" name=""/>
                <p:cNvSpPr/>
                <p:nvPr/>
              </p:nvSpPr>
              <p:spPr>
                <a:xfrm flipH="1">
                  <a:off x="6199560" y="4720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73" name="" descr=""/>
                <p:cNvPicPr/>
                <p:nvPr/>
              </p:nvPicPr>
              <p:blipFill>
                <a:blip r:embed="rId176"/>
                <a:stretch/>
              </p:blipFill>
              <p:spPr>
                <a:xfrm flipH="1">
                  <a:off x="6409800" y="422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77"/>
                <a:stretch/>
              </p:blipFill>
              <p:spPr>
                <a:xfrm flipH="1">
                  <a:off x="6409800" y="440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78"/>
                <a:stretch/>
              </p:blipFill>
              <p:spPr>
                <a:xfrm flipH="1">
                  <a:off x="6409800" y="4613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6190560" y="4471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7" name=""/>
                <p:cNvSpPr/>
                <p:nvPr/>
              </p:nvSpPr>
              <p:spPr>
                <a:xfrm>
                  <a:off x="6305760" y="4270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06120" y="4459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306120" y="4294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06120" y="4672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305760" y="4578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2" name="" descr="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6065640" y="4314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3" name=""/>
                <p:cNvSpPr/>
                <p:nvPr/>
              </p:nvSpPr>
              <p:spPr>
                <a:xfrm>
                  <a:off x="6235200" y="4353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4" name="" descr="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6097680" y="4638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85" name=""/>
              <p:cNvSpPr/>
              <p:nvPr/>
            </p:nvSpPr>
            <p:spPr>
              <a:xfrm>
                <a:off x="5345280" y="3759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45280" y="4510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95280" y="3804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13640" y="4554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05640" y="3759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795280" y="3804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05640" y="4289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13640" y="4311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93" name=""/>
            <p:cNvCxnSpPr>
              <a:stCxn id="458" idx="0"/>
              <a:endCxn id="560" idx="0"/>
            </p:cNvCxnSpPr>
            <p:nvPr/>
          </p:nvCxnSpPr>
          <p:spPr>
            <a:xfrm flipV="1" rot="16200000">
              <a:off x="2686320" y="3821040"/>
              <a:ext cx="1704240" cy="921600"/>
            </a:xfrm>
            <a:prstGeom prst="bentConnector3">
              <a:avLst>
                <a:gd name="adj1" fmla="val 50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4" name=""/>
            <p:cNvCxnSpPr>
              <a:stCxn id="590" idx="0"/>
              <a:endCxn id="524" idx="2"/>
            </p:cNvCxnSpPr>
            <p:nvPr/>
          </p:nvCxnSpPr>
          <p:spPr>
            <a:xfrm flipH="1" flipV="1" rot="5400000">
              <a:off x="1823400" y="3101400"/>
              <a:ext cx="1183680" cy="12978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5" name=""/>
            <p:cNvCxnSpPr>
              <a:stCxn id="392" idx="0"/>
              <a:endCxn id="656" idx="2"/>
            </p:cNvCxnSpPr>
            <p:nvPr/>
          </p:nvCxnSpPr>
          <p:spPr>
            <a:xfrm flipV="1" rot="16200000">
              <a:off x="6144120" y="3965400"/>
              <a:ext cx="1254600" cy="194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6" name=""/>
            <p:cNvCxnSpPr>
              <a:stCxn id="656" idx="0"/>
              <a:endCxn id="362" idx="0"/>
            </p:cNvCxnSpPr>
            <p:nvPr/>
          </p:nvCxnSpPr>
          <p:spPr>
            <a:xfrm flipH="1" flipV="1" rot="5400000">
              <a:off x="5452920" y="2972880"/>
              <a:ext cx="1283400" cy="591120"/>
            </a:xfrm>
            <a:prstGeom prst="bentConnector3">
              <a:avLst>
                <a:gd name="adj1" fmla="val 178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7" name=""/>
            <p:cNvCxnSpPr>
              <a:stCxn id="524" idx="3"/>
              <a:endCxn id="326" idx="1"/>
            </p:cNvCxnSpPr>
            <p:nvPr/>
          </p:nvCxnSpPr>
          <p:spPr>
            <a:xfrm flipV="1">
              <a:off x="3301920" y="2455560"/>
              <a:ext cx="2835720" cy="50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98" name=""/>
          <p:cNvSpPr/>
          <p:nvPr/>
        </p:nvSpPr>
        <p:spPr>
          <a:xfrm>
            <a:off x="5560200" y="836640"/>
            <a:ext cx="18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ress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xx.xxx.xxx.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94.214.170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64000" y="170028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47720" y="18900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iuta.univ-nancy2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"/>
          <p:cNvCxnSpPr>
            <a:stCxn id="698" idx="1"/>
            <a:endCxn id="700" idx="2"/>
          </p:cNvCxnSpPr>
          <p:nvPr/>
        </p:nvCxnSpPr>
        <p:spPr>
          <a:xfrm flipH="1" flipV="1">
            <a:off x="4843080" y="829800"/>
            <a:ext cx="6343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4904640" y="3500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8176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09920" y="4221000"/>
            <a:ext cx="1917360" cy="1514520"/>
            <a:chOff x="709920" y="4221000"/>
            <a:chExt cx="1917360" cy="1514520"/>
          </a:xfrm>
        </p:grpSpPr>
        <p:sp>
          <p:nvSpPr>
            <p:cNvPr id="705" name=""/>
            <p:cNvSpPr/>
            <p:nvPr/>
          </p:nvSpPr>
          <p:spPr>
            <a:xfrm>
              <a:off x="755640" y="4221000"/>
              <a:ext cx="1871640" cy="1224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9920" y="53672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783160" y="4149720"/>
            <a:ext cx="2317320" cy="1937880"/>
            <a:chOff x="2783160" y="4149720"/>
            <a:chExt cx="2317320" cy="1937880"/>
          </a:xfrm>
        </p:grpSpPr>
        <p:sp>
          <p:nvSpPr>
            <p:cNvPr id="708" name=""/>
            <p:cNvSpPr/>
            <p:nvPr/>
          </p:nvSpPr>
          <p:spPr>
            <a:xfrm>
              <a:off x="3421080" y="4149720"/>
              <a:ext cx="1079640" cy="1366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83160" y="5445000"/>
              <a:ext cx="23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eu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.ex. ADPEDA, ETU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268080" y="1982880"/>
            <a:ext cx="1395360" cy="1301760"/>
            <a:chOff x="3268080" y="1982880"/>
            <a:chExt cx="1395360" cy="1301760"/>
          </a:xfrm>
        </p:grpSpPr>
        <p:sp>
          <p:nvSpPr>
            <p:cNvPr id="711" name=""/>
            <p:cNvSpPr/>
            <p:nvPr/>
          </p:nvSpPr>
          <p:spPr>
            <a:xfrm>
              <a:off x="3276720" y="2349360"/>
              <a:ext cx="1295280" cy="93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68080" y="1982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E70-1735-4B46-A29A-D0DB4F85680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AEB0C-E4A0-4EE4-90F3-BDE477CE73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La Dorsale (Backbone) RENATER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184720" cy="510552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6577200" y="2133720"/>
            <a:ext cx="2361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renater.fr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7EB-9A6E-49C4-9C19-78A4BA562FF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659E2-631A-401F-AD5E-8D34AB2B9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s Interne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6200000">
            <a:off x="5976720" y="353664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582520" y="425592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4941720"/>
            <a:ext cx="3024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com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org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asso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associati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012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F44-E440-4390-9C4D-E807A24620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0C5DC-1343-4D6C-AF4F-DB8A9D0CDE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eau Loca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ès à un serveur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\\serveur\répertoi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 exemple :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\\etu3\p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1405080" y="40100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5856120" y="4005360"/>
            <a:ext cx="1524240" cy="11174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 flipH="1" rot="21255000">
            <a:off x="3924000" y="4009680"/>
            <a:ext cx="1727280" cy="504720"/>
          </a:xfrm>
          <a:custGeom>
            <a:avLst/>
            <a:gdLst>
              <a:gd name="textAreaLeft" fmla="*/ 302040 w 1727280"/>
              <a:gd name="textAreaRight" fmla="*/ 1252440 w 1727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24680" y="5373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79320" y="5300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5"/>
          <a:stretch/>
        </p:blipFill>
        <p:spPr>
          <a:xfrm>
            <a:off x="2268360" y="393876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6"/>
          <a:stretch/>
        </p:blipFill>
        <p:spPr>
          <a:xfrm>
            <a:off x="2916360" y="4730760"/>
            <a:ext cx="1224000" cy="30636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7"/>
          <a:stretch/>
        </p:blipFill>
        <p:spPr>
          <a:xfrm>
            <a:off x="2557440" y="4299120"/>
            <a:ext cx="719280" cy="3790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8"/>
          <a:stretch/>
        </p:blipFill>
        <p:spPr>
          <a:xfrm>
            <a:off x="3276720" y="4340160"/>
            <a:ext cx="504720" cy="31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B42-6556-4B97-86C7-2017F046A8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789A1-68C7-4640-8954-89519C0471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stions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D4C-7BEA-4BAC-AEC3-9FC2A54A667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7B28F-BFE9-4A2E-AB66-0C0E10D34C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séances de 2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sentation des concepts et travaux pratiques sur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Évalu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3 travaux prat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/3 examen en fin de se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EE9-90F1-4665-AD9B-B3158171D4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3D7AE-A4DF-45A1-B8FF-72105B2744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gramm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ions de base : architecture et matéri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ions de base : réseau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ème d’exploitation : Windo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: Navigation sur le Web, messagerie, etc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itement de texte : 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bleur : Exce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79B-9016-40B4-814C-CD83739607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792B6-394C-487D-9FE8-752CF089D5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ions de Base 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hitecture et Matériel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E8B-2ED0-4326-B7E6-6C912B6C95A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6A96-DE32-4381-BC6C-848B35187C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rchitecture et Matérie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900080"/>
            <a:ext cx="47512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ordinateu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st une machine électronique qui permet l'exécution des program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program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st un ensemble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'instruc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ui seront exécutées par l’ordinat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4260960" y="5300640"/>
            <a:ext cx="47750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rdw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19640" y="1197000"/>
            <a:ext cx="3744720" cy="3540600"/>
            <a:chOff x="5219640" y="1197000"/>
            <a:chExt cx="3744720" cy="3540600"/>
          </a:xfrm>
        </p:grpSpPr>
        <p:grpSp>
          <p:nvGrpSpPr>
            <p:cNvPr id="156" name=""/>
            <p:cNvGrpSpPr/>
            <p:nvPr/>
          </p:nvGrpSpPr>
          <p:grpSpPr>
            <a:xfrm>
              <a:off x="5219640" y="2765160"/>
              <a:ext cx="3700080" cy="1972440"/>
              <a:chOff x="5219640" y="2765160"/>
              <a:chExt cx="3700080" cy="1972440"/>
            </a:xfrm>
          </p:grpSpPr>
          <p:sp>
            <p:nvSpPr>
              <p:cNvPr id="157" name=""/>
              <p:cNvSpPr/>
              <p:nvPr/>
            </p:nvSpPr>
            <p:spPr>
              <a:xfrm>
                <a:off x="5219640" y="4277880"/>
                <a:ext cx="37000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f66"/>
                    </a:solidFill>
                    <a:latin typeface="Comic Sans MS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38000" y="3701520"/>
                <a:ext cx="3681360" cy="45972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ef66"/>
                    </a:solidFill>
                    <a:latin typeface="Comic Sans MS"/>
                  </a:rPr>
                  <a:t>Système d’exploit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5238000" y="2765160"/>
                <a:ext cx="3681360" cy="865080"/>
                <a:chOff x="5238000" y="2765160"/>
                <a:chExt cx="3681360" cy="865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238000" y="2765160"/>
                  <a:ext cx="3681360" cy="4597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Applicati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38000" y="3269880"/>
                  <a:ext cx="1078200" cy="3585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380640" y="3269880"/>
                  <a:ext cx="101412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59560" y="3269880"/>
                  <a:ext cx="101412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538480" y="3269880"/>
                  <a:ext cx="38052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8012880" y="1197000"/>
              <a:ext cx="951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2428800">
              <a:off x="7504560" y="1528200"/>
              <a:ext cx="444960" cy="1150560"/>
            </a:xfrm>
            <a:custGeom>
              <a:avLst/>
              <a:gdLst>
                <a:gd name="textAreaLeft" fmla="*/ 59400 w 444960"/>
                <a:gd name="textAreaRight" fmla="*/ 385560 w 444960"/>
                <a:gd name="textAreaTop" fmla="*/ 201240 h 1150560"/>
                <a:gd name="textAreaBottom" fmla="*/ 83412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199-175A-4DBD-B71E-C26DF9F581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C1BDD-693E-4E91-9438-AF75120034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dage Numér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communications à l'intérieur de l'ordinateur sont faites à travers les 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signaux électr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ur simplicité et fiabilité, ces signaux ont deux états seulement</a:t>
            </a:r>
            <a:r>
              <a:rPr b="0" lang="fr-FR" sz="2600" spc="-1" strike="noStrike">
                <a:solidFill>
                  <a:srgbClr val="703dff"/>
                </a:solidFill>
                <a:latin typeface="Comic Sans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0 – éteint (absence de signal électriq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1 – allumé (présence de signal électriq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Une unité d'information (0 ou 1) est appelée </a:t>
            </a:r>
            <a:r>
              <a:rPr b="0" i="1" lang="fr-FR" sz="2800" spc="-1" strike="noStrike">
                <a:solidFill>
                  <a:srgbClr val="9933ff"/>
                </a:solidFill>
                <a:latin typeface="Comic Sans MS"/>
              </a:rPr>
              <a:t>bit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 (de l'anglais binary digi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6 (décimal) = </a:t>
            </a: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000" spc="-1" strike="noStrike" baseline="33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000" spc="-1" strike="noStrike" baseline="33000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0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x2</a:t>
            </a:r>
            <a:r>
              <a:rPr b="0" lang="fr-FR" sz="2000" spc="-1" strike="noStrike" baseline="33000">
                <a:solidFill>
                  <a:srgbClr val="00b200"/>
                </a:solidFill>
                <a:latin typeface="Comic Sans MS"/>
              </a:rPr>
              <a:t>0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 = 110 (binaire)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BD1-6A8A-442D-B9FC-A218B41B42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26871-528A-433B-91F7-3F855FB69E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872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Bits, Bytes, octets, etc...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9240" y="1926720"/>
            <a:ext cx="77090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Bi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– une unité binaire (0 ou 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Octe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ou </a:t>
            </a: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By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) – groupe de 8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Kilo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Ko) – 1024 octe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Méga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Mo) – 1024Ko - 1048576 oct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Comic Sans MS"/>
              </a:rPr>
              <a:t>Giga-octet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Go) – 1024 Mo - 1073741824 oct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8000" indent="-3780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ourquoi 1Ko ≠ 1000 octe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624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encore, à cause de la base binair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F28-7733-48B0-9B43-C6D90B8993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11E55-9DB9-4AF5-93A4-4A930B9BAAED}" type="datetime1">
              <a:rPr lang="en-US"/>
              <a:t>07/29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6436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es composants intern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n ordinateur est composé au moins de 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rocesseur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arte mèr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émoire viv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mémoires de mass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315720">
              <a:spcBef>
                <a:spcPts val="575"/>
              </a:spcBef>
              <a:buClr>
                <a:srgbClr val="000000"/>
              </a:buClr>
              <a:buFont typeface="Comic Sans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périphériqu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335480" y="2852640"/>
            <a:ext cx="4808520" cy="3322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2089080" cy="1530360"/>
          </a:xfrm>
          <a:prstGeom prst="rect">
            <a:avLst/>
          </a:prstGeom>
          <a:ln w="0">
            <a:noFill/>
          </a:ln>
        </p:spPr>
      </p:pic>
      <p:cxnSp>
        <p:nvCxnSpPr>
          <p:cNvPr id="175" name=""/>
          <p:cNvCxnSpPr>
            <a:stCxn id="174" idx="3"/>
          </p:cNvCxnSpPr>
          <p:nvPr/>
        </p:nvCxnSpPr>
        <p:spPr>
          <a:xfrm>
            <a:off x="7165800" y="1890720"/>
            <a:ext cx="286560" cy="962640"/>
          </a:xfrm>
          <a:prstGeom prst="bentConnector2">
            <a:avLst/>
          </a:prstGeom>
          <a:ln w="38160">
            <a:solidFill>
              <a:srgbClr val="703dff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600-FC2F-411E-A121-C71FF9A388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A684B-E9E9-4213-95C8-55F8260D0C4B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2:18:13Z</dcterms:created>
  <dc:creator>Manuele Kirsch Pinheiro</dc:creator>
  <dc:description/>
  <dc:language>en-US</dc:language>
  <cp:lastModifiedBy>Manuele Kirsch Pinheiro</cp:lastModifiedBy>
  <dcterms:modified xsi:type="dcterms:W3CDTF">2006-09-11T18:22:28Z</dcterms:modified>
  <cp:revision>20</cp:revision>
  <dc:subject/>
  <dc:title>Informatique Générale ML-AS</dc:title>
</cp:coreProperties>
</file>