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587F-DE8A-4136-BA96-CB9C360331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e référence à l’activité correspond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éciser qu’on peut spécifier la casse de la chaîne à recherche et de la chaîne de rem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fort : rendre un document présentant des coquilles n’est plus pardon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éciser que les performances du correcteur grammatical ne sont pas toujours excellentes (exemple de « Julie es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tonné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», « je marche dans un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n’insistera pas sur la notion de section.  Il est seulement important de remarquer que la section a des attributs de mise en page propre (taille du papier, marges, nombre de colonnes,…) et qu’il est possible de créer un document avec plusieurs s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e référence à la notion de répétition. Préciser que ces attributs dépendent de la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sur lequel se base tous les autres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el sur le style et le style sur lequel il se base. Ici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C46-30D2-4E49-92E1-3ECD4C58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175-BD33-4E52-BF5D-93B18F94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B0F-C2D1-4A3A-9ED8-2802D9A3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6D4-FCA4-481C-99A8-903CFF83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A581-487F-4F02-A932-432CE577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F306-A844-4F2E-B316-BEC8BD18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E25A-C9EF-4C00-8CF0-719CF38A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591F-A238-4A34-A38A-7C714813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2C5C-60B3-4EDB-96CF-8ED8069C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741672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C227-0693-44B0-BAAD-7883DBCA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7F42-5955-4438-9D13-0516CA57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660-6789-4212-8E0B-8833043A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B8F3-33ED-4CDE-B09C-C47484AD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D2FB-545D-42DF-8F8A-AEFFFD9F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8DAF-766E-43D8-BF6C-31AC5930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DF19-EFF1-4559-8F6A-0F873F93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B00C-66EA-4F3A-8189-4D8A9D04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6C1-1D3C-41E0-A3CB-6EB9F832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D10-67FA-4964-A4CE-9884D095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D5F-E9EC-43E7-A90D-EC1969EF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115920"/>
            <a:ext cx="741672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EBD-6A76-414B-ADEA-E372CF1D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A87-0C6D-4E07-AB2F-BABB2DAB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830-4690-4ACD-A4D5-D9C6B3EF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E4A-F6ED-4344-8D97-FDA0744D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4D79-6EC8-4506-9759-3C26056831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A7B6-0476-44B2-90E3-90478B2F78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raitement de texte 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ord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59280" y="2035080"/>
            <a:ext cx="5486400" cy="4057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00000" y="3284640"/>
            <a:ext cx="182268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Bor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9040" y="1484280"/>
            <a:ext cx="41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rdure et t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5486400" cy="4057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900000" y="2421000"/>
            <a:ext cx="1828800" cy="99036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Bordures </a:t>
            </a:r>
            <a:br>
              <a:rPr sz="2400"/>
            </a:b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d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486400" cy="4057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71640" y="2781360"/>
            <a:ext cx="1828800" cy="99072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Trame </a:t>
            </a:r>
            <a:br>
              <a:rPr sz="2400"/>
            </a:b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de f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br>
              <a:rPr sz="4000"/>
            </a:b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Retraits, Taquets de tabulation</a:t>
            </a:r>
            <a:endParaRPr b="0" lang="en-US" sz="24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uble-clic sur une marque de retrait, de tabulation: accès au menu correspond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7772400" cy="1263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19440" y="3276720"/>
            <a:ext cx="132732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Re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200400" y="3657600"/>
            <a:ext cx="1319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6095880"/>
            <a:ext cx="175248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Tab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504960" y="4723920"/>
            <a:ext cx="2438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572000" y="4723920"/>
            <a:ext cx="1447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6880" y="306864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ab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aquets de tabul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535640" cy="4132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12520" y="141912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ab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docume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676760" cy="4591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5040" y="3849840"/>
            <a:ext cx="198108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M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489040" y="2841120"/>
            <a:ext cx="1656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5040" y="5002200"/>
            <a:ext cx="198108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849400" y="3994200"/>
            <a:ext cx="1366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0280" y="141912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chi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ise en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docume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4676760" cy="4591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9480" y="4114800"/>
            <a:ext cx="2362320" cy="83808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Dimension</a:t>
            </a:r>
            <a:br>
              <a:rPr sz="2400"/>
            </a:b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 des feu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057400" y="3200040"/>
            <a:ext cx="2232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docume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4608360" cy="4524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438200" y="2852640"/>
            <a:ext cx="1981440" cy="106704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En-tête 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Pied d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’être et le paraît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ur une qualité optimale, utiliser les commandes appropriées de mise en for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e mauvaise mise en forme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ession de mauvaise qua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ication (style, ajout de texte,…) diffic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ils (table des matières,…) inutilis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particulier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érencier retour à la lign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hift-entré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in de paragraph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entré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fin de pag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trl-entré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iliser les </a:t>
            </a:r>
            <a:r>
              <a:rPr b="1" i="1" lang="en-US" sz="2400" spc="-1" strike="noStrike">
                <a:solidFill>
                  <a:srgbClr val="703dff"/>
                </a:solidFill>
                <a:latin typeface="Comic Sans MS"/>
              </a:rPr>
              <a:t>sty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ur Word, créer un document identique au document exe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auvegarder le document créé avec le nom « experimentation .doc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éfini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 traitement de texte est une application destinée à mettre en forme un tex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es principales fonctionnalités visent à faciliter la conception, la rédaction et la révision d'un document textu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pproche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YSIWY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What You See Is What You Get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mic Sans MS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penOffice Wri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90416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2513160" y="2417760"/>
            <a:ext cx="6257520" cy="762840"/>
            <a:chOff x="2513160" y="2417760"/>
            <a:chExt cx="6257520" cy="762840"/>
          </a:xfrm>
        </p:grpSpPr>
        <p:sp>
          <p:nvSpPr>
            <p:cNvPr id="235" name=""/>
            <p:cNvSpPr/>
            <p:nvPr/>
          </p:nvSpPr>
          <p:spPr>
            <a:xfrm>
              <a:off x="2513160" y="2417760"/>
              <a:ext cx="60948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11840" y="2720880"/>
              <a:ext cx="29588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haîne à recher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7" name=""/>
            <p:cNvCxnSpPr>
              <a:stCxn id="236" idx="0"/>
              <a:endCxn id="235" idx="6"/>
            </p:cNvCxnSpPr>
            <p:nvPr/>
          </p:nvCxnSpPr>
          <p:spPr>
            <a:xfrm flipV="1" rot="16200000">
              <a:off x="5130720" y="561600"/>
              <a:ext cx="153360" cy="41691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38" name=""/>
          <p:cNvGrpSpPr/>
          <p:nvPr/>
        </p:nvGrpSpPr>
        <p:grpSpPr>
          <a:xfrm>
            <a:off x="4034880" y="3484440"/>
            <a:ext cx="3050280" cy="1829880"/>
            <a:chOff x="4034880" y="3484440"/>
            <a:chExt cx="3050280" cy="1829880"/>
          </a:xfrm>
        </p:grpSpPr>
        <p:sp>
          <p:nvSpPr>
            <p:cNvPr id="239" name=""/>
            <p:cNvSpPr/>
            <p:nvPr/>
          </p:nvSpPr>
          <p:spPr>
            <a:xfrm>
              <a:off x="5942160" y="3484440"/>
              <a:ext cx="1143000" cy="6098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4880" y="4854600"/>
              <a:ext cx="2602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asser au suiv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>
              <a:stCxn id="240" idx="0"/>
              <a:endCxn id="239" idx="2"/>
            </p:cNvCxnSpPr>
            <p:nvPr/>
          </p:nvCxnSpPr>
          <p:spPr>
            <a:xfrm flipH="1" flipV="1" rot="5400000">
              <a:off x="5105160" y="4018680"/>
              <a:ext cx="1067400" cy="6073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42" name=""/>
          <p:cNvGrpSpPr/>
          <p:nvPr/>
        </p:nvGrpSpPr>
        <p:grpSpPr>
          <a:xfrm>
            <a:off x="543960" y="4322880"/>
            <a:ext cx="2823480" cy="2058120"/>
            <a:chOff x="543960" y="4322880"/>
            <a:chExt cx="2823480" cy="2058120"/>
          </a:xfrm>
        </p:grpSpPr>
        <p:sp>
          <p:nvSpPr>
            <p:cNvPr id="243" name=""/>
            <p:cNvSpPr/>
            <p:nvPr/>
          </p:nvSpPr>
          <p:spPr>
            <a:xfrm>
              <a:off x="1065240" y="4322880"/>
              <a:ext cx="685800" cy="1143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3960" y="5921280"/>
              <a:ext cx="28234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ffiner la recherc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" name=""/>
            <p:cNvCxnSpPr>
              <a:stCxn id="244" idx="0"/>
              <a:endCxn id="243" idx="4"/>
            </p:cNvCxnSpPr>
            <p:nvPr/>
          </p:nvCxnSpPr>
          <p:spPr>
            <a:xfrm flipV="1" rot="16200000">
              <a:off x="1452960" y="5419800"/>
              <a:ext cx="457920" cy="5486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46" name=""/>
          <p:cNvSpPr/>
          <p:nvPr/>
        </p:nvSpPr>
        <p:spPr>
          <a:xfrm>
            <a:off x="779400" y="1197000"/>
            <a:ext cx="3271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che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mplace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39680" y="1827360"/>
            <a:ext cx="6917040" cy="364968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86480" y="2894040"/>
            <a:ext cx="4484520" cy="3048840"/>
            <a:chOff x="186480" y="2894040"/>
            <a:chExt cx="4484520" cy="3048840"/>
          </a:xfrm>
        </p:grpSpPr>
        <p:sp>
          <p:nvSpPr>
            <p:cNvPr id="250" name=""/>
            <p:cNvSpPr/>
            <p:nvPr/>
          </p:nvSpPr>
          <p:spPr>
            <a:xfrm>
              <a:off x="2207880" y="2894040"/>
              <a:ext cx="99072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6480" y="5483160"/>
              <a:ext cx="4484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Remplacer le texte trouvé par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" name=""/>
            <p:cNvCxnSpPr>
              <a:stCxn id="251" idx="0"/>
              <a:endCxn id="250" idx="2"/>
            </p:cNvCxnSpPr>
            <p:nvPr/>
          </p:nvCxnSpPr>
          <p:spPr>
            <a:xfrm flipV="1" rot="16200000">
              <a:off x="1098360" y="4155120"/>
              <a:ext cx="2439000" cy="221400"/>
            </a:xfrm>
            <a:prstGeom prst="bentConnector4">
              <a:avLst>
                <a:gd name="adj1" fmla="val 46870"/>
                <a:gd name="adj2" fmla="val 203583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53" name=""/>
          <p:cNvSpPr/>
          <p:nvPr/>
        </p:nvSpPr>
        <p:spPr>
          <a:xfrm>
            <a:off x="5131800" y="1268280"/>
            <a:ext cx="329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tion  -&gt; Rempla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Orthograph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81680" cy="325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256" name=""/>
          <p:cNvGrpSpPr/>
          <p:nvPr/>
        </p:nvGrpSpPr>
        <p:grpSpPr>
          <a:xfrm>
            <a:off x="865080" y="2590920"/>
            <a:ext cx="2416320" cy="3582360"/>
            <a:chOff x="865080" y="2590920"/>
            <a:chExt cx="2416320" cy="3582360"/>
          </a:xfrm>
        </p:grpSpPr>
        <p:sp>
          <p:nvSpPr>
            <p:cNvPr id="257" name=""/>
            <p:cNvSpPr/>
            <p:nvPr/>
          </p:nvSpPr>
          <p:spPr>
            <a:xfrm>
              <a:off x="1752480" y="2590920"/>
              <a:ext cx="1447920" cy="533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5080" y="5713560"/>
              <a:ext cx="2416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enu contextu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"/>
            <p:cNvCxnSpPr>
              <a:stCxn id="258" idx="0"/>
              <a:endCxn id="257" idx="2"/>
            </p:cNvCxnSpPr>
            <p:nvPr/>
          </p:nvCxnSpPr>
          <p:spPr>
            <a:xfrm flipV="1" rot="16200000">
              <a:off x="483480" y="4125240"/>
              <a:ext cx="2858040" cy="321480"/>
            </a:xfrm>
            <a:prstGeom prst="bentConnector4">
              <a:avLst>
                <a:gd name="adj1" fmla="val 38384"/>
                <a:gd name="adj2" fmla="val 255829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Orthograph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43704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76960" y="3124080"/>
            <a:ext cx="2780640" cy="2805120"/>
            <a:chOff x="876960" y="3124080"/>
            <a:chExt cx="2780640" cy="2805120"/>
          </a:xfrm>
        </p:grpSpPr>
        <p:sp>
          <p:nvSpPr>
            <p:cNvPr id="263" name=""/>
            <p:cNvSpPr/>
            <p:nvPr/>
          </p:nvSpPr>
          <p:spPr>
            <a:xfrm>
              <a:off x="3352680" y="3124080"/>
              <a:ext cx="30492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6960" y="5103720"/>
              <a:ext cx="2298960" cy="825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orrection en 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ours de frap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"/>
            <p:cNvCxnSpPr>
              <a:stCxn id="264" idx="0"/>
              <a:endCxn id="263" idx="2"/>
            </p:cNvCxnSpPr>
            <p:nvPr/>
          </p:nvCxnSpPr>
          <p:spPr>
            <a:xfrm flipH="1" flipV="1" rot="5400000">
              <a:off x="1775160" y="3528000"/>
              <a:ext cx="1829520" cy="13262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66" name=""/>
          <p:cNvSpPr/>
          <p:nvPr/>
        </p:nvSpPr>
        <p:spPr>
          <a:xfrm>
            <a:off x="615960" y="1484280"/>
            <a:ext cx="261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uti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692360" y="1844640"/>
          <a:ext cx="658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658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Grammai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614880" y="1268280"/>
            <a:ext cx="336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uti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Orthogra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rriger l’orthographe du document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« introduction.doc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mplacer toutes les occurrences du mot « dispositif » par « appareil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Images, Tableau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ertion d’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mag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à partir du fich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blea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au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ér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égend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781680" cy="475452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96120" y="2057400"/>
            <a:ext cx="5390280" cy="4572000"/>
            <a:chOff x="96120" y="2057400"/>
            <a:chExt cx="5390280" cy="4572000"/>
          </a:xfrm>
        </p:grpSpPr>
        <p:sp>
          <p:nvSpPr>
            <p:cNvPr id="278" name=""/>
            <p:cNvSpPr/>
            <p:nvPr/>
          </p:nvSpPr>
          <p:spPr>
            <a:xfrm>
              <a:off x="96120" y="2057400"/>
              <a:ext cx="455472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(1) On positionne le curseur</a:t>
              </a:r>
              <a:br>
                <a:rPr sz="2400"/>
              </a:b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à l'emplacement de la légen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29200" y="6324480"/>
              <a:ext cx="45720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8" idx="3"/>
              <a:endCxn id="279" idx="0"/>
            </p:cNvCxnSpPr>
            <p:nvPr/>
          </p:nvCxnSpPr>
          <p:spPr>
            <a:xfrm>
              <a:off x="4517640" y="2473200"/>
              <a:ext cx="740520" cy="3852000"/>
            </a:xfrm>
            <a:prstGeom prst="bentConnector2">
              <a:avLst/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</p:grpSp>
      <p:sp>
        <p:nvSpPr>
          <p:cNvPr id="281" name=""/>
          <p:cNvSpPr/>
          <p:nvPr/>
        </p:nvSpPr>
        <p:spPr>
          <a:xfrm>
            <a:off x="137880" y="3048120"/>
            <a:ext cx="3324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(2) Insertion|Lég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572000" cy="287640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166320" y="2819520"/>
            <a:ext cx="5243760" cy="1678680"/>
            <a:chOff x="166320" y="2819520"/>
            <a:chExt cx="5243760" cy="1678680"/>
          </a:xfrm>
        </p:grpSpPr>
        <p:sp>
          <p:nvSpPr>
            <p:cNvPr id="284" name=""/>
            <p:cNvSpPr/>
            <p:nvPr/>
          </p:nvSpPr>
          <p:spPr>
            <a:xfrm>
              <a:off x="166320" y="4038480"/>
              <a:ext cx="4528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(3) Saisir le texte de la légen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"/>
            <p:cNvCxnSpPr>
              <a:stCxn id="284" idx="3"/>
              <a:endCxn id="286" idx="4"/>
            </p:cNvCxnSpPr>
            <p:nvPr/>
          </p:nvCxnSpPr>
          <p:spPr>
            <a:xfrm flipV="1">
              <a:off x="4632120" y="3047760"/>
              <a:ext cx="549720" cy="1224720"/>
            </a:xfrm>
            <a:prstGeom prst="bentConnector2">
              <a:avLst/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4952880" y="2819520"/>
              <a:ext cx="4572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24000" y="1054080"/>
            <a:ext cx="8424720" cy="55436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nvoi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5601960" y="49338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Renvoi vers une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08360" y="4076640"/>
            <a:ext cx="115092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3440" y="5661000"/>
            <a:ext cx="3022560" cy="358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89" idx="1"/>
            <a:endCxn id="290" idx="6"/>
          </p:cNvCxnSpPr>
          <p:nvPr/>
        </p:nvCxnSpPr>
        <p:spPr>
          <a:xfrm rot="10800000">
            <a:off x="4877640" y="4255200"/>
            <a:ext cx="774000" cy="862920"/>
          </a:xfrm>
          <a:prstGeom prst="curvedConnector5">
            <a:avLst>
              <a:gd name="adj1" fmla="val 51093"/>
              <a:gd name="adj2" fmla="val 50000"/>
              <a:gd name="adj3" fmla="val 5109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9" idx="1"/>
            <a:endCxn id="291" idx="7"/>
          </p:cNvCxnSpPr>
          <p:nvPr/>
        </p:nvCxnSpPr>
        <p:spPr>
          <a:xfrm flipV="1" rot="10800000">
            <a:off x="5352480" y="5117040"/>
            <a:ext cx="299160" cy="57708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stitua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 document se décompose en plusieurs constituants hiérarchisés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agrap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ractère, Image, Dess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nvoi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érer une légende à la fig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éfinir le renvoi à la figu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172200" cy="44766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nvoi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2209680"/>
            <a:ext cx="4572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98800" y="1980720"/>
            <a:ext cx="6254280" cy="902160"/>
            <a:chOff x="298800" y="1980720"/>
            <a:chExt cx="6254280" cy="902160"/>
          </a:xfrm>
        </p:grpSpPr>
        <p:sp>
          <p:nvSpPr>
            <p:cNvPr id="300" name=""/>
            <p:cNvSpPr/>
            <p:nvPr/>
          </p:nvSpPr>
          <p:spPr>
            <a:xfrm>
              <a:off x="298800" y="2057400"/>
              <a:ext cx="41493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(1) On positionne le curseur</a:t>
              </a:r>
              <a:br>
                <a:rPr sz="2400"/>
              </a:b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à l'emplacement du renv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"/>
            <p:cNvCxnSpPr>
              <a:stCxn id="300" idx="3"/>
              <a:endCxn id="298" idx="0"/>
            </p:cNvCxnSpPr>
            <p:nvPr/>
          </p:nvCxnSpPr>
          <p:spPr>
            <a:xfrm flipV="1">
              <a:off x="4355640" y="2209320"/>
              <a:ext cx="2197800" cy="264240"/>
            </a:xfrm>
            <a:prstGeom prst="bentConnector4">
              <a:avLst>
                <a:gd name="adj1" fmla="val 44790"/>
                <a:gd name="adj2" fmla="val 186630"/>
              </a:avLst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</p:grpSp>
      <p:sp>
        <p:nvSpPr>
          <p:cNvPr id="302" name=""/>
          <p:cNvSpPr/>
          <p:nvPr/>
        </p:nvSpPr>
        <p:spPr>
          <a:xfrm>
            <a:off x="309240" y="3048120"/>
            <a:ext cx="3053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(2) Insertion|Renv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348000" y="2235240"/>
            <a:ext cx="5072040" cy="342576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531720" y="4724280"/>
            <a:ext cx="5640480" cy="685800"/>
            <a:chOff x="531720" y="4724280"/>
            <a:chExt cx="5640480" cy="685800"/>
          </a:xfrm>
        </p:grpSpPr>
        <p:sp>
          <p:nvSpPr>
            <p:cNvPr id="305" name=""/>
            <p:cNvSpPr/>
            <p:nvPr/>
          </p:nvSpPr>
          <p:spPr>
            <a:xfrm>
              <a:off x="531720" y="4724280"/>
              <a:ext cx="1614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(4) Vali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91320" y="5181480"/>
              <a:ext cx="38088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7" name=""/>
            <p:cNvCxnSpPr>
              <a:stCxn id="305" idx="3"/>
              <a:endCxn id="306" idx="2"/>
            </p:cNvCxnSpPr>
            <p:nvPr/>
          </p:nvCxnSpPr>
          <p:spPr>
            <a:xfrm>
              <a:off x="2144520" y="4957560"/>
              <a:ext cx="3647160" cy="338760"/>
            </a:xfrm>
            <a:prstGeom prst="bentConnector3">
              <a:avLst>
                <a:gd name="adj1" fmla="val 49970"/>
              </a:avLst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</p:grpSp>
      <p:sp>
        <p:nvSpPr>
          <p:cNvPr id="308" name=""/>
          <p:cNvSpPr/>
          <p:nvPr/>
        </p:nvSpPr>
        <p:spPr>
          <a:xfrm>
            <a:off x="4952880" y="2819520"/>
            <a:ext cx="4572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4600" y="2666880"/>
            <a:ext cx="5879880" cy="1831320"/>
            <a:chOff x="444600" y="2666880"/>
            <a:chExt cx="5879880" cy="1831320"/>
          </a:xfrm>
        </p:grpSpPr>
        <p:sp>
          <p:nvSpPr>
            <p:cNvPr id="310" name=""/>
            <p:cNvSpPr/>
            <p:nvPr/>
          </p:nvSpPr>
          <p:spPr>
            <a:xfrm>
              <a:off x="444600" y="4038480"/>
              <a:ext cx="3989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e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ahoma"/>
                </a:rPr>
                <a:t>(3) Adapter les paramè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12" idx="5"/>
            </p:cNvCxnSpPr>
            <p:nvPr/>
          </p:nvCxnSpPr>
          <p:spPr>
            <a:xfrm flipH="1" flipV="1">
              <a:off x="3688560" y="2862000"/>
              <a:ext cx="661320" cy="1410480"/>
            </a:xfrm>
            <a:prstGeom prst="bentConnector4">
              <a:avLst>
                <a:gd name="adj1" fmla="val -34586"/>
                <a:gd name="adj2" fmla="val 57084"/>
              </a:avLst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  <p:sp>
          <p:nvSpPr>
            <p:cNvPr id="312" name=""/>
            <p:cNvSpPr/>
            <p:nvPr/>
          </p:nvSpPr>
          <p:spPr>
            <a:xfrm>
              <a:off x="3429000" y="2666880"/>
              <a:ext cx="30492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5880" y="2743200"/>
              <a:ext cx="228600" cy="2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4" name=""/>
            <p:cNvCxnSpPr>
              <a:stCxn id="310" idx="3"/>
              <a:endCxn id="313" idx="4"/>
            </p:cNvCxnSpPr>
            <p:nvPr/>
          </p:nvCxnSpPr>
          <p:spPr>
            <a:xfrm flipV="1">
              <a:off x="4349880" y="2971440"/>
              <a:ext cx="1861200" cy="1301040"/>
            </a:xfrm>
            <a:prstGeom prst="bentConnector2">
              <a:avLst/>
            </a:prstGeom>
            <a:ln w="9360">
              <a:solidFill>
                <a:srgbClr val="ffef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416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sérer une image sur le document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« experimentation.doc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sérer un tableau de 4 lignes et 3 colonnes sur le même docu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sérer un tableau comme celui-ci dans le même docu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2200" y="4290840"/>
            <a:ext cx="88581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n-tête et pied d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3066840" cy="430524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838080" y="1981080"/>
            <a:ext cx="5257800" cy="2439360"/>
            <a:chOff x="838080" y="1981080"/>
            <a:chExt cx="5257800" cy="2439360"/>
          </a:xfrm>
        </p:grpSpPr>
        <p:sp>
          <p:nvSpPr>
            <p:cNvPr id="321" name=""/>
            <p:cNvSpPr/>
            <p:nvPr/>
          </p:nvSpPr>
          <p:spPr>
            <a:xfrm>
              <a:off x="4572000" y="1981080"/>
              <a:ext cx="152388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080" y="3960720"/>
              <a:ext cx="11638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En-tê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3" name=""/>
            <p:cNvCxnSpPr>
              <a:stCxn id="322" idx="0"/>
              <a:endCxn id="321" idx="2"/>
            </p:cNvCxnSpPr>
            <p:nvPr/>
          </p:nvCxnSpPr>
          <p:spPr>
            <a:xfrm flipH="1" flipV="1" rot="5400000">
              <a:off x="2100600" y="1491120"/>
              <a:ext cx="1791360" cy="315180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324" name=""/>
          <p:cNvGrpSpPr/>
          <p:nvPr/>
        </p:nvGrpSpPr>
        <p:grpSpPr>
          <a:xfrm>
            <a:off x="4038480" y="2970360"/>
            <a:ext cx="4174920" cy="3201840"/>
            <a:chOff x="4038480" y="2970360"/>
            <a:chExt cx="4174920" cy="3201840"/>
          </a:xfrm>
        </p:grpSpPr>
        <p:sp>
          <p:nvSpPr>
            <p:cNvPr id="325" name=""/>
            <p:cNvSpPr/>
            <p:nvPr/>
          </p:nvSpPr>
          <p:spPr>
            <a:xfrm>
              <a:off x="4038480" y="5791320"/>
              <a:ext cx="152424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24640" y="2970360"/>
              <a:ext cx="78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P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"/>
            <p:cNvCxnSpPr>
              <a:stCxn id="326" idx="1"/>
              <a:endCxn id="325" idx="6"/>
            </p:cNvCxnSpPr>
            <p:nvPr/>
          </p:nvCxnSpPr>
          <p:spPr>
            <a:xfrm flipV="1" rot="10800000">
              <a:off x="5562000" y="3204000"/>
              <a:ext cx="1889640" cy="2777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n-tête et pied d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29" name="" descr="Afficher et modifier les en-têtes et pieds de pages"/>
          <p:cNvPicPr/>
          <p:nvPr/>
        </p:nvPicPr>
        <p:blipFill>
          <a:blip r:embed="rId1"/>
          <a:stretch/>
        </p:blipFill>
        <p:spPr>
          <a:xfrm>
            <a:off x="392040" y="2276640"/>
            <a:ext cx="1552680" cy="2695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421080" y="36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200400" y="2997360"/>
            <a:ext cx="5954760" cy="2893680"/>
            <a:chOff x="3200400" y="2997360"/>
            <a:chExt cx="5954760" cy="2893680"/>
          </a:xfrm>
        </p:grpSpPr>
        <p:pic>
          <p:nvPicPr>
            <p:cNvPr id="332" name="word_entete_icon_insereauto" descr=""/>
            <p:cNvPicPr/>
            <p:nvPr/>
          </p:nvPicPr>
          <p:blipFill>
            <a:blip r:embed="rId2"/>
            <a:stretch/>
          </p:blipFill>
          <p:spPr>
            <a:xfrm>
              <a:off x="3200400" y="2997360"/>
              <a:ext cx="1278000" cy="1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word_entete_icon_nropage" descr=""/>
            <p:cNvPicPr/>
            <p:nvPr/>
          </p:nvPicPr>
          <p:blipFill>
            <a:blip r:embed="rId3"/>
            <a:stretch/>
          </p:blipFill>
          <p:spPr>
            <a:xfrm>
              <a:off x="3271680" y="3357720"/>
              <a:ext cx="114480" cy="1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word_entete_icon_nbpage" descr=""/>
            <p:cNvPicPr/>
            <p:nvPr/>
          </p:nvPicPr>
          <p:blipFill>
            <a:blip r:embed="rId4"/>
            <a:stretch/>
          </p:blipFill>
          <p:spPr>
            <a:xfrm>
              <a:off x="3270240" y="3871800"/>
              <a:ext cx="11736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word_entete_icon_numerotationpage" descr=""/>
            <p:cNvPicPr/>
            <p:nvPr/>
          </p:nvPicPr>
          <p:blipFill>
            <a:blip r:embed="rId5"/>
            <a:stretch/>
          </p:blipFill>
          <p:spPr>
            <a:xfrm>
              <a:off x="3270240" y="4303800"/>
              <a:ext cx="14940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word_entete_icon_date" descr=""/>
            <p:cNvPicPr/>
            <p:nvPr/>
          </p:nvPicPr>
          <p:blipFill>
            <a:blip r:embed="rId6"/>
            <a:stretch/>
          </p:blipFill>
          <p:spPr>
            <a:xfrm>
              <a:off x="3270240" y="4735440"/>
              <a:ext cx="14940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word_entete_icon_heure" descr=""/>
            <p:cNvPicPr/>
            <p:nvPr/>
          </p:nvPicPr>
          <p:blipFill>
            <a:blip r:embed="rId7"/>
            <a:stretch/>
          </p:blipFill>
          <p:spPr>
            <a:xfrm>
              <a:off x="3271680" y="5157720"/>
              <a:ext cx="13824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word_entete_icon_miseenpage" descr=""/>
            <p:cNvPicPr/>
            <p:nvPr/>
          </p:nvPicPr>
          <p:blipFill>
            <a:blip r:embed="rId8"/>
            <a:stretch/>
          </p:blipFill>
          <p:spPr>
            <a:xfrm>
              <a:off x="3271680" y="5589720"/>
              <a:ext cx="138240" cy="1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word_entete_icon_affiche_masque_texte" descr=""/>
            <p:cNvPicPr/>
            <p:nvPr/>
          </p:nvPicPr>
          <p:blipFill>
            <a:blip r:embed="rId9"/>
            <a:stretch/>
          </p:blipFill>
          <p:spPr>
            <a:xfrm>
              <a:off x="6008760" y="3357720"/>
              <a:ext cx="10620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word_entete_icon_identique_precedent" descr=""/>
            <p:cNvPicPr/>
            <p:nvPr/>
          </p:nvPicPr>
          <p:blipFill>
            <a:blip r:embed="rId10"/>
            <a:stretch/>
          </p:blipFill>
          <p:spPr>
            <a:xfrm>
              <a:off x="6008760" y="3860640"/>
              <a:ext cx="14904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word_entete_icon_bascule_entete" descr=""/>
            <p:cNvPicPr/>
            <p:nvPr/>
          </p:nvPicPr>
          <p:blipFill>
            <a:blip r:embed="rId11"/>
            <a:stretch/>
          </p:blipFill>
          <p:spPr>
            <a:xfrm>
              <a:off x="6008760" y="4365720"/>
              <a:ext cx="137880" cy="1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word_entete_icon_entetesuiv_prec" descr=""/>
            <p:cNvPicPr/>
            <p:nvPr/>
          </p:nvPicPr>
          <p:blipFill>
            <a:blip r:embed="rId12"/>
            <a:stretch/>
          </p:blipFill>
          <p:spPr>
            <a:xfrm>
              <a:off x="5864400" y="5229360"/>
              <a:ext cx="371160" cy="13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683160" y="3232080"/>
              <a:ext cx="196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Insérer un numéro de la page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03680" y="3789360"/>
              <a:ext cx="1965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Nombre de page total sans mise en for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78480" y="4600440"/>
              <a:ext cx="154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Insérer une date</a:t>
              </a:r>
              <a:r>
                <a:rPr b="0" lang="en-US" sz="1800" spc="-1" strike="noStrike">
                  <a:solidFill>
                    <a:srgbClr val="703d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00440" y="501336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Insérer l’heure</a:t>
              </a:r>
              <a:r>
                <a:rPr b="0" lang="en-US" sz="1800" spc="-1" strike="noStrike">
                  <a:solidFill>
                    <a:srgbClr val="703d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87400" y="3284640"/>
              <a:ext cx="24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Afficher ou masquer le tex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88840" y="4292640"/>
              <a:ext cx="21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Basculer entre le pied 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l'entête de page</a:t>
              </a:r>
              <a:r>
                <a:rPr b="0" lang="en-US" sz="1800" spc="-1" strike="noStrike">
                  <a:solidFill>
                    <a:srgbClr val="703d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7400" y="3500280"/>
              <a:ext cx="277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Afficher ou masquer le texte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dans le cas  d’un saut de s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57960" y="5157720"/>
              <a:ext cx="2501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Basculer entre le pied 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l'entête de page, dans le c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d’un saut de s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00440" y="5516640"/>
              <a:ext cx="138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03dff"/>
                  </a:solidFill>
                  <a:latin typeface="Arial"/>
                </a:rPr>
                <a:t>Mettre en 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903320" y="1981080"/>
            <a:ext cx="6220080" cy="2095200"/>
            <a:chOff x="1903320" y="1981080"/>
            <a:chExt cx="6220080" cy="2095200"/>
          </a:xfrm>
        </p:grpSpPr>
        <p:grpSp>
          <p:nvGrpSpPr>
            <p:cNvPr id="353" name=""/>
            <p:cNvGrpSpPr/>
            <p:nvPr/>
          </p:nvGrpSpPr>
          <p:grpSpPr>
            <a:xfrm>
              <a:off x="1903320" y="2362320"/>
              <a:ext cx="6220080" cy="1713960"/>
              <a:chOff x="1903320" y="2362320"/>
              <a:chExt cx="6220080" cy="1713960"/>
            </a:xfrm>
          </p:grpSpPr>
          <p:pic>
            <p:nvPicPr>
              <p:cNvPr id="35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00400" y="2362320"/>
                <a:ext cx="492300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flipV="1">
                <a:off x="1903320" y="2491920"/>
                <a:ext cx="1368360" cy="158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5952240" y="1981080"/>
              <a:ext cx="19576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Barre d’outi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n-tête et pied d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477120" cy="4367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828800" y="3429000"/>
            <a:ext cx="289548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4800" y="6095880"/>
            <a:ext cx="331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ichier/Mise en pa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ote de bas d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éférenc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 de bas de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95640" y="1700280"/>
            <a:ext cx="4824360" cy="390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029120" y="5257800"/>
            <a:ext cx="1522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284720" y="2060640"/>
            <a:ext cx="287280" cy="244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24000" y="3232080"/>
            <a:ext cx="35272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uméros d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914560" cy="2885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89040" y="1413000"/>
            <a:ext cx="37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uméros d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067280" y="3789360"/>
            <a:ext cx="4734000" cy="2209680"/>
          </a:xfrm>
          <a:prstGeom prst="rect">
            <a:avLst/>
          </a:prstGeom>
          <a:ln w="0">
            <a:noFill/>
          </a:ln>
        </p:spPr>
      </p:pic>
      <p:cxnSp>
        <p:nvCxnSpPr>
          <p:cNvPr id="372" name=""/>
          <p:cNvCxnSpPr>
            <a:endCxn id="371" idx="0"/>
          </p:cNvCxnSpPr>
          <p:nvPr/>
        </p:nvCxnSpPr>
        <p:spPr>
          <a:xfrm>
            <a:off x="3634920" y="2707920"/>
            <a:ext cx="2799720" cy="108180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sérer l’en-tête  « Fichier d’expérimentation » sur le document « experimentation.doc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sérer une note en bas de pages sur le même fichi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sérer les numéros de pages sur le même document (en bas au centre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ess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sation du docume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sonnalisation de chaque sess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-tête et pied de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onn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dure de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stitua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2068560"/>
          <a:ext cx="7576920" cy="30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8560"/>
                    <a:ext cx="7576920" cy="30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ess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933640" cy="33019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149640" cy="33271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454280" y="1700280"/>
            <a:ext cx="22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a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020000" y="4149720"/>
            <a:ext cx="216000" cy="129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3348000" y="2276280"/>
            <a:ext cx="1152720" cy="71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lonn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951520" cy="4701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6339240" y="170028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lo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aliser un document où les pages paires ont les numéros de pages en haut à gauche, et les pages impaires, en haut à dro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aliser un document identique au suiv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258920" y="71280"/>
            <a:ext cx="62611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y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134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n style s'applique à un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paragraph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ou à un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caractèr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l correspond à un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ensemble d'attribut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mémorisés sous un no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ppliquer un style à un paragraphe/caractère revient à lui affecter l'ensemble des attributs mémorisé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n utilisateur peut créer un nouveau style ou modifier un style existan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yles prédéfini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existe un certain nombre de styles prédéfinis, notamment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s-ti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tre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tre 2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ps de texte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yles : avantag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ement de plusieurs attribu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e plus cla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on de « sens » derrière le « style 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ier un sty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r toutes les occurrences ayant ce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les styles sont respectés pour les titres, la table des matières est autom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om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style est identifié par un n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297160" y="2492280"/>
            <a:ext cx="6019920" cy="33228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1008720" y="3976560"/>
            <a:ext cx="3347280" cy="1677240"/>
            <a:chOff x="1008720" y="3976560"/>
            <a:chExt cx="3347280" cy="1677240"/>
          </a:xfrm>
        </p:grpSpPr>
        <p:sp>
          <p:nvSpPr>
            <p:cNvPr id="399" name=""/>
            <p:cNvSpPr/>
            <p:nvPr/>
          </p:nvSpPr>
          <p:spPr>
            <a:xfrm>
              <a:off x="3365640" y="3976560"/>
              <a:ext cx="9903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08720" y="5194080"/>
              <a:ext cx="19591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om de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1" name=""/>
            <p:cNvCxnSpPr>
              <a:stCxn id="400" idx="0"/>
              <a:endCxn id="399" idx="2"/>
            </p:cNvCxnSpPr>
            <p:nvPr/>
          </p:nvCxnSpPr>
          <p:spPr>
            <a:xfrm flipH="1" flipV="1" rot="5400000">
              <a:off x="2162520" y="3992760"/>
              <a:ext cx="1029600" cy="13773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orma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438280" y="1911240"/>
            <a:ext cx="5715000" cy="481644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560160" y="4425840"/>
            <a:ext cx="7440840" cy="2113200"/>
            <a:chOff x="560160" y="4425840"/>
            <a:chExt cx="7440840" cy="2113200"/>
          </a:xfrm>
        </p:grpSpPr>
        <p:sp>
          <p:nvSpPr>
            <p:cNvPr id="405" name=""/>
            <p:cNvSpPr/>
            <p:nvPr/>
          </p:nvSpPr>
          <p:spPr>
            <a:xfrm>
              <a:off x="4572000" y="4425840"/>
              <a:ext cx="3429000" cy="12193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0160" y="5713560"/>
              <a:ext cx="18738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tributs d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tyle Nor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7" name=""/>
            <p:cNvCxnSpPr>
              <a:stCxn id="406" idx="0"/>
              <a:endCxn id="405" idx="2"/>
            </p:cNvCxnSpPr>
            <p:nvPr/>
          </p:nvCxnSpPr>
          <p:spPr>
            <a:xfrm flipH="1" flipV="1" rot="5400000">
              <a:off x="2694600" y="3837240"/>
              <a:ext cx="680040" cy="30758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ppliquer un sty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7086600" cy="4064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410" name=""/>
          <p:cNvGrpSpPr/>
          <p:nvPr/>
        </p:nvGrpSpPr>
        <p:grpSpPr>
          <a:xfrm>
            <a:off x="4038480" y="3122640"/>
            <a:ext cx="5050800" cy="1830240"/>
            <a:chOff x="4038480" y="3122640"/>
            <a:chExt cx="5050800" cy="1830240"/>
          </a:xfrm>
        </p:grpSpPr>
        <p:sp>
          <p:nvSpPr>
            <p:cNvPr id="411" name=""/>
            <p:cNvSpPr/>
            <p:nvPr/>
          </p:nvSpPr>
          <p:spPr>
            <a:xfrm>
              <a:off x="4038480" y="4495680"/>
              <a:ext cx="399600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18440" y="3122640"/>
              <a:ext cx="26708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1)Se positionn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ur un paragrap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3" name=""/>
            <p:cNvCxnSpPr>
              <a:stCxn id="412" idx="1"/>
              <a:endCxn id="411" idx="0"/>
            </p:cNvCxnSpPr>
            <p:nvPr/>
          </p:nvCxnSpPr>
          <p:spPr>
            <a:xfrm flipV="1" rot="10800000">
              <a:off x="6036480" y="3539880"/>
              <a:ext cx="529200" cy="9561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14" name=""/>
          <p:cNvGrpSpPr/>
          <p:nvPr/>
        </p:nvGrpSpPr>
        <p:grpSpPr>
          <a:xfrm>
            <a:off x="128520" y="3122640"/>
            <a:ext cx="3834000" cy="2744640"/>
            <a:chOff x="128520" y="3122640"/>
            <a:chExt cx="3834000" cy="2744640"/>
          </a:xfrm>
        </p:grpSpPr>
        <p:sp>
          <p:nvSpPr>
            <p:cNvPr id="415" name=""/>
            <p:cNvSpPr/>
            <p:nvPr/>
          </p:nvSpPr>
          <p:spPr>
            <a:xfrm>
              <a:off x="1371600" y="5257800"/>
              <a:ext cx="259092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5320" y="3122640"/>
              <a:ext cx="2331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2) Sélection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le style chois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7" name=""/>
            <p:cNvCxnSpPr>
              <a:stCxn id="416" idx="1"/>
              <a:endCxn id="415" idx="2"/>
            </p:cNvCxnSpPr>
            <p:nvPr/>
          </p:nvCxnSpPr>
          <p:spPr>
            <a:xfrm flipH="1" flipV="1" rot="10800000">
              <a:off x="356760" y="3540240"/>
              <a:ext cx="1015200" cy="2022840"/>
            </a:xfrm>
            <a:prstGeom prst="bentConnector3">
              <a:avLst>
                <a:gd name="adj1" fmla="val -2252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 attributs déterminent la mise en forme des constitu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rtains attributs sont prédéfinis (affectés par défaut), mais ils sont toujours modifi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ication d’un attribut : sélectionner la zone de texte et utiliser les menus approprié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348160" cy="47959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réer  (ou modifier) un sty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7400" y="2286000"/>
            <a:ext cx="3275640" cy="2820240"/>
            <a:chOff x="77400" y="2286000"/>
            <a:chExt cx="3275640" cy="2820240"/>
          </a:xfrm>
        </p:grpSpPr>
        <p:sp>
          <p:nvSpPr>
            <p:cNvPr id="421" name=""/>
            <p:cNvSpPr/>
            <p:nvPr/>
          </p:nvSpPr>
          <p:spPr>
            <a:xfrm>
              <a:off x="77400" y="4646520"/>
              <a:ext cx="24181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2) Nom du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9680" y="2286000"/>
              <a:ext cx="914400" cy="533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3" name=""/>
            <p:cNvCxnSpPr>
              <a:stCxn id="421" idx="3"/>
              <a:endCxn id="422" idx="6"/>
            </p:cNvCxnSpPr>
            <p:nvPr/>
          </p:nvCxnSpPr>
          <p:spPr>
            <a:xfrm flipV="1">
              <a:off x="2419200" y="2552040"/>
              <a:ext cx="705240" cy="2329560"/>
            </a:xfrm>
            <a:prstGeom prst="bentConnector3">
              <a:avLst>
                <a:gd name="adj1" fmla="val 132482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24" name=""/>
          <p:cNvGrpSpPr/>
          <p:nvPr/>
        </p:nvGrpSpPr>
        <p:grpSpPr>
          <a:xfrm>
            <a:off x="74520" y="1752480"/>
            <a:ext cx="3735000" cy="2576520"/>
            <a:chOff x="74520" y="1752480"/>
            <a:chExt cx="3735000" cy="2576520"/>
          </a:xfrm>
        </p:grpSpPr>
        <p:sp>
          <p:nvSpPr>
            <p:cNvPr id="425" name=""/>
            <p:cNvSpPr/>
            <p:nvPr/>
          </p:nvSpPr>
          <p:spPr>
            <a:xfrm>
              <a:off x="1904760" y="1752480"/>
              <a:ext cx="190476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6" name=""/>
            <p:cNvCxnSpPr>
              <a:stCxn id="427" idx="0"/>
              <a:endCxn id="425" idx="2"/>
            </p:cNvCxnSpPr>
            <p:nvPr/>
          </p:nvCxnSpPr>
          <p:spPr>
            <a:xfrm flipH="1" flipV="1" rot="5400000">
              <a:off x="955800" y="2556360"/>
              <a:ext cx="1562760" cy="3351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27" name=""/>
            <p:cNvSpPr/>
            <p:nvPr/>
          </p:nvSpPr>
          <p:spPr>
            <a:xfrm>
              <a:off x="74520" y="3503520"/>
              <a:ext cx="29908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1) Format/Style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odifier ou Nouv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362320" y="3048120"/>
            <a:ext cx="3865320" cy="1753560"/>
            <a:chOff x="2362320" y="3048120"/>
            <a:chExt cx="3865320" cy="1753560"/>
          </a:xfrm>
        </p:grpSpPr>
        <p:sp>
          <p:nvSpPr>
            <p:cNvPr id="429" name=""/>
            <p:cNvSpPr/>
            <p:nvPr/>
          </p:nvSpPr>
          <p:spPr>
            <a:xfrm>
              <a:off x="2362320" y="3048120"/>
              <a:ext cx="144756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7720" y="4341960"/>
              <a:ext cx="1789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3) Héri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1" name=""/>
            <p:cNvCxnSpPr>
              <a:stCxn id="430" idx="0"/>
              <a:endCxn id="429" idx="4"/>
            </p:cNvCxnSpPr>
            <p:nvPr/>
          </p:nvCxnSpPr>
          <p:spPr>
            <a:xfrm flipV="1" rot="16200000">
              <a:off x="3713040" y="2724480"/>
              <a:ext cx="991440" cy="2246400"/>
            </a:xfrm>
            <a:prstGeom prst="bentConnector3">
              <a:avLst>
                <a:gd name="adj1" fmla="val 4998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32" name=""/>
          <p:cNvGrpSpPr/>
          <p:nvPr/>
        </p:nvGrpSpPr>
        <p:grpSpPr>
          <a:xfrm>
            <a:off x="5029200" y="3048120"/>
            <a:ext cx="3933000" cy="1143720"/>
            <a:chOff x="5029200" y="3048120"/>
            <a:chExt cx="3933000" cy="1143720"/>
          </a:xfrm>
        </p:grpSpPr>
        <p:sp>
          <p:nvSpPr>
            <p:cNvPr id="433" name=""/>
            <p:cNvSpPr/>
            <p:nvPr/>
          </p:nvSpPr>
          <p:spPr>
            <a:xfrm>
              <a:off x="5029200" y="30481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58320" y="3732120"/>
              <a:ext cx="2603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4) Enchaî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5" name=""/>
            <p:cNvCxnSpPr>
              <a:stCxn id="434" idx="1"/>
              <a:endCxn id="433" idx="6"/>
            </p:cNvCxnSpPr>
            <p:nvPr/>
          </p:nvCxnSpPr>
          <p:spPr>
            <a:xfrm rot="10800000">
              <a:off x="6095160" y="3237840"/>
              <a:ext cx="381600" cy="72936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36" name=""/>
          <p:cNvGrpSpPr/>
          <p:nvPr/>
        </p:nvGrpSpPr>
        <p:grpSpPr>
          <a:xfrm>
            <a:off x="4495680" y="4875120"/>
            <a:ext cx="4221360" cy="1677960"/>
            <a:chOff x="4495680" y="4875120"/>
            <a:chExt cx="4221360" cy="1677960"/>
          </a:xfrm>
        </p:grpSpPr>
        <p:sp>
          <p:nvSpPr>
            <p:cNvPr id="437" name=""/>
            <p:cNvSpPr/>
            <p:nvPr/>
          </p:nvSpPr>
          <p:spPr>
            <a:xfrm>
              <a:off x="4495680" y="6172200"/>
              <a:ext cx="144792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53000" y="4875120"/>
              <a:ext cx="22640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5) Mod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des attribu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9" name=""/>
            <p:cNvCxnSpPr>
              <a:stCxn id="438" idx="2"/>
              <a:endCxn id="437" idx="0"/>
            </p:cNvCxnSpPr>
            <p:nvPr/>
          </p:nvCxnSpPr>
          <p:spPr>
            <a:xfrm rot="5400000">
              <a:off x="6169680" y="4757760"/>
              <a:ext cx="464400" cy="2365920"/>
            </a:xfrm>
            <a:prstGeom prst="bentConnector3">
              <a:avLst>
                <a:gd name="adj1" fmla="val 4996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503280" y="2060640"/>
            <a:ext cx="82328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1628640"/>
            <a:ext cx="8232840" cy="442116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able des matiè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857920" cy="40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503280" y="2060640"/>
            <a:ext cx="82328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8360" y="1628640"/>
            <a:ext cx="8232840" cy="442116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2044800" y="1389240"/>
            <a:ext cx="4759200" cy="51354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Insertion table des matière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Personnalisation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851280" y="1325520"/>
            <a:ext cx="5097600" cy="30877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86200" y="32767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35053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37339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403848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10080" y="41148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62920" y="43434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3068640"/>
            <a:ext cx="352908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fic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 d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 numéro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igner à droite les numéros d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en entre les titres et les n° d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ix du format de la 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ix du nombre de hiérachie des titres  à prendre e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étail sur les styles de titre à prendre e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56" idx="0"/>
            <a:endCxn id="449" idx="1"/>
          </p:cNvCxnSpPr>
          <p:nvPr/>
        </p:nvCxnSpPr>
        <p:spPr>
          <a:xfrm flipH="1" flipV="1" rot="5400000">
            <a:off x="2798640" y="2015640"/>
            <a:ext cx="199080" cy="19072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ise à jour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760320" y="4340160"/>
            <a:ext cx="39560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contextuel T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5214960" y="2205000"/>
            <a:ext cx="3460680" cy="34099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791320" y="3429000"/>
            <a:ext cx="38088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9" idx="0"/>
          </p:cNvCxnSpPr>
          <p:nvPr/>
        </p:nvCxnSpPr>
        <p:spPr>
          <a:xfrm flipH="1" flipV="1" rot="5400000">
            <a:off x="3523680" y="2787120"/>
            <a:ext cx="767520" cy="233892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69608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ppliquer les styles « titre », « titre 1 », etc. au document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«  introduction.doc 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sérer une table de matière sur le même de docume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réer un nouveau style de paragraphe comme le suivant (justifié, fond gris) dans le document « introduction.doc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ppliquer ce style sur le premier paragraphe après chaque tit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900000" y="4025880"/>
            <a:ext cx="7561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caractè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4038480" cy="39513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1184400" y="2954160"/>
            <a:ext cx="2666880" cy="762120"/>
            <a:chOff x="1184400" y="2954160"/>
            <a:chExt cx="2666880" cy="762120"/>
          </a:xfrm>
        </p:grpSpPr>
        <p:sp>
          <p:nvSpPr>
            <p:cNvPr id="157" name=""/>
            <p:cNvSpPr/>
            <p:nvPr/>
          </p:nvSpPr>
          <p:spPr>
            <a:xfrm>
              <a:off x="1184400" y="2954160"/>
              <a:ext cx="160020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03dff"/>
                  </a:solidFill>
                  <a:latin typeface="Times New Roman"/>
                </a:rPr>
                <a:t>Po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84600" y="3182760"/>
              <a:ext cx="106668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68360" y="3789000"/>
            <a:ext cx="3124080" cy="990720"/>
            <a:chOff x="468360" y="3789000"/>
            <a:chExt cx="3124080" cy="990720"/>
          </a:xfrm>
        </p:grpSpPr>
        <p:sp>
          <p:nvSpPr>
            <p:cNvPr id="160" name=""/>
            <p:cNvSpPr/>
            <p:nvPr/>
          </p:nvSpPr>
          <p:spPr>
            <a:xfrm>
              <a:off x="468360" y="4322520"/>
              <a:ext cx="236232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Autres attribu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830680" y="3789000"/>
              <a:ext cx="761760" cy="685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705720" y="3716280"/>
            <a:ext cx="2438280" cy="533160"/>
            <a:chOff x="6705720" y="3716280"/>
            <a:chExt cx="2438280" cy="533160"/>
          </a:xfrm>
        </p:grpSpPr>
        <p:sp>
          <p:nvSpPr>
            <p:cNvPr id="163" name=""/>
            <p:cNvSpPr/>
            <p:nvPr/>
          </p:nvSpPr>
          <p:spPr>
            <a:xfrm>
              <a:off x="7543800" y="3792240"/>
              <a:ext cx="160020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Tail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705720" y="3716280"/>
              <a:ext cx="83808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132000" y="1413000"/>
            <a:ext cx="3352680" cy="1143000"/>
            <a:chOff x="3132000" y="1413000"/>
            <a:chExt cx="3352680" cy="1143000"/>
          </a:xfrm>
        </p:grpSpPr>
        <p:sp>
          <p:nvSpPr>
            <p:cNvPr id="166" name=""/>
            <p:cNvSpPr/>
            <p:nvPr/>
          </p:nvSpPr>
          <p:spPr>
            <a:xfrm>
              <a:off x="4884480" y="1413000"/>
              <a:ext cx="160020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132000" y="1793880"/>
              <a:ext cx="17524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651640" y="1844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659640" y="335736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0040" y="1628640"/>
            <a:ext cx="26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caractè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19520" y="1557360"/>
            <a:ext cx="4624200" cy="452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2349360"/>
            <a:ext cx="1822320" cy="457200"/>
          </a:xfrm>
          <a:prstGeom prst="bevel">
            <a:avLst>
              <a:gd name="adj" fmla="val 12500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Times New Roman"/>
              </a:rPr>
              <a:t>Espa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4038480" cy="414648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684360" y="2382840"/>
            <a:ext cx="3030120" cy="685800"/>
            <a:chOff x="684360" y="2382840"/>
            <a:chExt cx="3030120" cy="685800"/>
          </a:xfrm>
        </p:grpSpPr>
        <p:sp>
          <p:nvSpPr>
            <p:cNvPr id="177" name=""/>
            <p:cNvSpPr/>
            <p:nvPr/>
          </p:nvSpPr>
          <p:spPr>
            <a:xfrm>
              <a:off x="684360" y="2382840"/>
              <a:ext cx="176760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Alig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1960" y="2763720"/>
              <a:ext cx="1262520" cy="30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39800" y="2125440"/>
            <a:ext cx="2895480" cy="1447920"/>
            <a:chOff x="739800" y="2125440"/>
            <a:chExt cx="2895480" cy="1447920"/>
          </a:xfrm>
        </p:grpSpPr>
        <p:sp>
          <p:nvSpPr>
            <p:cNvPr id="180" name=""/>
            <p:cNvSpPr/>
            <p:nvPr/>
          </p:nvSpPr>
          <p:spPr>
            <a:xfrm>
              <a:off x="739800" y="3116160"/>
              <a:ext cx="160020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Retra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340000" y="2125440"/>
              <a:ext cx="1295280" cy="9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680160" y="2898360"/>
            <a:ext cx="2932200" cy="1538640"/>
            <a:chOff x="6680160" y="2898360"/>
            <a:chExt cx="2932200" cy="1538640"/>
          </a:xfrm>
        </p:grpSpPr>
        <p:sp>
          <p:nvSpPr>
            <p:cNvPr id="183" name=""/>
            <p:cNvSpPr/>
            <p:nvPr/>
          </p:nvSpPr>
          <p:spPr>
            <a:xfrm>
              <a:off x="6680160" y="3979800"/>
              <a:ext cx="175248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Espa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8388360" y="2898360"/>
              <a:ext cx="1224000" cy="108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68080" y="1274760"/>
            <a:ext cx="33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agra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ttributs de paragraph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780000" y="1916280"/>
            <a:ext cx="4038480" cy="41464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332000" y="2349000"/>
            <a:ext cx="3816000" cy="1105200"/>
            <a:chOff x="1332000" y="2349000"/>
            <a:chExt cx="3816000" cy="1105200"/>
          </a:xfrm>
        </p:grpSpPr>
        <p:sp>
          <p:nvSpPr>
            <p:cNvPr id="189" name=""/>
            <p:cNvSpPr/>
            <p:nvPr/>
          </p:nvSpPr>
          <p:spPr>
            <a:xfrm>
              <a:off x="1332000" y="2997000"/>
              <a:ext cx="2100960" cy="457200"/>
            </a:xfrm>
            <a:prstGeom prst="bevel">
              <a:avLst>
                <a:gd name="adj" fmla="val 12500"/>
              </a:avLst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Times New Roman"/>
                </a:rPr>
                <a:t>Enchaî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390480" y="2349000"/>
              <a:ext cx="1757520" cy="64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9:45:05Z</dcterms:created>
  <dc:creator>Manuele Kirsch Pinheiro</dc:creator>
  <dc:description/>
  <dc:language>en-US</dc:language>
  <cp:lastModifiedBy>Manuele Kirsch Pinheiro</cp:lastModifiedBy>
  <dcterms:modified xsi:type="dcterms:W3CDTF">2006-10-02T21:54:58Z</dcterms:modified>
  <cp:revision>15</cp:revision>
  <dc:subject/>
  <dc:title>Traitement de texte : Word</dc:title>
</cp:coreProperties>
</file>