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D6A4-FFF1-406B-8554-986B0E7EB4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 référer à la future activité : appliquer différents styles à un même document : séparation du contenu et du look and f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’est dans ce dossier que tous les nouveaux styles utilisateurs seront stock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.dot, c’est un .doc dans lequel l’information importante est composée des styles (et non du contenu du document). Le .dot peut être utilisé comme fichier d’exemple du sty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commentaire peut être ajouté à l’endroit courant dans le texte (c’est-à-dire, à la place du curseur), en utilisant la commande « Commentaire » dans le menu inser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74B6-D1E8-4C60-B774-D8EEAA813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2A31-C4A8-4FF9-864A-DA91E834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6162-0842-464C-ADEB-30573477D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C327-A442-40FA-8699-D204A0AA7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ABC00-4F42-4B44-8F8D-1766D1084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F16D0-56E7-4137-B5DF-F16C189D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442EF-9AF6-4AC2-92CE-8BB3178D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435B-EA44-4D45-8D34-4B57515B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B512-B3BD-4B93-8199-374C0177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324000" y="115920"/>
            <a:ext cx="741672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CF3C-E256-4E96-BC82-64CC4112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2F5F-685F-4105-BD71-F01060F1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E12E-A763-48A4-BFC7-996D827B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353C-3CDD-4753-AA6F-23FC66EC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2AF9-9D23-4421-A4E0-D531A6F6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2126-89FE-464F-A9BF-0D9B2950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AB8F-C560-4C87-9269-9B8C28980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03AA5-A919-41FD-A4B0-32EED7532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8FC4-CD15-4DC0-8C4F-4968DFA0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0028-FC96-49E8-B591-8AFAAB24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65DA-9CE1-4FBB-81F5-4C443617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24000" y="115920"/>
            <a:ext cx="741672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FD91-73DC-473A-B022-0554A7CF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AA38-64B8-4A3A-B541-9D7DC6E4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3CAB-B5E8-4F7B-96FD-8E6D9001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8D9A-E740-4F08-9C02-981FA1CF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86920" y="6248520"/>
            <a:ext cx="230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formatique Générale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48000" y="6237360"/>
            <a:ext cx="324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Manuele.Kirsch-Pinheiro@univ-nancy2.f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9B66-D061-4C46-8866-BBF819C9D5C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6093000"/>
            <a:ext cx="1179000" cy="720360"/>
            <a:chOff x="0" y="6093000"/>
            <a:chExt cx="1179000" cy="720360"/>
          </a:xfrm>
        </p:grpSpPr>
        <p:sp>
          <p:nvSpPr>
            <p:cNvPr id="6" name=""/>
            <p:cNvSpPr/>
            <p:nvPr/>
          </p:nvSpPr>
          <p:spPr>
            <a:xfrm>
              <a:off x="19800" y="6106680"/>
              <a:ext cx="1142280" cy="59580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067040" y="6177240"/>
              <a:ext cx="74160" cy="1180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5480" y="6353640"/>
              <a:ext cx="830880" cy="37620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9960" y="6384600"/>
              <a:ext cx="550800" cy="343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03640" y="6131520"/>
              <a:ext cx="141480" cy="11088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67080" y="6710760"/>
              <a:ext cx="79560" cy="10260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440" y="6200280"/>
              <a:ext cx="202320" cy="35136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95520" y="6184800"/>
              <a:ext cx="381600" cy="15948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58560" y="6279120"/>
              <a:ext cx="163440" cy="61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"/>
            <p:cNvGrpSpPr/>
            <p:nvPr/>
          </p:nvGrpSpPr>
          <p:grpSpPr>
            <a:xfrm>
              <a:off x="0" y="6093000"/>
              <a:ext cx="1179000" cy="715680"/>
              <a:chOff x="0" y="6093000"/>
              <a:chExt cx="1179000" cy="715680"/>
            </a:xfrm>
          </p:grpSpPr>
          <p:grpSp>
            <p:nvGrpSpPr>
              <p:cNvPr id="16" name=""/>
              <p:cNvGrpSpPr/>
              <p:nvPr/>
            </p:nvGrpSpPr>
            <p:grpSpPr>
              <a:xfrm>
                <a:off x="518040" y="6158880"/>
                <a:ext cx="574560" cy="649800"/>
                <a:chOff x="518040" y="6158880"/>
                <a:chExt cx="574560" cy="64980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518040" y="6181920"/>
                  <a:ext cx="164520" cy="7956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661680" y="6686640"/>
                  <a:ext cx="120600" cy="12204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1047600" y="6158880"/>
                  <a:ext cx="45000" cy="10728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" name=""/>
              <p:cNvSpPr/>
              <p:nvPr/>
            </p:nvSpPr>
            <p:spPr>
              <a:xfrm>
                <a:off x="74160" y="6315120"/>
                <a:ext cx="624240" cy="2293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67480" y="6456240"/>
                <a:ext cx="255960" cy="1357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587160" y="6267240"/>
                <a:ext cx="111960" cy="21816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" name=""/>
              <p:cNvGrpSpPr/>
              <p:nvPr/>
            </p:nvGrpSpPr>
            <p:grpSpPr>
              <a:xfrm>
                <a:off x="0" y="6093000"/>
                <a:ext cx="1179000" cy="622080"/>
                <a:chOff x="0" y="6093000"/>
                <a:chExt cx="1179000" cy="622080"/>
              </a:xfrm>
            </p:grpSpPr>
            <p:sp>
              <p:nvSpPr>
                <p:cNvPr id="24" name=""/>
                <p:cNvSpPr/>
                <p:nvPr/>
              </p:nvSpPr>
              <p:spPr>
                <a:xfrm>
                  <a:off x="696600" y="6605280"/>
                  <a:ext cx="78480" cy="7956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0" y="6311160"/>
                  <a:ext cx="883440" cy="40392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105840" y="6350040"/>
                  <a:ext cx="83880" cy="15300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465840" y="6093000"/>
                  <a:ext cx="337680" cy="5450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601200" y="6239520"/>
                  <a:ext cx="100440" cy="23148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338760" y="6221160"/>
                  <a:ext cx="204480" cy="12384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685080" y="6136920"/>
                  <a:ext cx="493920" cy="1944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47000" y="6199200"/>
                  <a:ext cx="256680" cy="788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" name=""/>
          <p:cNvGrpSpPr/>
          <p:nvPr/>
        </p:nvGrpSpPr>
        <p:grpSpPr>
          <a:xfrm>
            <a:off x="179280" y="1413000"/>
            <a:ext cx="385920" cy="4308480"/>
            <a:chOff x="179280" y="1413000"/>
            <a:chExt cx="385920" cy="4308480"/>
          </a:xfrm>
        </p:grpSpPr>
        <p:sp>
          <p:nvSpPr>
            <p:cNvPr id="33" name=""/>
            <p:cNvSpPr/>
            <p:nvPr/>
          </p:nvSpPr>
          <p:spPr>
            <a:xfrm>
              <a:off x="239760" y="345600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79280" y="141300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" name="" descr=""/>
          <p:cNvPicPr/>
          <p:nvPr/>
        </p:nvPicPr>
        <p:blipFill>
          <a:blip r:embed="rId2"/>
          <a:stretch/>
        </p:blipFill>
        <p:spPr>
          <a:xfrm>
            <a:off x="7775640" y="219240"/>
            <a:ext cx="136836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29D4-69AA-4D74-8845-675377167EB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78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82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88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92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zdnet.fr/actualites/internet/0,39020774,39364109,00.htm" TargetMode="Externa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oncepts avancés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9E62-891C-4554-A0B3-59EE33DFD7B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Révision styl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413000"/>
            <a:ext cx="82789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Styl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ce n’est pas que de la présentation, c’est de l’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organisa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orm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: base pour les autres sty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itre 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: titres d’un certain niveau hiérarchiqu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s de Titre 3 sans Titre 2, ni Titre 1 !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orps du documen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créer autant de styles que nécessai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. ex.: style 1er paragraphe, style paragraphe de numérotation…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128F-37A8-46D4-AC30-68C4E6C644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4920" y="476280"/>
            <a:ext cx="8458200" cy="6305400"/>
          </a:xfrm>
          <a:prstGeom prst="rect">
            <a:avLst/>
          </a:prstGeom>
          <a:ln w="0">
            <a:noFill/>
          </a:ln>
        </p:spPr>
      </p:pic>
      <p:grpSp>
        <p:nvGrpSpPr>
          <p:cNvPr id="174" name=""/>
          <p:cNvGrpSpPr/>
          <p:nvPr/>
        </p:nvGrpSpPr>
        <p:grpSpPr>
          <a:xfrm>
            <a:off x="4427640" y="1341360"/>
            <a:ext cx="3341520" cy="2950920"/>
            <a:chOff x="4427640" y="1341360"/>
            <a:chExt cx="3341520" cy="2950920"/>
          </a:xfrm>
        </p:grpSpPr>
        <p:sp>
          <p:nvSpPr>
            <p:cNvPr id="175" name=""/>
            <p:cNvSpPr/>
            <p:nvPr/>
          </p:nvSpPr>
          <p:spPr>
            <a:xfrm>
              <a:off x="4427640" y="1341360"/>
              <a:ext cx="2908080" cy="2624040"/>
            </a:xfrm>
            <a:custGeom>
              <a:avLst/>
              <a:gdLst/>
              <a:ahLst/>
              <a:rect l="l" t="t" r="r" b="b"/>
              <a:pathLst>
                <a:path w="1832" h="1486">
                  <a:moveTo>
                    <a:pt x="1832" y="1486"/>
                  </a:moveTo>
                  <a:lnTo>
                    <a:pt x="1823" y="9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977160" y="3965400"/>
              <a:ext cx="792000" cy="326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900000" y="1844640"/>
            <a:ext cx="5832720" cy="3024360"/>
            <a:chOff x="900000" y="1844640"/>
            <a:chExt cx="5832720" cy="3024360"/>
          </a:xfrm>
        </p:grpSpPr>
        <p:sp>
          <p:nvSpPr>
            <p:cNvPr id="178" name=""/>
            <p:cNvSpPr/>
            <p:nvPr/>
          </p:nvSpPr>
          <p:spPr>
            <a:xfrm>
              <a:off x="900000" y="1844640"/>
              <a:ext cx="1562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00000" y="4869000"/>
              <a:ext cx="1562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2411280" y="1915920"/>
              <a:ext cx="4321440" cy="253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484000" y="4456080"/>
              <a:ext cx="4248360" cy="341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826920" y="1844640"/>
            <a:ext cx="7058160" cy="3097080"/>
            <a:chOff x="826920" y="1844640"/>
            <a:chExt cx="7058160" cy="3097080"/>
          </a:xfrm>
        </p:grpSpPr>
        <p:sp>
          <p:nvSpPr>
            <p:cNvPr id="183" name=""/>
            <p:cNvSpPr/>
            <p:nvPr/>
          </p:nvSpPr>
          <p:spPr>
            <a:xfrm>
              <a:off x="6589800" y="4630680"/>
              <a:ext cx="1295280" cy="311040"/>
            </a:xfrm>
            <a:prstGeom prst="ellipse">
              <a:avLst/>
            </a:prstGeom>
            <a:noFill/>
            <a:ln w="28440">
              <a:solidFill>
                <a:srgbClr val="340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1979640" y="2060280"/>
              <a:ext cx="4610160" cy="2725560"/>
            </a:xfrm>
            <a:prstGeom prst="line">
              <a:avLst/>
            </a:prstGeom>
            <a:ln w="38160">
              <a:solidFill>
                <a:srgbClr val="3400c8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flipV="1">
              <a:off x="2268360" y="3429000"/>
              <a:ext cx="4321440" cy="1357200"/>
            </a:xfrm>
            <a:prstGeom prst="line">
              <a:avLst/>
            </a:prstGeom>
            <a:ln w="38160">
              <a:solidFill>
                <a:srgbClr val="3400c8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26920" y="1844640"/>
              <a:ext cx="1152720" cy="289080"/>
            </a:xfrm>
            <a:prstGeom prst="ellipse">
              <a:avLst/>
            </a:prstGeom>
            <a:noFill/>
            <a:ln w="28440">
              <a:solidFill>
                <a:srgbClr val="340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26920" y="3284640"/>
              <a:ext cx="1443240" cy="336600"/>
            </a:xfrm>
            <a:prstGeom prst="ellipse">
              <a:avLst/>
            </a:prstGeom>
            <a:noFill/>
            <a:ln w="28440">
              <a:solidFill>
                <a:srgbClr val="340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219280" y="2276640"/>
            <a:ext cx="2737440" cy="2808000"/>
            <a:chOff x="5219280" y="2276640"/>
            <a:chExt cx="2737440" cy="2808000"/>
          </a:xfrm>
        </p:grpSpPr>
        <p:sp>
          <p:nvSpPr>
            <p:cNvPr id="189" name=""/>
            <p:cNvSpPr/>
            <p:nvPr/>
          </p:nvSpPr>
          <p:spPr>
            <a:xfrm flipH="1" flipV="1">
              <a:off x="5219280" y="2276640"/>
              <a:ext cx="1436760" cy="527040"/>
            </a:xfrm>
            <a:prstGeom prst="line">
              <a:avLst/>
            </a:prstGeom>
            <a:ln w="28440">
              <a:solidFill>
                <a:srgbClr val="00b2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5219640" y="2952720"/>
              <a:ext cx="1441440" cy="692280"/>
            </a:xfrm>
            <a:prstGeom prst="line">
              <a:avLst/>
            </a:prstGeom>
            <a:ln w="28440">
              <a:solidFill>
                <a:srgbClr val="00b2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219280" y="2997360"/>
              <a:ext cx="1584360" cy="2087280"/>
            </a:xfrm>
            <a:prstGeom prst="line">
              <a:avLst/>
            </a:prstGeom>
            <a:ln w="28440">
              <a:solidFill>
                <a:srgbClr val="00b2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661080" y="2692440"/>
              <a:ext cx="1295640" cy="347760"/>
            </a:xfrm>
            <a:prstGeom prst="ellipse">
              <a:avLst/>
            </a:prstGeom>
            <a:noFill/>
            <a:ln w="2844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219640" y="2781000"/>
            <a:ext cx="2808360" cy="2808720"/>
            <a:chOff x="5219640" y="2781000"/>
            <a:chExt cx="2808360" cy="2808720"/>
          </a:xfrm>
        </p:grpSpPr>
        <p:sp>
          <p:nvSpPr>
            <p:cNvPr id="194" name=""/>
            <p:cNvSpPr/>
            <p:nvPr/>
          </p:nvSpPr>
          <p:spPr>
            <a:xfrm>
              <a:off x="6934320" y="3284640"/>
              <a:ext cx="1093680" cy="0"/>
            </a:xfrm>
            <a:prstGeom prst="line">
              <a:avLst/>
            </a:prstGeom>
            <a:ln w="38160">
              <a:solidFill>
                <a:srgbClr val="340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5292360" y="2781000"/>
              <a:ext cx="1562040" cy="430200"/>
            </a:xfrm>
            <a:prstGeom prst="line">
              <a:avLst/>
            </a:prstGeom>
            <a:ln w="28440">
              <a:solidFill>
                <a:srgbClr val="3400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219640" y="3211560"/>
              <a:ext cx="1635120" cy="938160"/>
            </a:xfrm>
            <a:prstGeom prst="line">
              <a:avLst/>
            </a:prstGeom>
            <a:ln w="28440">
              <a:solidFill>
                <a:srgbClr val="3400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5292360" y="3211560"/>
              <a:ext cx="1562040" cy="2378160"/>
            </a:xfrm>
            <a:prstGeom prst="line">
              <a:avLst/>
            </a:prstGeom>
            <a:ln w="28440">
              <a:solidFill>
                <a:srgbClr val="3400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1258920" y="3500280"/>
            <a:ext cx="5833800" cy="2881440"/>
            <a:chOff x="1258920" y="3500280"/>
            <a:chExt cx="5833800" cy="2881440"/>
          </a:xfrm>
        </p:grpSpPr>
        <p:sp>
          <p:nvSpPr>
            <p:cNvPr id="199" name=""/>
            <p:cNvSpPr/>
            <p:nvPr/>
          </p:nvSpPr>
          <p:spPr>
            <a:xfrm>
              <a:off x="1258920" y="5877000"/>
              <a:ext cx="1727280" cy="504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3058920" y="3500280"/>
              <a:ext cx="4033800" cy="259272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9D8B-8D1C-4BFF-95EA-FE4B1F3C94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08000" y="404640"/>
            <a:ext cx="4135320" cy="61930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284360" y="692280"/>
            <a:ext cx="4282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ur que les titres soient correctement numérotés 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ifier style -&gt; format -&gt; numérot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211640" y="3112920"/>
            <a:ext cx="4824360" cy="3635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79280" y="4365720"/>
            <a:ext cx="1079640" cy="5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6560" y="5950080"/>
            <a:ext cx="1081080" cy="358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619280" y="5516280"/>
            <a:ext cx="3960720" cy="64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3F2D-1339-45D7-B7A6-A9CFA28EC3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5240" y="189000"/>
            <a:ext cx="4533840" cy="30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ur que le premier paragraphe correspond au style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1erParagraph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t les suivants correspondent au style 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Corps du docum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3440" y="115920"/>
            <a:ext cx="4376880" cy="46814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748040" y="2133720"/>
            <a:ext cx="4287960" cy="46512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4920" y="4797360"/>
            <a:ext cx="4716360" cy="207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ifier l’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nchaînem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s styles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Titre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Titre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t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1erParagrap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50920" y="1413000"/>
            <a:ext cx="172728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692360" y="620640"/>
            <a:ext cx="172728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1413000"/>
            <a:ext cx="172728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861080" y="3429000"/>
            <a:ext cx="172692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32720" y="3429000"/>
            <a:ext cx="172692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373800" y="2637000"/>
            <a:ext cx="172728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9BE1-67D6-4E07-BE7A-5975A7DF2D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Modèl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 modèle s'applique à un docu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l correspond à un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ensemble de styl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réalablement défin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l existe des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modèles prédéfin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'utilisateur peut créer ses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opres modè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 modèle est stocké dans un document de format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.do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ssier par défaut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Modèles de l'utilisate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5478-A67E-477C-8FA2-C9A55BF2A6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Associer un modèl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195640" y="2565360"/>
            <a:ext cx="6438600" cy="36576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61400" y="1844640"/>
            <a:ext cx="2787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rial"/>
              </a:rPr>
              <a:t>Fichier </a:t>
            </a:r>
            <a:r>
              <a:rPr b="0" lang="en-US" sz="2400" spc="-1" strike="noStrike">
                <a:solidFill>
                  <a:srgbClr val="703d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703dff"/>
                </a:solidFill>
                <a:latin typeface="Arial"/>
              </a:rPr>
              <a:t> Nouv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BB8D-E351-4DEA-AEEE-256789B2EC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7416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Configurer le dossier par défaut</a:t>
            </a: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736720" y="1905120"/>
            <a:ext cx="5867640" cy="4343400"/>
          </a:xfrm>
          <a:prstGeom prst="rect">
            <a:avLst/>
          </a:prstGeom>
          <a:ln w="0">
            <a:noFill/>
          </a:ln>
        </p:spPr>
      </p:pic>
      <p:grpSp>
        <p:nvGrpSpPr>
          <p:cNvPr id="224" name=""/>
          <p:cNvGrpSpPr/>
          <p:nvPr/>
        </p:nvGrpSpPr>
        <p:grpSpPr>
          <a:xfrm>
            <a:off x="351360" y="2492280"/>
            <a:ext cx="4291920" cy="1657440"/>
            <a:chOff x="351360" y="2492280"/>
            <a:chExt cx="4291920" cy="1657440"/>
          </a:xfrm>
        </p:grpSpPr>
        <p:sp>
          <p:nvSpPr>
            <p:cNvPr id="225" name=""/>
            <p:cNvSpPr/>
            <p:nvPr/>
          </p:nvSpPr>
          <p:spPr>
            <a:xfrm>
              <a:off x="2738520" y="3768840"/>
              <a:ext cx="190476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6" name=""/>
            <p:cNvCxnSpPr>
              <a:stCxn id="227" idx="2"/>
              <a:endCxn id="225" idx="2"/>
            </p:cNvCxnSpPr>
            <p:nvPr/>
          </p:nvCxnSpPr>
          <p:spPr>
            <a:xfrm flipH="1" rot="16200000">
              <a:off x="1636560" y="2872440"/>
              <a:ext cx="967680" cy="1207080"/>
            </a:xfrm>
            <a:prstGeom prst="bentConnector2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27" name=""/>
            <p:cNvSpPr/>
            <p:nvPr/>
          </p:nvSpPr>
          <p:spPr>
            <a:xfrm>
              <a:off x="351360" y="2492280"/>
              <a:ext cx="23310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03dff"/>
                  </a:solidFill>
                  <a:latin typeface="Arial"/>
                </a:rPr>
                <a:t>(1) Sélectionn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7020000" y="5805360"/>
            <a:ext cx="143964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"/>
          <p:cNvCxnSpPr>
            <a:stCxn id="230" idx="2"/>
            <a:endCxn id="228" idx="2"/>
          </p:cNvCxnSpPr>
          <p:nvPr/>
        </p:nvCxnSpPr>
        <p:spPr>
          <a:xfrm flipH="1" rot="16200000">
            <a:off x="3902400" y="2955600"/>
            <a:ext cx="761400" cy="54442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30" name=""/>
          <p:cNvSpPr/>
          <p:nvPr/>
        </p:nvSpPr>
        <p:spPr>
          <a:xfrm>
            <a:off x="700560" y="4797360"/>
            <a:ext cx="17229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rial"/>
              </a:rPr>
              <a:t>(2) Mod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5280" y="1413000"/>
            <a:ext cx="8064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rial"/>
              </a:rPr>
              <a:t>Outils  </a:t>
            </a:r>
            <a:r>
              <a:rPr b="0" lang="en-US" sz="2400" spc="-1" strike="noStrike">
                <a:solidFill>
                  <a:srgbClr val="703d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703dff"/>
                </a:solidFill>
                <a:latin typeface="Arial"/>
              </a:rPr>
              <a:t> Options, onglet « Dossiers par défaut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084720" y="2708280"/>
            <a:ext cx="2016360" cy="4334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CDA3-2BF6-4DC5-9493-4A9C8900A2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réer un nouveau modèl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403280" y="1859040"/>
            <a:ext cx="6782040" cy="4665600"/>
          </a:xfrm>
          <a:prstGeom prst="rect">
            <a:avLst/>
          </a:prstGeom>
          <a:ln w="0">
            <a:noFill/>
          </a:ln>
        </p:spPr>
      </p:pic>
      <p:grpSp>
        <p:nvGrpSpPr>
          <p:cNvPr id="235" name=""/>
          <p:cNvGrpSpPr/>
          <p:nvPr/>
        </p:nvGrpSpPr>
        <p:grpSpPr>
          <a:xfrm>
            <a:off x="1187280" y="1773360"/>
            <a:ext cx="6048360" cy="1892520"/>
            <a:chOff x="1187280" y="1773360"/>
            <a:chExt cx="6048360" cy="1892520"/>
          </a:xfrm>
        </p:grpSpPr>
        <p:sp>
          <p:nvSpPr>
            <p:cNvPr id="236" name=""/>
            <p:cNvSpPr/>
            <p:nvPr/>
          </p:nvSpPr>
          <p:spPr>
            <a:xfrm>
              <a:off x="1187280" y="1773360"/>
              <a:ext cx="198108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7" name=""/>
            <p:cNvCxnSpPr>
              <a:stCxn id="238" idx="0"/>
              <a:endCxn id="236" idx="6"/>
            </p:cNvCxnSpPr>
            <p:nvPr/>
          </p:nvCxnSpPr>
          <p:spPr>
            <a:xfrm flipV="1" rot="16200000">
              <a:off x="3599280" y="1532160"/>
              <a:ext cx="876960" cy="1739520"/>
            </a:xfrm>
            <a:prstGeom prst="bentConnector2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38" name=""/>
            <p:cNvSpPr/>
            <p:nvPr/>
          </p:nvSpPr>
          <p:spPr>
            <a:xfrm>
              <a:off x="2579040" y="2840400"/>
              <a:ext cx="4656600" cy="825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03dff"/>
                  </a:solidFill>
                  <a:latin typeface="Arial"/>
                </a:rPr>
                <a:t>(1) Créer les nouveaux styles et Enregistrer sous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70920" y="4064040"/>
            <a:ext cx="4195080" cy="1525680"/>
            <a:chOff x="70920" y="4064040"/>
            <a:chExt cx="4195080" cy="1525680"/>
          </a:xfrm>
        </p:grpSpPr>
        <p:sp>
          <p:nvSpPr>
            <p:cNvPr id="240" name=""/>
            <p:cNvSpPr/>
            <p:nvPr/>
          </p:nvSpPr>
          <p:spPr>
            <a:xfrm>
              <a:off x="3173400" y="5208840"/>
              <a:ext cx="99072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>
              <a:stCxn id="242" idx="2"/>
              <a:endCxn id="240" idx="2"/>
            </p:cNvCxnSpPr>
            <p:nvPr/>
          </p:nvCxnSpPr>
          <p:spPr>
            <a:xfrm flipH="1" rot="16200000">
              <a:off x="2236680" y="4463280"/>
              <a:ext cx="867600" cy="1005480"/>
            </a:xfrm>
            <a:prstGeom prst="bentConnector2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42" name=""/>
            <p:cNvSpPr/>
            <p:nvPr/>
          </p:nvSpPr>
          <p:spPr>
            <a:xfrm>
              <a:off x="70920" y="4064040"/>
              <a:ext cx="41950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03dff"/>
                  </a:solidFill>
                  <a:latin typeface="Arial"/>
                </a:rPr>
                <a:t>(2) Choisir un nom de modè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3276720" y="4707000"/>
            <a:ext cx="4925160" cy="1601280"/>
            <a:chOff x="3276720" y="4707000"/>
            <a:chExt cx="4925160" cy="1601280"/>
          </a:xfrm>
        </p:grpSpPr>
        <p:sp>
          <p:nvSpPr>
            <p:cNvPr id="244" name=""/>
            <p:cNvSpPr/>
            <p:nvPr/>
          </p:nvSpPr>
          <p:spPr>
            <a:xfrm>
              <a:off x="3276720" y="6003720"/>
              <a:ext cx="1904760" cy="3045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5" name=""/>
            <p:cNvCxnSpPr>
              <a:stCxn id="246" idx="2"/>
              <a:endCxn id="244" idx="6"/>
            </p:cNvCxnSpPr>
            <p:nvPr/>
          </p:nvCxnSpPr>
          <p:spPr>
            <a:xfrm rot="5400000">
              <a:off x="5172120" y="5183640"/>
              <a:ext cx="981360" cy="964080"/>
            </a:xfrm>
            <a:prstGeom prst="bentConnector2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46" name=""/>
            <p:cNvSpPr/>
            <p:nvPr/>
          </p:nvSpPr>
          <p:spPr>
            <a:xfrm>
              <a:off x="4089240" y="4707000"/>
              <a:ext cx="4112640" cy="459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03dff"/>
                  </a:solidFill>
                  <a:latin typeface="Arial"/>
                </a:rPr>
                <a:t>(3) Sélectionner le format </a:t>
              </a:r>
              <a:r>
                <a:rPr b="0" i="1" lang="en-US" sz="2400" spc="-1" strike="noStrike">
                  <a:solidFill>
                    <a:srgbClr val="703dff"/>
                  </a:solidFill>
                  <a:latin typeface="Arial"/>
                </a:rPr>
                <a:t>do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1817-74A4-4804-8718-73DE659B4AB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rcic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76960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Créer document comme celui de l’image à côté, en utilisant les </a:t>
            </a:r>
            <a:r>
              <a:rPr b="0" lang="fr-FR" sz="3200" spc="-1" strike="noStrike">
                <a:solidFill>
                  <a:srgbClr val="703dff"/>
                </a:solidFill>
                <a:latin typeface="Comic Sans MS"/>
              </a:rPr>
              <a:t>styles.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Nommer-le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« exemple.doc 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Créer un </a:t>
            </a:r>
            <a:r>
              <a:rPr b="0" lang="fr-FR" sz="3200" spc="-1" strike="noStrike">
                <a:solidFill>
                  <a:srgbClr val="703dff"/>
                </a:solidFill>
                <a:latin typeface="Comic Sans MS"/>
              </a:rPr>
              <a:t>modè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contenant les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styles utilisé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dans ce docu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284720" y="2494080"/>
            <a:ext cx="4790880" cy="424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364E-332B-4BB2-A1E4-1CDFF5819F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Formulaires sur Word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BB1A-A286-42E6-AFC2-04A57D0A07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Plan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6960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Éditeur de texte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réer une page Web avec Wor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mpression sur PD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Modè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Formulai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Édition collaborative sur Wor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Blog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Wik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406F-719A-47E1-B08B-2896B4553F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Formulaires 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ion des documents servant à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recueillir des informatio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iblées (questionnaires, sondages, évaluation des connaissances…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met l’envoie du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formulaire en format électroniqu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non seulement papier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cuments contenant des 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cases à coch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des 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zones de text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t des 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listes déroulan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603B-9278-4194-8B23-BB080D0BBC9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réation d’un formulair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rre d’outils formulai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Menu « Affichage </a:t>
            </a:r>
            <a:r>
              <a:rPr b="0" lang="en-US" sz="2800" spc="-1" strike="noStrike">
                <a:solidFill>
                  <a:srgbClr val="703d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Barres d’outils </a:t>
            </a:r>
            <a:r>
              <a:rPr b="0" lang="en-US" sz="2800" spc="-1" strike="noStrike">
                <a:solidFill>
                  <a:srgbClr val="703d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Formulaires 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sertion du texte et de la mise en for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sertion des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champ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rotec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u document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084720" y="1773360"/>
            <a:ext cx="2880000" cy="55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365B-EF71-4209-B60A-E3C0174F93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741672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hoix des champ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76960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hamps de type tex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Bu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: recevoir une information tapée par l’utilisateu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Propriété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menu contextuel) 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ngue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xte par défau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se en for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majuscule, minuscul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Texte d’a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5580000" y="1251000"/>
            <a:ext cx="2016360" cy="5601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4859280" y="2492280"/>
            <a:ext cx="4211640" cy="41068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5580000" y="476280"/>
            <a:ext cx="3168720" cy="6080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5508720" y="674640"/>
            <a:ext cx="50328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012000" y="1108080"/>
            <a:ext cx="72072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3132000" y="2708280"/>
            <a:ext cx="2016000" cy="1612800"/>
            <a:chOff x="3132000" y="2708280"/>
            <a:chExt cx="2016000" cy="1612800"/>
          </a:xfrm>
        </p:grpSpPr>
        <p:pic>
          <p:nvPicPr>
            <p:cNvPr id="265" name="" descr=""/>
            <p:cNvPicPr/>
            <p:nvPr/>
          </p:nvPicPr>
          <p:blipFill>
            <a:blip r:embed="rId4"/>
            <a:stretch/>
          </p:blipFill>
          <p:spPr>
            <a:xfrm>
              <a:off x="3132000" y="2708280"/>
              <a:ext cx="1508400" cy="16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flipH="1" flipV="1">
              <a:off x="4571640" y="3284640"/>
              <a:ext cx="576360" cy="288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5003640" y="3716280"/>
            <a:ext cx="1366920" cy="649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7667280" y="3070080"/>
            <a:ext cx="576360" cy="28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6502320" y="3789360"/>
            <a:ext cx="2317680" cy="137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CA7A-ADCC-4F13-BA24-72328908D11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8000" y="125280"/>
            <a:ext cx="74167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hoix des champ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7696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hamps de type cases à coch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Bu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: choix entre plusieurs options préétabli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Propriété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menu contextue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il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leur par défau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ctivée / désactivé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Texte d’a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435640" y="333360"/>
            <a:ext cx="3168720" cy="6080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6372360" y="1228680"/>
            <a:ext cx="2288880" cy="4064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5796000" y="507960"/>
            <a:ext cx="36036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300720" y="941400"/>
            <a:ext cx="647640" cy="358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4925880" y="2708280"/>
            <a:ext cx="4038840" cy="38606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 flipH="1">
            <a:off x="6659640" y="2997360"/>
            <a:ext cx="50472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6372360" y="3573360"/>
            <a:ext cx="50472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7085-BBCB-423F-BE1E-786F3952CC5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8000" y="125280"/>
            <a:ext cx="74167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hoix des champ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7696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hamps de type liste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éroula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Bu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: choix unique entre plusieurs options dans une lis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Propriété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menu contextue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ste d’élém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sib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Texte d’a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5435640" y="333360"/>
            <a:ext cx="3168720" cy="60804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6083280" y="507960"/>
            <a:ext cx="36036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372360" y="907920"/>
            <a:ext cx="287280" cy="28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6083280" y="1197000"/>
            <a:ext cx="2160720" cy="10317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4827600" y="2724120"/>
            <a:ext cx="4208400" cy="40896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4932360" y="3595680"/>
            <a:ext cx="129708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156360" y="3021120"/>
            <a:ext cx="936720" cy="287280"/>
          </a:xfrm>
          <a:custGeom>
            <a:avLst/>
            <a:gdLst>
              <a:gd name="textAreaLeft" fmla="*/ 163800 w 936720"/>
              <a:gd name="textAreaRight" fmla="*/ 679320 w 9367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4033-5C2B-4479-B865-17F37609877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Texte d’aid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e aide sur le champ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624640" y="2421000"/>
            <a:ext cx="3340080" cy="21333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755640" y="2565360"/>
            <a:ext cx="5113440" cy="350208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5264280" y="4221000"/>
            <a:ext cx="302580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16EF-7C55-4F82-AC5A-7CCE7756B0C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Protection du document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5398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pêcher l’édition du formulai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mettre le remplissage du formulai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468360" y="3716280"/>
            <a:ext cx="3168360" cy="649440"/>
            <a:chOff x="468360" y="3716280"/>
            <a:chExt cx="3168360" cy="649440"/>
          </a:xfrm>
        </p:grpSpPr>
        <p:pic>
          <p:nvPicPr>
            <p:cNvPr id="296" name="" descr=""/>
            <p:cNvPicPr/>
            <p:nvPr/>
          </p:nvPicPr>
          <p:blipFill>
            <a:blip r:embed="rId1"/>
            <a:stretch/>
          </p:blipFill>
          <p:spPr>
            <a:xfrm>
              <a:off x="468360" y="3716280"/>
              <a:ext cx="316836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3276360" y="3932280"/>
              <a:ext cx="360360" cy="4334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705480" y="3645000"/>
            <a:ext cx="228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Outils </a:t>
            </a:r>
            <a:r>
              <a:rPr b="0" lang="en-US" sz="1800" spc="-1" strike="noStrike">
                <a:solidFill>
                  <a:srgbClr val="703d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 Protége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5946840" y="1557360"/>
            <a:ext cx="3162240" cy="5300640"/>
          </a:xfrm>
          <a:prstGeom prst="rect">
            <a:avLst/>
          </a:prstGeom>
          <a:ln w="0">
            <a:noFill/>
          </a:ln>
        </p:spPr>
      </p:pic>
      <p:grpSp>
        <p:nvGrpSpPr>
          <p:cNvPr id="300" name=""/>
          <p:cNvGrpSpPr/>
          <p:nvPr/>
        </p:nvGrpSpPr>
        <p:grpSpPr>
          <a:xfrm>
            <a:off x="2881440" y="4508640"/>
            <a:ext cx="2266920" cy="2349360"/>
            <a:chOff x="2881440" y="4508640"/>
            <a:chExt cx="2266920" cy="2349360"/>
          </a:xfrm>
        </p:grpSpPr>
        <p:pic>
          <p:nvPicPr>
            <p:cNvPr id="301" name="" descr=""/>
            <p:cNvPicPr/>
            <p:nvPr/>
          </p:nvPicPr>
          <p:blipFill>
            <a:blip r:embed="rId3"/>
            <a:stretch/>
          </p:blipFill>
          <p:spPr>
            <a:xfrm>
              <a:off x="2881440" y="4508640"/>
              <a:ext cx="226692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2881440" y="5373720"/>
              <a:ext cx="1224000" cy="431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"/>
          <p:cNvSpPr/>
          <p:nvPr/>
        </p:nvSpPr>
        <p:spPr>
          <a:xfrm flipH="1">
            <a:off x="4066920" y="4508640"/>
            <a:ext cx="2305080" cy="93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956880" y="5380200"/>
            <a:ext cx="167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Mot de passe </a:t>
            </a:r>
            <a:br>
              <a:rPr sz="1800"/>
            </a:b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optionn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340000" y="5950080"/>
            <a:ext cx="719280" cy="287280"/>
          </a:xfrm>
          <a:prstGeom prst="line">
            <a:avLst/>
          </a:prstGeom>
          <a:ln w="2844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4935-3E77-453E-9BF3-518C8BA74A0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Exercices</a:t>
            </a: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60280" y="1139760"/>
            <a:ext cx="8415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truire un formulaire comme celui-ci 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601560" y="1893960"/>
            <a:ext cx="8218440" cy="491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9341-EAD5-4A46-9B90-3014155C2C8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Édition collaborative sur Word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DA64-540F-45FE-8440-1507832185E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741672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Édition collaborative 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91856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Objectif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: éditer de manière collaborative un docu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groupe peut être géographiquement distribué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groupe peut travailler de manière asynchrone (en différé)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Outils dans Wor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ivi de modific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entair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524E-7BC4-431D-99BB-6CB1483B80F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Avant-propos…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C2i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, ça vous dit ?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ertificat national d’informatique et Intern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oncepts : bureautique et Intern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raitement de texte : Wor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ableur : Exc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ésentation assisté par ordinateur : PowerPoi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nternet : recherche Google, messagerie électronique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43A5-A28E-443A-86EF-32092D50FB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741672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Identification des auteur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aque co-auteur doit s’identifi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3247920" y="2060640"/>
            <a:ext cx="5861160" cy="4753080"/>
            <a:chOff x="3247920" y="2060640"/>
            <a:chExt cx="5861160" cy="4753080"/>
          </a:xfrm>
        </p:grpSpPr>
        <p:pic>
          <p:nvPicPr>
            <p:cNvPr id="316" name="" descr=""/>
            <p:cNvPicPr/>
            <p:nvPr/>
          </p:nvPicPr>
          <p:blipFill>
            <a:blip r:embed="rId1"/>
            <a:stretch/>
          </p:blipFill>
          <p:spPr>
            <a:xfrm>
              <a:off x="3247920" y="2060640"/>
              <a:ext cx="5861160" cy="475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3247920" y="3025800"/>
              <a:ext cx="1908720" cy="12056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480240" y="2492280"/>
            <a:ext cx="266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Menu outils </a:t>
            </a:r>
            <a:r>
              <a:rPr b="0" lang="en-US" sz="2400" spc="-1" strike="noStrike">
                <a:solidFill>
                  <a:srgbClr val="703d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option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onglet Utilis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BDE3-F6BA-4442-A962-C877C5D6FEA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24000" y="209160"/>
            <a:ext cx="74167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ommentair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80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xte dans le docu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notation pour l’auteur, et les personnes ayant accès au texte électroniq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3780000" y="1700280"/>
            <a:ext cx="5203800" cy="35352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 flipV="1">
            <a:off x="4356000" y="3141360"/>
            <a:ext cx="936720" cy="863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FEBE-7416-4834-B62E-F182EBF9D9F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24000" y="147240"/>
            <a:ext cx="74167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ommentair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8353440" cy="44701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378000" y="2565360"/>
            <a:ext cx="8658000" cy="2109960"/>
          </a:xfrm>
          <a:prstGeom prst="rect">
            <a:avLst/>
          </a:prstGeom>
          <a:ln w="57240">
            <a:solidFill>
              <a:srgbClr val="00b2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1265-7D45-428D-AE58-0218880F90B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741672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Suivi des modification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mettre aux co-auteurs de suivre le travail effectué par les collègu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908000" y="1341360"/>
            <a:ext cx="6912000" cy="5376960"/>
            <a:chOff x="1908000" y="1341360"/>
            <a:chExt cx="6912000" cy="5376960"/>
          </a:xfrm>
        </p:grpSpPr>
        <p:pic>
          <p:nvPicPr>
            <p:cNvPr id="330" name="" descr=""/>
            <p:cNvPicPr/>
            <p:nvPr/>
          </p:nvPicPr>
          <p:blipFill>
            <a:blip r:embed="rId1"/>
            <a:stretch/>
          </p:blipFill>
          <p:spPr>
            <a:xfrm>
              <a:off x="1908000" y="1341360"/>
              <a:ext cx="6912000" cy="537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 flipV="1">
              <a:off x="4140360" y="3428640"/>
              <a:ext cx="1079280" cy="576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818080" y="4005360"/>
              <a:ext cx="281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Suivi des modific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E27E-C48B-453B-B9C8-49DEF40E291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36520" y="44280"/>
            <a:ext cx="4724280" cy="590580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5435280" y="1341360"/>
            <a:ext cx="3529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rre d’outi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«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Révis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Affichage </a:t>
            </a:r>
            <a:r>
              <a:rPr b="0" lang="en-US" sz="2800" spc="-1" strike="noStrike">
                <a:solidFill>
                  <a:srgbClr val="00b2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Barres d’outils </a:t>
            </a:r>
            <a:r>
              <a:rPr b="0" lang="en-US" sz="2800" spc="-1" strike="noStrike">
                <a:solidFill>
                  <a:srgbClr val="00b2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Révis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"/>
          <p:cNvSpPr/>
          <p:nvPr/>
        </p:nvSpPr>
        <p:spPr>
          <a:xfrm>
            <a:off x="2771640" y="3933720"/>
            <a:ext cx="194472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116000" y="1413000"/>
            <a:ext cx="194472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114560" y="189000"/>
            <a:ext cx="72072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898560" y="4653000"/>
            <a:ext cx="7074000" cy="1955880"/>
            <a:chOff x="898560" y="4653000"/>
            <a:chExt cx="7074000" cy="1955880"/>
          </a:xfrm>
        </p:grpSpPr>
        <p:pic>
          <p:nvPicPr>
            <p:cNvPr id="339" name="" descr=""/>
            <p:cNvPicPr/>
            <p:nvPr/>
          </p:nvPicPr>
          <p:blipFill>
            <a:blip r:embed="rId2"/>
            <a:stretch/>
          </p:blipFill>
          <p:spPr>
            <a:xfrm>
              <a:off x="1116000" y="4653000"/>
              <a:ext cx="6856560" cy="1955880"/>
            </a:xfrm>
            <a:prstGeom prst="rect">
              <a:avLst/>
            </a:prstGeom>
            <a:ln w="38160">
              <a:solidFill>
                <a:srgbClr val="00b200"/>
              </a:solidFill>
              <a:miter/>
            </a:ln>
          </p:spPr>
        </p:pic>
        <p:sp>
          <p:nvSpPr>
            <p:cNvPr id="340" name=""/>
            <p:cNvSpPr/>
            <p:nvPr/>
          </p:nvSpPr>
          <p:spPr>
            <a:xfrm>
              <a:off x="898560" y="5516640"/>
              <a:ext cx="5834160" cy="5763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4AFE-2FC8-4324-A32D-93DF6115977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9360" y="2492280"/>
            <a:ext cx="9171000" cy="29559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4427640" y="2781360"/>
            <a:ext cx="1439640" cy="431640"/>
          </a:xfrm>
          <a:prstGeom prst="ellipse">
            <a:avLst/>
          </a:prstGeom>
          <a:noFill/>
          <a:ln w="507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195640" y="2421000"/>
            <a:ext cx="1728720" cy="3603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804000" y="2276640"/>
            <a:ext cx="2266920" cy="10810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443840" y="858960"/>
            <a:ext cx="251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odificatio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6" name=""/>
          <p:cNvCxnSpPr>
            <a:stCxn id="345" idx="2"/>
            <a:endCxn id="343" idx="0"/>
          </p:cNvCxnSpPr>
          <p:nvPr/>
        </p:nvCxnSpPr>
        <p:spPr>
          <a:xfrm flipH="1">
            <a:off x="3060000" y="1378080"/>
            <a:ext cx="2640600" cy="1018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45" idx="2"/>
            <a:endCxn id="342" idx="0"/>
          </p:cNvCxnSpPr>
          <p:nvPr/>
        </p:nvCxnSpPr>
        <p:spPr>
          <a:xfrm flipH="1">
            <a:off x="5148000" y="1377720"/>
            <a:ext cx="552960" cy="1378440"/>
          </a:xfrm>
          <a:prstGeom prst="straightConnector1">
            <a:avLst/>
          </a:prstGeom>
          <a:ln w="38160">
            <a:solidFill>
              <a:srgbClr val="703dff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45" idx="2"/>
            <a:endCxn id="344" idx="0"/>
          </p:cNvCxnSpPr>
          <p:nvPr/>
        </p:nvCxnSpPr>
        <p:spPr>
          <a:xfrm>
            <a:off x="5700600" y="1377720"/>
            <a:ext cx="2237760" cy="873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9" name=""/>
          <p:cNvSpPr/>
          <p:nvPr/>
        </p:nvSpPr>
        <p:spPr>
          <a:xfrm>
            <a:off x="368640" y="1197000"/>
            <a:ext cx="323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fférents couleu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fférents aut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1828-1E65-42E5-AEAC-ABB84F505BB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703dff"/>
                </a:solidFill>
                <a:latin typeface="Comic Sans MS"/>
              </a:rPr>
              <a:t>Identification des relecteur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7704360" cy="418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9E1D-AD31-4D9D-A97C-D8815D5043B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200160" y="189000"/>
            <a:ext cx="5740200" cy="36320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6212880" y="1125360"/>
            <a:ext cx="293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ctiver le « vol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évision » dans 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arre d’out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3924000" y="1557360"/>
            <a:ext cx="2376360" cy="1150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779400" y="2852640"/>
            <a:ext cx="8256600" cy="3835440"/>
            <a:chOff x="779400" y="2852640"/>
            <a:chExt cx="8256600" cy="3835440"/>
          </a:xfrm>
        </p:grpSpPr>
        <p:pic>
          <p:nvPicPr>
            <p:cNvPr id="356" name="" descr=""/>
            <p:cNvPicPr/>
            <p:nvPr/>
          </p:nvPicPr>
          <p:blipFill>
            <a:blip r:embed="rId2"/>
            <a:stretch/>
          </p:blipFill>
          <p:spPr>
            <a:xfrm>
              <a:off x="3295800" y="2852640"/>
              <a:ext cx="5740200" cy="38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779400" y="4365720"/>
              <a:ext cx="21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Modification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08000" y="4869000"/>
              <a:ext cx="1511640" cy="360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44A5-F2EC-4D65-AD09-C12FC7840BE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71600" y="216324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Comic Sans MS"/>
              </a:rPr>
              <a:t>Blog &amp; Wiki</a:t>
            </a:r>
            <a:br>
              <a:rPr sz="4000"/>
            </a:br>
            <a:r>
              <a:rPr b="0" lang="fr-FR" sz="4000" spc="-1" strike="noStrike">
                <a:solidFill>
                  <a:srgbClr val="ff0000"/>
                </a:solidFill>
                <a:latin typeface="Comic Sans MS"/>
              </a:rPr>
              <a:t>ou comment communiquer facile sur le Web ?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C00E-867C-4219-8B3C-6AC0EAB81CE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703dff"/>
                </a:solidFill>
                <a:latin typeface="Comic Sans MS"/>
              </a:rPr>
              <a:t>Blog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6960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Un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blog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(« </a:t>
            </a:r>
            <a:r>
              <a:rPr b="0" i="1" lang="fr-FR" sz="2800" spc="-1" strike="noStrike">
                <a:solidFill>
                  <a:srgbClr val="703dff"/>
                </a:solidFill>
                <a:latin typeface="Comic Sans MS"/>
              </a:rPr>
              <a:t>weblog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») est un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site personnel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tenu par un ou plusieurs personnes (les </a:t>
            </a:r>
            <a:r>
              <a:rPr b="0" i="1" lang="fr-FR" sz="2800" spc="-1" strike="noStrike">
                <a:solidFill>
                  <a:srgbClr val="703dff"/>
                </a:solidFill>
                <a:latin typeface="Comic Sans MS"/>
              </a:rPr>
              <a:t>blogueurs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haque blog est composé de articles courts (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billets ou notes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) publiés en ordre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ante-chronologique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ouvent assimilé à un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journal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inti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ouvent, les lecteurs peuvent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commenter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un blo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F26F-A8B8-44F5-8655-96C82A5CA8F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Web et PDF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E6D7-02E7-4F89-AC97-19766375A0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703dff"/>
                </a:solidFill>
                <a:latin typeface="Comic Sans MS"/>
              </a:rPr>
              <a:t>Blog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92280" y="141408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Facile à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concevoi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Usage d’outils spécialisés hébergés par les sites (Blogger.com, Skyblog.com, etc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as besoin de maîtriser le (X)HTM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Outil de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communication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et de promotion personn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Blogs politiques, blogs de journalistes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arnets de voyages, photo-blog, video-blog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Contenu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varié : texte, images, vidéos, liens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Présentation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homogène, personnalisation souvent limité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2892-C972-4623-9648-6D53D8F5E0F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"/>
          <p:cNvGrpSpPr/>
          <p:nvPr/>
        </p:nvGrpSpPr>
        <p:grpSpPr>
          <a:xfrm>
            <a:off x="539640" y="189000"/>
            <a:ext cx="8050320" cy="3301920"/>
            <a:chOff x="539640" y="189000"/>
            <a:chExt cx="8050320" cy="3301920"/>
          </a:xfrm>
        </p:grpSpPr>
        <p:pic>
          <p:nvPicPr>
            <p:cNvPr id="365" name="" descr=""/>
            <p:cNvPicPr/>
            <p:nvPr/>
          </p:nvPicPr>
          <p:blipFill>
            <a:blip r:embed="rId1"/>
            <a:stretch/>
          </p:blipFill>
          <p:spPr>
            <a:xfrm>
              <a:off x="539640" y="189000"/>
              <a:ext cx="5137200" cy="33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5947920" y="1675080"/>
              <a:ext cx="26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Édition simplifié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 flipV="1">
              <a:off x="5003280" y="1555920"/>
              <a:ext cx="863640" cy="288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604800" y="2976480"/>
            <a:ext cx="7860960" cy="3765600"/>
            <a:chOff x="604800" y="2976480"/>
            <a:chExt cx="7860960" cy="3765600"/>
          </a:xfrm>
        </p:grpSpPr>
        <p:grpSp>
          <p:nvGrpSpPr>
            <p:cNvPr id="369" name=""/>
            <p:cNvGrpSpPr/>
            <p:nvPr/>
          </p:nvGrpSpPr>
          <p:grpSpPr>
            <a:xfrm>
              <a:off x="604800" y="2976480"/>
              <a:ext cx="7860960" cy="3765600"/>
              <a:chOff x="604800" y="2976480"/>
              <a:chExt cx="7860960" cy="3765600"/>
            </a:xfrm>
          </p:grpSpPr>
          <p:pic>
            <p:nvPicPr>
              <p:cNvPr id="37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04800" y="2976480"/>
                <a:ext cx="5983200" cy="376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1" name=""/>
              <p:cNvSpPr/>
              <p:nvPr/>
            </p:nvSpPr>
            <p:spPr>
              <a:xfrm>
                <a:off x="5607360" y="5013360"/>
                <a:ext cx="28584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Édition code HTML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souvent permis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4500720" y="4724280"/>
                <a:ext cx="1077840" cy="433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1042920" y="3789360"/>
              <a:ext cx="2664000" cy="358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4068720" y="2354400"/>
            <a:ext cx="4751280" cy="3811320"/>
            <a:chOff x="4068720" y="2354400"/>
            <a:chExt cx="4751280" cy="3811320"/>
          </a:xfrm>
        </p:grpSpPr>
        <p:pic>
          <p:nvPicPr>
            <p:cNvPr id="375" name="" descr=""/>
            <p:cNvPicPr/>
            <p:nvPr/>
          </p:nvPicPr>
          <p:blipFill>
            <a:blip r:embed="rId3"/>
            <a:stretch/>
          </p:blipFill>
          <p:spPr>
            <a:xfrm>
              <a:off x="4068720" y="2354400"/>
              <a:ext cx="4751280" cy="38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4291200" y="4533840"/>
              <a:ext cx="112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illet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5219640" y="4365720"/>
              <a:ext cx="432000" cy="2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148360" y="4941720"/>
              <a:ext cx="43164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FC9E-D67C-4121-BF44-CA8F8947BDD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703dff"/>
                </a:solidFill>
                <a:latin typeface="Comic Sans MS"/>
              </a:rPr>
              <a:t>Les risques du blog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82072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Questions liés à la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propriété intellectuelle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et au droit à l’im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Respect à la vie privé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Quelques exemples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« Nissan fait condamner un blog de salariée pour diffamation » (</a:t>
            </a:r>
            <a:r>
              <a:rPr b="1" lang="fr-FR" sz="20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www.zdnet.fr/actualites/internet/0,39020774,39364109,00.htm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« Un proviseur révoqué pour s'être livré intimement sur son blog »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(http://www.zdnet.fr/entreprise/management-rh/collaboratif/0,50007183,39304238,00.htm)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9E49-1EAF-40D0-A453-C9A0D906CE2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Quelques exempl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696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Blogs éducatifs :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projet FLENET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http://www.blogg.org/blog.php/Carnet_FLE_2004/584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Blogs politiques :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Alain Juppé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http://www.al1jup.com/index.php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),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Blog à Part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http://www.blogapart.info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ites :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Skyblog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http://www.skyblog.com/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),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Blogger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http://www.blogger.com/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),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NRJ Blog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http://www.nrjblog.fr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) 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1D31-4CD7-4154-9E54-E5FD211EBB1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703dff"/>
                </a:solidFill>
                <a:latin typeface="Comic Sans MS"/>
              </a:rPr>
              <a:t>Wiki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69608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Origine du terme 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du hawaiien </a:t>
            </a:r>
            <a:r>
              <a:rPr b="0" i="1" lang="fr-FR" sz="2800" spc="-1" strike="noStrike">
                <a:solidFill>
                  <a:srgbClr val="000000"/>
                </a:solidFill>
                <a:latin typeface="Comic Sans MS"/>
              </a:rPr>
              <a:t>wiki wiki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: rapide, informel, faci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Premier Wiki : 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WikiWikiWeb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(1995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Système de </a:t>
            </a:r>
            <a:r>
              <a:rPr b="0" lang="fr-FR" sz="3200" spc="-1" strike="noStrike">
                <a:solidFill>
                  <a:srgbClr val="703dff"/>
                </a:solidFill>
                <a:latin typeface="Comic Sans MS"/>
              </a:rPr>
              <a:t>gestion de conten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Les pages Web sont modifiables par tous les visiteurs autorisé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5CDF-FFA1-44EB-8664-DF6FF4589A3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703dff"/>
                </a:solidFill>
                <a:latin typeface="Comic Sans MS"/>
              </a:rPr>
              <a:t>WiKi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6960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Édition collaborative de si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Tous les co-auteurs ont les mêmes droits (ou presqu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Édition faci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Accès à travers un navigateur We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yntaxe propre (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wikitext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), souvent avec éditeur prop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703dff"/>
                </a:solidFill>
                <a:latin typeface="Comic Sans MS"/>
              </a:rPr>
              <a:t>Wikitext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: langage de balise simplifi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CCF6-F3BB-41DE-A935-4DA18999A43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703dff"/>
                </a:solidFill>
                <a:latin typeface="Comic Sans MS"/>
              </a:rPr>
              <a:t>Wikipedia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Exemple plus connu de Wik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755640" y="1981080"/>
            <a:ext cx="7343640" cy="464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A127-D05B-46D6-9012-DF96FE08416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nregistrer sous…Web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589520" cy="39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éation facile d’une page We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registrer un document Word comme une page Web (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format HTM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u Fichi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nregistre sous, puis choix du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type de fichie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Attention !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 utilisation des standards W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411280" y="1727280"/>
            <a:ext cx="6451200" cy="4941360"/>
            <a:chOff x="2411280" y="1727280"/>
            <a:chExt cx="6451200" cy="4941360"/>
          </a:xfrm>
        </p:grpSpPr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2411280" y="1727280"/>
              <a:ext cx="6451200" cy="49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3315240" y="5418360"/>
              <a:ext cx="1129680" cy="5371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95880" y="5802840"/>
              <a:ext cx="1658160" cy="3830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2DFD-C43B-4205-9980-5BFC2473D5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Imprimer … PDF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réation d’un document PDF : impression en PD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Avantages 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ortabilité du docu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oins de problèmes de mises en page lors de l’impres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Logiciels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dobe Acrob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703dff"/>
                </a:solidFill>
                <a:latin typeface="Comic Sans MS"/>
              </a:rPr>
              <a:t>PDFCreat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imoPDF,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1DA2-C4EC-4983-811E-313C7B154A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Imprimer … PDF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6409080" cy="4148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63680" y="1341360"/>
            <a:ext cx="855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enu Fichier </a:t>
            </a: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imprimer, puis choix de l’imprimante (« PDFCreator 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84360" y="2349360"/>
            <a:ext cx="395928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68AB-6211-47BA-ACC3-858D47CC5E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6691320" cy="52833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741672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Imprimer … PDF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5580000" y="5950080"/>
            <a:ext cx="1511280" cy="718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04040" y="3284640"/>
            <a:ext cx="169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priétés du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020000" y="1989000"/>
            <a:ext cx="216000" cy="3384720"/>
          </a:xfrm>
          <a:custGeom>
            <a:avLst/>
            <a:gdLst>
              <a:gd name="textAreaLeft" fmla="*/ 0 w 216000"/>
              <a:gd name="textAreaRight" fmla="*/ 78120 w 216000"/>
              <a:gd name="textAreaTop" fmla="*/ 88200 h 3384720"/>
              <a:gd name="textAreaBottom" fmla="*/ 3296520 h 338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164360" y="5883120"/>
            <a:ext cx="18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registrer le document 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6C1E-3936-48C2-9866-F55F0F7F04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Modèles Word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E8CE6-2C0F-4D82-94E9-916A3F2E74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9:45:05Z</dcterms:created>
  <dc:creator>Manuele Kirsch Pinheiro</dc:creator>
  <dc:description/>
  <dc:language>en-US</dc:language>
  <cp:lastModifiedBy>angelo</cp:lastModifiedBy>
  <dcterms:modified xsi:type="dcterms:W3CDTF">2006-12-05T00:03:38Z</dcterms:modified>
  <cp:revision>21</cp:revision>
  <dc:subject/>
  <dc:title>Traitement de texte : Word</dc:title>
</cp:coreProperties>
</file>