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DE9-A275-4A9C-B243-4CC42CC2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59F4-DBE3-46A8-9E95-F6564FFD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63B-CC61-45B8-A86F-D7C0371F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DB1-2622-49C7-9FDE-0A9D050A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EC78-C4B8-466E-9949-EC6C4871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4F9A-FADB-4C0E-87FD-D93E86B3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A535-84C5-4D02-80E5-018F20CE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C5A5-FEC9-441D-ABBA-B57E743C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582C-B43D-449E-8DA4-1CC770D6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D392-1FEA-4B86-940C-AFD94B07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4B96-386C-4204-A2BD-3CB5E6F5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6C04-7C2E-45EE-9C6A-47F497DE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C965-E056-437B-BD8A-77DBCF3E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C745-5E52-45AC-805F-7B18DF4B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1B26-4586-4E99-BE04-272EA1A8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F381-6F00-4EA5-96B4-105B851C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464D-DB0C-4ABA-AADD-836A33CB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304-8FD2-4EE8-9165-A656330B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47D-C44F-4C2C-BD8F-DAAD8D31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F04-5FCA-4010-B6FD-B5029EB4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E1C-2F95-4733-82EF-D9C8CBE7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4D69-1734-450A-94E5-86B4CDE2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3FAC-11C6-4362-B2E5-F775F575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7A8-29BC-453A-8550-FFDDCF1E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Informatique Générale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C550-66F1-470C-9779-6E8151CF9E0A}" type="slidenum"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839C-F77A-462B-9FB0-4280447230F1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fr.wikipedia.org/wiki/Phishing" TargetMode="External"/><Relationship Id="rId2" Type="http://schemas.openxmlformats.org/officeDocument/2006/relationships/hyperlink" Target="http://www.ciac.org/ciac/" TargetMode="External"/><Relationship Id="rId3" Type="http://schemas.openxmlformats.org/officeDocument/2006/relationships/hyperlink" Target="http://www.ciac.org/ciac/" TargetMode="External"/><Relationship Id="rId4" Type="http://schemas.openxmlformats.org/officeDocument/2006/relationships/hyperlink" Target="http://www.ciac.org/ciac/" TargetMode="External"/><Relationship Id="rId5" Type="http://schemas.openxmlformats.org/officeDocument/2006/relationships/hyperlink" Target="http://www.ciac.org/ciac/" TargetMode="External"/><Relationship Id="rId6" Type="http://schemas.openxmlformats.org/officeDocument/2006/relationships/hyperlink" Target="http://www.ciac.org/ciac/" TargetMode="Externa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essagerie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Envoie d’un message</a:t>
            </a:r>
            <a:br>
              <a:rPr sz="3600"/>
            </a:b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8000" y="1136520"/>
            <a:ext cx="8354880" cy="4584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037280" y="328464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tinata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5076720" y="2997000"/>
            <a:ext cx="194328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643280" y="3212640"/>
            <a:ext cx="216072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19480" y="36385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pie 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86840" y="44308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je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834920" y="3860640"/>
            <a:ext cx="460836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8840" y="529416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rps du mes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347640" y="4941720"/>
            <a:ext cx="136836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14080" y="148428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ièces jointes (attac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59640" y="1844640"/>
            <a:ext cx="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416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Webmail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7040" y="1082520"/>
            <a:ext cx="8629920" cy="5010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2421000"/>
            <a:ext cx="64764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2421000"/>
            <a:ext cx="64800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84360" y="2421000"/>
            <a:ext cx="64764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416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voyer un email à son collègue à côté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re l’email que son collègue a envoy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voyer un email à son collègue avec un copie à vous-mê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pondre à l’email de votre collèg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voyer à votre collègue une pièce jointe (une image, par exemp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cupérer la pièce jointe que votre collègue vous a envoy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éer un dossier pour les messages de votre enseignante d’informat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PAM</a:t>
            </a: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066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’est quoi un SPAM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 message non sollicité (généralement de la publicité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 « fléau » de l’Inter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urcharge des serveurs et des BAL des utilisateu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s millions d’euros sont dépensés chaque année pour limiter les dégâ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Évitez d’afficher votre e-mail ouvert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tilisez un logiciel anti-sp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HOAX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81356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n « hoax » est un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canula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envoyé par mai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Mine d’or en Côte d’Ivoire…Envoyez de l’argent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le fichier win.exe est un virus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ême principe pour les « pyramides 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Microsoft donne de l’argent pour chaque mail reçu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Envoyez ce message à 10 amis…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oujours vérifier l’exactitude de l’information avant de repasser le mail à d’autres person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Phishing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989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echnique d'ingénierie sociale qui consiste à envoyer un courriel en se faisant passer pour une 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organisation de confianc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(une banque, une administration, etc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mande de fournir des 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renseignement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personnels que le pirate pourra exploiter ultérieurement (carte de crédit, compte bancaire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ites intéressantes à consul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fr.wikipedia.org/wiki/Phishing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www.ciac.org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/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ciac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ttp://www.secuser.com/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ttp://www.cert.org/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iltr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989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ncip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éfinition de règles de filtrage des emails sel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Expéditeur, sujet, contenu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ermet une meilleure organisation des mails reç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Organisation de dossiers thématiq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Aussi permet le filtrage partiel des SPAMs et HO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Définir un filtre sur votre messagerie (ENT) afin que les messages de votre enseignants soient déplacés ver le dossier que vous avez créé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hercher sur le Web des informations sur phishing, hoax et spam, et repasser ces informations par email à son collèg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iste de discussio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1152360" cy="844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084720" y="2637000"/>
            <a:ext cx="1224000" cy="8967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55640" y="3284640"/>
            <a:ext cx="1523880" cy="1117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3564000" y="306864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6300720" y="3860640"/>
            <a:ext cx="1214640" cy="890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6372360" y="5013360"/>
            <a:ext cx="1224000" cy="896760"/>
          </a:xfrm>
          <a:prstGeom prst="rect">
            <a:avLst/>
          </a:prstGeom>
          <a:ln w="0">
            <a:noFill/>
          </a:ln>
        </p:spPr>
      </p:pic>
      <p:cxnSp>
        <p:nvCxnSpPr>
          <p:cNvPr id="209" name=""/>
          <p:cNvCxnSpPr>
            <a:stCxn id="205" idx="3"/>
            <a:endCxn id="206" idx="1"/>
          </p:cNvCxnSpPr>
          <p:nvPr/>
        </p:nvCxnSpPr>
        <p:spPr>
          <a:xfrm flipV="1">
            <a:off x="2279520" y="3677400"/>
            <a:ext cx="128520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6" idx="3"/>
            <a:endCxn id="203" idx="1"/>
          </p:cNvCxnSpPr>
          <p:nvPr/>
        </p:nvCxnSpPr>
        <p:spPr>
          <a:xfrm flipV="1">
            <a:off x="4478040" y="1979280"/>
            <a:ext cx="167868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6" idx="3"/>
            <a:endCxn id="204" idx="1"/>
          </p:cNvCxnSpPr>
          <p:nvPr/>
        </p:nvCxnSpPr>
        <p:spPr>
          <a:xfrm flipV="1">
            <a:off x="4478400" y="3085920"/>
            <a:ext cx="1607040" cy="59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6" idx="3"/>
            <a:endCxn id="207" idx="1"/>
          </p:cNvCxnSpPr>
          <p:nvPr/>
        </p:nvCxnSpPr>
        <p:spPr>
          <a:xfrm>
            <a:off x="4478400" y="3677760"/>
            <a:ext cx="1823040" cy="62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6" idx="3"/>
            <a:endCxn id="208" idx="1"/>
          </p:cNvCxnSpPr>
          <p:nvPr/>
        </p:nvCxnSpPr>
        <p:spPr>
          <a:xfrm>
            <a:off x="4478040" y="3677760"/>
            <a:ext cx="1894680" cy="178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84360" y="4507560"/>
            <a:ext cx="39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: icml2-0607@listes-etu.univ-nancy2.f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iste discussion sur EN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84072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dresse électroniqu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600" spc="-1" strike="noStrike">
                <a:solidFill>
                  <a:srgbClr val="703dff"/>
                </a:solidFill>
                <a:latin typeface="Comic Sans MS"/>
              </a:rPr>
              <a:t>Identité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@</a:t>
            </a:r>
            <a:r>
              <a:rPr b="0" lang="fr-FR" sz="3600" spc="-1" strike="noStrike">
                <a:solidFill>
                  <a:srgbClr val="00b200"/>
                </a:solidFill>
                <a:latin typeface="Comic Sans MS"/>
              </a:rPr>
              <a:t>serveu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Nom : Manuele.Kirsch-Pinhei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@ : séparateur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("at", chez…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dentifiant du serveur :</a:t>
            </a:r>
            <a:r>
              <a:rPr b="0" i="1" lang="fr-FR" sz="3200" spc="-1" strike="noStrike">
                <a:solidFill>
                  <a:srgbClr val="000000"/>
                </a:solidFill>
                <a:latin typeface="Comic Sans MS"/>
              </a:rPr>
              <a:t>univ-nancy2.f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iste de discuss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res site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fr.groups.yahoo.com/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groups.google.f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gn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d’envoie de gros volu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discute la thémat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surveille le lang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ns quelle(s) liste(s) êtes-vous inscrit(e) 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ouver sur Yahoo!Groupes une liste sur votre sport favor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orum de discussio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ussions à travers un site We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s messages restent stockés dans le serve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Échange avec d’autres utilisateur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Échange par suje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propose un suj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dépose des messages sur un suj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994200" y="2205000"/>
            <a:ext cx="5041800" cy="4079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33320" y="19890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forums.univ-nancy2.fr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25" idx="2"/>
            <a:endCxn id="224" idx="1"/>
          </p:cNvCxnSpPr>
          <p:nvPr/>
        </p:nvCxnSpPr>
        <p:spPr>
          <a:xfrm flipH="1" rot="16200000">
            <a:off x="2263680" y="2514240"/>
            <a:ext cx="1890000" cy="1572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582480" y="1557360"/>
            <a:ext cx="43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pcentraide.com/index.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orum cours en lign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43040"/>
            <a:ext cx="7702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que cours en ligne possède un forum de nouveaut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 Informatique et Réseau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://cours.univ-nancy2.fr/course/view.php?id=69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9280" y="1563840"/>
            <a:ext cx="885672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Principes de bas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utilisateur du courrier électronique peut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Envoy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s messages à une ou plusieurs person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Recevoi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s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Répond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à des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Faire suiv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un message à une autre person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étruire, sauvegarder ou imprimer les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’abonner à des listes de diffu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onctionnemen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80920" y="2054160"/>
            <a:ext cx="1425600" cy="903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332240" y="1909800"/>
            <a:ext cx="854280" cy="985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877080" y="314172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435640" y="4797360"/>
            <a:ext cx="1523880" cy="1117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0" y="3357720"/>
            <a:ext cx="2857680" cy="1663560"/>
          </a:xfrm>
          <a:prstGeom prst="rect">
            <a:avLst/>
          </a:prstGeom>
          <a:ln w="0">
            <a:noFill/>
          </a:ln>
        </p:spPr>
      </p:pic>
      <p:cxnSp>
        <p:nvCxnSpPr>
          <p:cNvPr id="148" name=""/>
          <p:cNvCxnSpPr>
            <a:stCxn id="147" idx="0"/>
            <a:endCxn id="143" idx="2"/>
          </p:cNvCxnSpPr>
          <p:nvPr/>
        </p:nvCxnSpPr>
        <p:spPr>
          <a:xfrm flipH="1" flipV="1" rot="5400000">
            <a:off x="1310760" y="3074760"/>
            <a:ext cx="401040" cy="165600"/>
          </a:xfrm>
          <a:prstGeom prst="bentConnector3">
            <a:avLst>
              <a:gd name="adj1" fmla="val 499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268360" y="1628640"/>
            <a:ext cx="2160720" cy="503280"/>
          </a:xfrm>
          <a:custGeom>
            <a:avLst/>
            <a:gdLst>
              <a:gd name="textAreaLeft" fmla="*/ 378000 w 2160720"/>
              <a:gd name="textAreaRight" fmla="*/ 1566720 w 216072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85160" y="2211480"/>
            <a:ext cx="13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e 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85240" y="35082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es 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P ou I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3148800">
            <a:off x="5832000" y="3536640"/>
            <a:ext cx="504720" cy="1584360"/>
          </a:xfrm>
          <a:custGeom>
            <a:avLst/>
            <a:gdLst>
              <a:gd name="textAreaLeft" fmla="*/ 67320 w 504720"/>
              <a:gd name="textAreaRight" fmla="*/ 437400 w 50472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4" idx="3"/>
            <a:endCxn id="145" idx="0"/>
          </p:cNvCxnSpPr>
          <p:nvPr/>
        </p:nvCxnSpPr>
        <p:spPr>
          <a:xfrm>
            <a:off x="5186520" y="2403000"/>
            <a:ext cx="2148480" cy="739080"/>
          </a:xfrm>
          <a:prstGeom prst="bentConnector2">
            <a:avLst/>
          </a:prstGeom>
          <a:ln w="76320">
            <a:solidFill>
              <a:srgbClr val="ffb800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5292360" y="148428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2700360" y="5445000"/>
            <a:ext cx="2722680" cy="1228680"/>
          </a:xfrm>
          <a:prstGeom prst="rect">
            <a:avLst/>
          </a:prstGeom>
          <a:ln w="0">
            <a:noFill/>
          </a:ln>
        </p:spPr>
      </p:pic>
      <p:cxnSp>
        <p:nvCxnSpPr>
          <p:cNvPr id="156" name=""/>
          <p:cNvCxnSpPr>
            <a:stCxn id="146" idx="2"/>
            <a:endCxn id="155" idx="3"/>
          </p:cNvCxnSpPr>
          <p:nvPr/>
        </p:nvCxnSpPr>
        <p:spPr>
          <a:xfrm rot="5400000">
            <a:off x="5737680" y="5599440"/>
            <a:ext cx="14472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7956720" y="4005360"/>
            <a:ext cx="718920" cy="647640"/>
          </a:xfrm>
          <a:prstGeom prst="can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45" idx="3"/>
            <a:endCxn id="157" idx="1"/>
          </p:cNvCxnSpPr>
          <p:nvPr/>
        </p:nvCxnSpPr>
        <p:spPr>
          <a:xfrm>
            <a:off x="7791480" y="3751200"/>
            <a:ext cx="526320" cy="254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7189560" y="4702320"/>
            <a:ext cx="19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îte Aux Lett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Électronique (B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416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Webmail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7040" y="1082520"/>
            <a:ext cx="8629920" cy="50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Principes …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unication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asynchr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message reste stocké au serveu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courrier électronique n'est pas 100% sû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 pertes sont possibl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de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confidentialité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un mail circule de façon non crypt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cture par des tiers est possi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nseil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iblez vos correspond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E LES AGRESSEZ P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Vous êtes responsables de vos prop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Vous contribuez à l’image de votre communaut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ifférences culturelles, risque de malentendu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Vérifiez vos fichiers en annex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ttention aux menaces : </a:t>
            </a:r>
            <a:r>
              <a:rPr b="0" i="1" lang="fr-FR" sz="2800" spc="-1" strike="noStrike">
                <a:solidFill>
                  <a:srgbClr val="00b200"/>
                </a:solidFill>
                <a:latin typeface="Comic Sans MS"/>
              </a:rPr>
              <a:t>spam, hoax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fr-FR" sz="2800" spc="-1" strike="noStrike">
                <a:solidFill>
                  <a:srgbClr val="00b200"/>
                </a:solidFill>
                <a:latin typeface="Comic Sans MS"/>
              </a:rPr>
              <a:t>virus</a:t>
            </a:r>
            <a:r>
              <a:rPr b="0" i="1" lang="fr-FR" sz="2800" spc="-1" strike="noStrike">
                <a:solidFill>
                  <a:srgbClr val="00b200"/>
                </a:solidFill>
                <a:latin typeface="Comic Sans MS"/>
              </a:rPr>
              <a:t>, phishing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4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mposition d’un mess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055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Les entêt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To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dresses des destinataires séparées pa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Cc (copier carbone)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dresses des destinataires 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copie du message (séparées par d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Bcc (blind copy)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dres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es destinataires 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copie non visible aux destinataires (ceux du champ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To: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ubject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sujet (objet) du mes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ièces jointes (Attached) :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liste des fichiers attachés au mes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Le corps (body) :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rps du message (contenu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16080" y="1071720"/>
            <a:ext cx="7748640" cy="5165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042920" y="1987560"/>
            <a:ext cx="3529080" cy="107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068640"/>
            <a:ext cx="144360" cy="251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5516640"/>
            <a:ext cx="1152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Message reçu</a:t>
            </a:r>
            <a:br>
              <a:rPr sz="3600"/>
            </a:b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3:03:56Z</dcterms:created>
  <dc:creator>Manuele Kirsch Pinheiro</dc:creator>
  <dc:description/>
  <dc:language>en-US</dc:language>
  <cp:lastModifiedBy>Manuele Kirsch Pinheiro</cp:lastModifiedBy>
  <dcterms:modified xsi:type="dcterms:W3CDTF">2006-09-25T08:45:51Z</dcterms:modified>
  <cp:revision>7</cp:revision>
  <dc:subject/>
  <dc:title>Messagerie</dc:title>
</cp:coreProperties>
</file>