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68BB-6330-4AE8-B56E-7BA998FA31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811F-BADE-478C-B912-DBC25A112F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1C1D-EB35-4B25-9AAE-51F3CEAF2E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EE29-6BF0-4810-8E71-734A519840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3ACC-816C-46D0-9827-C98D851667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D5EF-32B9-40DE-9E17-2677385506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7EB9-409C-4A25-8DD0-64D68C33C2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FF74-A811-411C-9F8D-8DB200881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C78-ABCC-4C6D-B62B-ADD882D9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20C-76D5-427C-93B6-FD3602F0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88B-7E81-45B5-99FF-7DC68676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18B-9A6E-45D7-803D-FB588D0D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07ED-5E4D-4F65-8A20-5D83AE4F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51AA-AD77-4832-90B2-8C13F539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A56B-EC7A-46F4-BB36-C89349DF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B51E-4063-4F32-8D49-69047F74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384F-67F9-4078-902B-494F7C77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E658-E6D9-49F1-B7E8-858B9E62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74D8-B2A1-4FC7-AF98-C08393EB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50C-811A-41CC-B470-B2EDA1EC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5B0D-853A-4EE9-8758-60608664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3221-EF21-4BF8-B6CD-F97AE994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3C38-AC0D-42F2-B39E-3612F202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3C86-BB1F-4DDB-B863-BEA3A247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20F9-012D-4B4F-96CC-A25D3852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922-1854-418C-86EE-99510B21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E89-ADCD-42B4-B122-C8AAF827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30D-3E45-44C9-B53F-487E579B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AA1-0E44-453B-A1BD-5F8668DA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A0D-04F9-468C-8DEE-97940F00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39E-4BCD-494E-ACD2-D3887B1F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2AB-2240-40C4-B21C-14D3E8C5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fld id="{982F490A-378C-43CD-BA2F-EE26CD6E55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B16A-77D6-449A-9C13-2CCD0D5DCD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3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5A47-2C7C-4350-89A3-C10AEFF7C2E3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6FE7-C9A1-4F56-BFC0-5192B0DBE6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19.jpeg"/><Relationship Id="rId24" Type="http://schemas.openxmlformats.org/officeDocument/2006/relationships/image" Target="../media/image20.jpeg"/><Relationship Id="rId25" Type="http://schemas.openxmlformats.org/officeDocument/2006/relationships/image" Target="../media/image21.jpe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19.jpeg"/><Relationship Id="rId30" Type="http://schemas.openxmlformats.org/officeDocument/2006/relationships/image" Target="../media/image20.jpeg"/><Relationship Id="rId31" Type="http://schemas.openxmlformats.org/officeDocument/2006/relationships/image" Target="../media/image21.jpe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19.jpeg"/><Relationship Id="rId36" Type="http://schemas.openxmlformats.org/officeDocument/2006/relationships/image" Target="../media/image20.jpeg"/><Relationship Id="rId37" Type="http://schemas.openxmlformats.org/officeDocument/2006/relationships/image" Target="../media/image21.jpeg"/><Relationship Id="rId38" Type="http://schemas.openxmlformats.org/officeDocument/2006/relationships/image" Target="../media/image22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19.jpeg"/><Relationship Id="rId43" Type="http://schemas.openxmlformats.org/officeDocument/2006/relationships/image" Target="../media/image20.jpeg"/><Relationship Id="rId44" Type="http://schemas.openxmlformats.org/officeDocument/2006/relationships/image" Target="../media/image21.jpe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19.jpeg"/><Relationship Id="rId49" Type="http://schemas.openxmlformats.org/officeDocument/2006/relationships/image" Target="../media/image20.jpeg"/><Relationship Id="rId50" Type="http://schemas.openxmlformats.org/officeDocument/2006/relationships/image" Target="../media/image21.jpe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19.jpeg"/><Relationship Id="rId55" Type="http://schemas.openxmlformats.org/officeDocument/2006/relationships/image" Target="../media/image20.jpeg"/><Relationship Id="rId56" Type="http://schemas.openxmlformats.org/officeDocument/2006/relationships/image" Target="../media/image21.jpe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19.jpeg"/><Relationship Id="rId61" Type="http://schemas.openxmlformats.org/officeDocument/2006/relationships/image" Target="../media/image20.jpeg"/><Relationship Id="rId62" Type="http://schemas.openxmlformats.org/officeDocument/2006/relationships/image" Target="../media/image21.jpeg"/><Relationship Id="rId63" Type="http://schemas.openxmlformats.org/officeDocument/2006/relationships/image" Target="../media/image22.png"/><Relationship Id="rId64" Type="http://schemas.openxmlformats.org/officeDocument/2006/relationships/image" Target="../media/image5.png"/><Relationship Id="rId65" Type="http://schemas.openxmlformats.org/officeDocument/2006/relationships/image" Target="../media/image5.png"/><Relationship Id="rId66" Type="http://schemas.openxmlformats.org/officeDocument/2006/relationships/image" Target="../media/image5.png"/><Relationship Id="rId67" Type="http://schemas.openxmlformats.org/officeDocument/2006/relationships/image" Target="../media/image19.jpeg"/><Relationship Id="rId68" Type="http://schemas.openxmlformats.org/officeDocument/2006/relationships/image" Target="../media/image20.jpeg"/><Relationship Id="rId69" Type="http://schemas.openxmlformats.org/officeDocument/2006/relationships/image" Target="../media/image21.jpeg"/><Relationship Id="rId70" Type="http://schemas.openxmlformats.org/officeDocument/2006/relationships/image" Target="../media/image5.png"/><Relationship Id="rId71" Type="http://schemas.openxmlformats.org/officeDocument/2006/relationships/image" Target="../media/image5.png"/><Relationship Id="rId72" Type="http://schemas.openxmlformats.org/officeDocument/2006/relationships/image" Target="../media/image5.png"/><Relationship Id="rId73" Type="http://schemas.openxmlformats.org/officeDocument/2006/relationships/image" Target="../media/image19.jpeg"/><Relationship Id="rId74" Type="http://schemas.openxmlformats.org/officeDocument/2006/relationships/image" Target="../media/image20.jpeg"/><Relationship Id="rId75" Type="http://schemas.openxmlformats.org/officeDocument/2006/relationships/image" Target="../media/image21.jpe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19.jpeg"/><Relationship Id="rId80" Type="http://schemas.openxmlformats.org/officeDocument/2006/relationships/image" Target="../media/image20.jpeg"/><Relationship Id="rId81" Type="http://schemas.openxmlformats.org/officeDocument/2006/relationships/image" Target="../media/image21.jpe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19.jpeg"/><Relationship Id="rId86" Type="http://schemas.openxmlformats.org/officeDocument/2006/relationships/image" Target="../media/image20.jpeg"/><Relationship Id="rId87" Type="http://schemas.openxmlformats.org/officeDocument/2006/relationships/image" Target="../media/image21.jpeg"/><Relationship Id="rId88" Type="http://schemas.openxmlformats.org/officeDocument/2006/relationships/image" Target="../media/image22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19.jpeg"/><Relationship Id="rId93" Type="http://schemas.openxmlformats.org/officeDocument/2006/relationships/image" Target="../media/image20.jpeg"/><Relationship Id="rId94" Type="http://schemas.openxmlformats.org/officeDocument/2006/relationships/image" Target="../media/image21.jpe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19.jpeg"/><Relationship Id="rId99" Type="http://schemas.openxmlformats.org/officeDocument/2006/relationships/image" Target="../media/image20.jpeg"/><Relationship Id="rId100" Type="http://schemas.openxmlformats.org/officeDocument/2006/relationships/image" Target="../media/image21.jpe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19.jpeg"/><Relationship Id="rId105" Type="http://schemas.openxmlformats.org/officeDocument/2006/relationships/image" Target="../media/image20.jpeg"/><Relationship Id="rId106" Type="http://schemas.openxmlformats.org/officeDocument/2006/relationships/image" Target="../media/image21.jpe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19.jpeg"/><Relationship Id="rId111" Type="http://schemas.openxmlformats.org/officeDocument/2006/relationships/image" Target="../media/image20.jpeg"/><Relationship Id="rId112" Type="http://schemas.openxmlformats.org/officeDocument/2006/relationships/image" Target="../media/image21.jpeg"/><Relationship Id="rId113" Type="http://schemas.openxmlformats.org/officeDocument/2006/relationships/image" Target="../media/image22.png"/><Relationship Id="rId114" Type="http://schemas.openxmlformats.org/officeDocument/2006/relationships/image" Target="../media/image5.png"/><Relationship Id="rId115" Type="http://schemas.openxmlformats.org/officeDocument/2006/relationships/image" Target="../media/image5.png"/><Relationship Id="rId116" Type="http://schemas.openxmlformats.org/officeDocument/2006/relationships/image" Target="../media/image5.png"/><Relationship Id="rId117" Type="http://schemas.openxmlformats.org/officeDocument/2006/relationships/image" Target="../media/image19.jpeg"/><Relationship Id="rId118" Type="http://schemas.openxmlformats.org/officeDocument/2006/relationships/image" Target="../media/image20.jpeg"/><Relationship Id="rId119" Type="http://schemas.openxmlformats.org/officeDocument/2006/relationships/image" Target="../media/image21.jpeg"/><Relationship Id="rId120" Type="http://schemas.openxmlformats.org/officeDocument/2006/relationships/image" Target="../media/image5.png"/><Relationship Id="rId121" Type="http://schemas.openxmlformats.org/officeDocument/2006/relationships/image" Target="../media/image5.png"/><Relationship Id="rId122" Type="http://schemas.openxmlformats.org/officeDocument/2006/relationships/image" Target="../media/image5.png"/><Relationship Id="rId123" Type="http://schemas.openxmlformats.org/officeDocument/2006/relationships/image" Target="../media/image19.jpeg"/><Relationship Id="rId124" Type="http://schemas.openxmlformats.org/officeDocument/2006/relationships/image" Target="../media/image20.jpeg"/><Relationship Id="rId125" Type="http://schemas.openxmlformats.org/officeDocument/2006/relationships/image" Target="../media/image21.jpeg"/><Relationship Id="rId126" Type="http://schemas.openxmlformats.org/officeDocument/2006/relationships/image" Target="../media/image5.png"/><Relationship Id="rId127" Type="http://schemas.openxmlformats.org/officeDocument/2006/relationships/image" Target="../media/image5.png"/><Relationship Id="rId128" Type="http://schemas.openxmlformats.org/officeDocument/2006/relationships/image" Target="../media/image5.png"/><Relationship Id="rId129" Type="http://schemas.openxmlformats.org/officeDocument/2006/relationships/image" Target="../media/image19.jpeg"/><Relationship Id="rId130" Type="http://schemas.openxmlformats.org/officeDocument/2006/relationships/image" Target="../media/image20.jpeg"/><Relationship Id="rId131" Type="http://schemas.openxmlformats.org/officeDocument/2006/relationships/image" Target="../media/image21.jpeg"/><Relationship Id="rId132" Type="http://schemas.openxmlformats.org/officeDocument/2006/relationships/image" Target="../media/image5.png"/><Relationship Id="rId133" Type="http://schemas.openxmlformats.org/officeDocument/2006/relationships/image" Target="../media/image5.png"/><Relationship Id="rId134" Type="http://schemas.openxmlformats.org/officeDocument/2006/relationships/image" Target="../media/image5.png"/><Relationship Id="rId135" Type="http://schemas.openxmlformats.org/officeDocument/2006/relationships/image" Target="../media/image19.jpeg"/><Relationship Id="rId136" Type="http://schemas.openxmlformats.org/officeDocument/2006/relationships/image" Target="../media/image20.jpeg"/><Relationship Id="rId137" Type="http://schemas.openxmlformats.org/officeDocument/2006/relationships/image" Target="../media/image21.jpeg"/><Relationship Id="rId138" Type="http://schemas.openxmlformats.org/officeDocument/2006/relationships/image" Target="../media/image22.png"/><Relationship Id="rId139" Type="http://schemas.openxmlformats.org/officeDocument/2006/relationships/image" Target="../media/image5.png"/><Relationship Id="rId140" Type="http://schemas.openxmlformats.org/officeDocument/2006/relationships/image" Target="../media/image5.png"/><Relationship Id="rId141" Type="http://schemas.openxmlformats.org/officeDocument/2006/relationships/image" Target="../media/image5.png"/><Relationship Id="rId142" Type="http://schemas.openxmlformats.org/officeDocument/2006/relationships/image" Target="../media/image19.jpeg"/><Relationship Id="rId143" Type="http://schemas.openxmlformats.org/officeDocument/2006/relationships/image" Target="../media/image20.jpeg"/><Relationship Id="rId144" Type="http://schemas.openxmlformats.org/officeDocument/2006/relationships/image" Target="../media/image21.jpeg"/><Relationship Id="rId145" Type="http://schemas.openxmlformats.org/officeDocument/2006/relationships/image" Target="../media/image5.png"/><Relationship Id="rId146" Type="http://schemas.openxmlformats.org/officeDocument/2006/relationships/image" Target="../media/image5.png"/><Relationship Id="rId147" Type="http://schemas.openxmlformats.org/officeDocument/2006/relationships/image" Target="../media/image5.png"/><Relationship Id="rId148" Type="http://schemas.openxmlformats.org/officeDocument/2006/relationships/image" Target="../media/image19.jpeg"/><Relationship Id="rId149" Type="http://schemas.openxmlformats.org/officeDocument/2006/relationships/image" Target="../media/image20.jpeg"/><Relationship Id="rId150" Type="http://schemas.openxmlformats.org/officeDocument/2006/relationships/image" Target="../media/image21.jpeg"/><Relationship Id="rId151" Type="http://schemas.openxmlformats.org/officeDocument/2006/relationships/image" Target="../media/image5.png"/><Relationship Id="rId152" Type="http://schemas.openxmlformats.org/officeDocument/2006/relationships/image" Target="../media/image5.png"/><Relationship Id="rId153" Type="http://schemas.openxmlformats.org/officeDocument/2006/relationships/image" Target="../media/image5.png"/><Relationship Id="rId154" Type="http://schemas.openxmlformats.org/officeDocument/2006/relationships/image" Target="../media/image19.jpeg"/><Relationship Id="rId155" Type="http://schemas.openxmlformats.org/officeDocument/2006/relationships/image" Target="../media/image20.jpeg"/><Relationship Id="rId156" Type="http://schemas.openxmlformats.org/officeDocument/2006/relationships/image" Target="../media/image21.jpeg"/><Relationship Id="rId157" Type="http://schemas.openxmlformats.org/officeDocument/2006/relationships/image" Target="../media/image5.png"/><Relationship Id="rId158" Type="http://schemas.openxmlformats.org/officeDocument/2006/relationships/image" Target="../media/image5.png"/><Relationship Id="rId159" Type="http://schemas.openxmlformats.org/officeDocument/2006/relationships/image" Target="../media/image5.png"/><Relationship Id="rId160" Type="http://schemas.openxmlformats.org/officeDocument/2006/relationships/image" Target="../media/image19.jpeg"/><Relationship Id="rId161" Type="http://schemas.openxmlformats.org/officeDocument/2006/relationships/image" Target="../media/image20.jpeg"/><Relationship Id="rId162" Type="http://schemas.openxmlformats.org/officeDocument/2006/relationships/image" Target="../media/image21.jpeg"/><Relationship Id="rId163" Type="http://schemas.openxmlformats.org/officeDocument/2006/relationships/image" Target="../media/image22.png"/><Relationship Id="rId164" Type="http://schemas.openxmlformats.org/officeDocument/2006/relationships/image" Target="../media/image5.png"/><Relationship Id="rId165" Type="http://schemas.openxmlformats.org/officeDocument/2006/relationships/image" Target="../media/image5.png"/><Relationship Id="rId166" Type="http://schemas.openxmlformats.org/officeDocument/2006/relationships/image" Target="../media/image5.png"/><Relationship Id="rId167" Type="http://schemas.openxmlformats.org/officeDocument/2006/relationships/image" Target="../media/image19.jpeg"/><Relationship Id="rId168" Type="http://schemas.openxmlformats.org/officeDocument/2006/relationships/image" Target="../media/image20.jpeg"/><Relationship Id="rId169" Type="http://schemas.openxmlformats.org/officeDocument/2006/relationships/image" Target="../media/image21.jpeg"/><Relationship Id="rId170" Type="http://schemas.openxmlformats.org/officeDocument/2006/relationships/image" Target="../media/image5.png"/><Relationship Id="rId171" Type="http://schemas.openxmlformats.org/officeDocument/2006/relationships/image" Target="../media/image5.png"/><Relationship Id="rId172" Type="http://schemas.openxmlformats.org/officeDocument/2006/relationships/image" Target="../media/image5.png"/><Relationship Id="rId173" Type="http://schemas.openxmlformats.org/officeDocument/2006/relationships/image" Target="../media/image19.jpeg"/><Relationship Id="rId174" Type="http://schemas.openxmlformats.org/officeDocument/2006/relationships/image" Target="../media/image20.jpeg"/><Relationship Id="rId175" Type="http://schemas.openxmlformats.org/officeDocument/2006/relationships/image" Target="../media/image21.jpeg"/><Relationship Id="rId17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etu3/potic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Informatique Générale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ML-A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 KIRSCH PINH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872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Processeu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978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C'est le “</a:t>
            </a:r>
            <a:r>
              <a:rPr b="0" lang="en-US" sz="2900" spc="-1" strike="noStrike">
                <a:solidFill>
                  <a:srgbClr val="703dff"/>
                </a:solidFill>
                <a:latin typeface="Comic Sans MS"/>
              </a:rPr>
              <a:t>cerveau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”  de l'ordinateur, il contient  différents composants responsables pour l'interprétation des </a:t>
            </a:r>
            <a:r>
              <a:rPr b="0" lang="en-US" sz="2900" spc="-1" strike="noStrike">
                <a:solidFill>
                  <a:srgbClr val="703dff"/>
                </a:solidFill>
                <a:latin typeface="Comic Sans MS"/>
              </a:rPr>
              <a:t>instructions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et le calcul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878440" y="4083120"/>
            <a:ext cx="1925640" cy="2522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436760" y="4016520"/>
            <a:ext cx="1981080" cy="25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C66-58EE-4EC3-8475-AF88F9DC0A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4E227-255D-4860-A139-9B9E166C4C24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560" y="239760"/>
            <a:ext cx="723708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arte Mè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680" y="1860480"/>
            <a:ext cx="82483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lle </a:t>
            </a:r>
            <a:r>
              <a:rPr b="0" lang="en-US" sz="2900" spc="-1" strike="noStrike">
                <a:solidFill>
                  <a:srgbClr val="703dff"/>
                </a:solidFill>
                <a:latin typeface="Comic Sans MS"/>
              </a:rPr>
              <a:t>relie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les différents </a:t>
            </a:r>
            <a:r>
              <a:rPr b="0" lang="en-US" sz="2900" spc="-1" strike="noStrike">
                <a:solidFill>
                  <a:srgbClr val="703dff"/>
                </a:solidFill>
                <a:latin typeface="Comic Sans MS"/>
              </a:rPr>
              <a:t>composants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d'un ordinateur, à travers un « bus »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carte mère est aussi responsable de contrôler l'accès aux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cartes filles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Cartes fille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rte s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rte graphiqu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rte réseau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595760" y="3143160"/>
            <a:ext cx="4368960" cy="359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1C2-499B-4ABF-A56B-47B9A267755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980F4-FC72-4610-9EC4-DF952FF36E53}" type="datetime1">
              <a:rPr lang="en-US"/>
              <a:t>07/30/26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872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La mémoire vive (RAM)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61680" y="1915920"/>
            <a:ext cx="8481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Pour travailler avec plusieurs données, le processeur doit utiliser une </a:t>
            </a:r>
            <a:r>
              <a:rPr b="0" lang="fr-FR" sz="2900" spc="-1" strike="noStrike">
                <a:solidFill>
                  <a:srgbClr val="703dff"/>
                </a:solidFill>
                <a:latin typeface="Comic Sans MS"/>
              </a:rPr>
              <a:t>mémoire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auxiliaire pour </a:t>
            </a:r>
            <a:r>
              <a:rPr b="0" lang="fr-FR" sz="2900" spc="-1" strike="noStrike">
                <a:solidFill>
                  <a:srgbClr val="703dff"/>
                </a:solidFill>
                <a:latin typeface="Comic Sans MS"/>
              </a:rPr>
              <a:t>sauvegarder temporairement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les données</a:t>
            </a:r>
            <a:br>
              <a:rPr sz="2900"/>
            </a:b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La mémoire RAM (</a:t>
            </a:r>
            <a:r>
              <a:rPr b="0" lang="fr-FR" sz="2900" spc="-1" strike="noStrike">
                <a:solidFill>
                  <a:srgbClr val="703dff"/>
                </a:solidFill>
                <a:latin typeface="Comic Sans MS"/>
              </a:rPr>
              <a:t>Random Access Memory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) est une mémoire </a:t>
            </a:r>
            <a:r>
              <a:rPr b="0" lang="fr-FR" sz="2900" spc="-1" strike="noStrike">
                <a:solidFill>
                  <a:srgbClr val="703dff"/>
                </a:solidFill>
                <a:latin typeface="Comic Sans MS"/>
              </a:rPr>
              <a:t>volatile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, c'est-à-dire qu'elle ne peut garder des informations que si elle est alimentée électriquement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472080" y="5192640"/>
            <a:ext cx="2671920" cy="16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A7A-3B63-4719-BA2B-07F8B36984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9D837-94D9-4B09-8D35-74C437F9E4A1}" type="datetime1">
              <a:rPr lang="en-US"/>
              <a:t>07/30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872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Les mémoires de mass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978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Utiles quand on doit </a:t>
            </a:r>
            <a:r>
              <a:rPr b="0" lang="en-GB" sz="2900" spc="-1" strike="noStrike">
                <a:solidFill>
                  <a:srgbClr val="703dff"/>
                </a:solidFill>
                <a:latin typeface="Comic Sans MS"/>
              </a:rPr>
              <a:t>sauvegarder</a:t>
            </a: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 les données d'une façon </a:t>
            </a:r>
            <a:r>
              <a:rPr b="0" lang="fr-FR" sz="2900" spc="-1" strike="noStrike">
                <a:solidFill>
                  <a:srgbClr val="703dff"/>
                </a:solidFill>
                <a:latin typeface="Comic Sans MS"/>
              </a:rPr>
              <a:t>persistante</a:t>
            </a: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 (par exemple, quand l'ordinateur est éteint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isque dur, disquette, Clé USB, CD, DVD, etc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lnSpc>
                <a:spcPct val="13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Plus </a:t>
            </a:r>
            <a:r>
              <a:rPr b="0" lang="en-GB" sz="2900" spc="-1" strike="noStrike">
                <a:solidFill>
                  <a:srgbClr val="703dff"/>
                </a:solidFill>
                <a:latin typeface="Comic Sans MS"/>
              </a:rPr>
              <a:t>lentes</a:t>
            </a: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 que la mémoire vive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1519560" cy="1519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55640" y="479916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804000" y="4724280"/>
            <a:ext cx="1623960" cy="122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2700360" y="4869000"/>
            <a:ext cx="1366920" cy="124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28A-7EE7-4906-90BD-0E064A56B1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D7951-1C52-4788-ABBA-4DBB5DCFD2C8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capacités à ce jou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98984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émoire vive : entre 256Mo et 1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émoires de masse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Disque dur : entre 40Go et 160Go (voir +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CD-ROM, CD-R, CD-RW : entre 650Mo et 700M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DVD, DVD +/- R, DVD +/- RW : de 4Go à 8G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Clé USB : 16Mo, 32Mo, … , 512Mo, 1Go …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Disquette : 1.44M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F4C-56BA-45AB-9A75-8ED7A94C9D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EFD28-F7F6-4A20-A8C2-FEBB9D5293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0440" y="31680"/>
            <a:ext cx="7837560" cy="16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Les périphériques d'entrée </a:t>
            </a:r>
            <a:br>
              <a:rPr sz="4000"/>
            </a:b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et de sorti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87520" y="1795320"/>
            <a:ext cx="809928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Ce sont les composants qui permettent à l'ordinateur de </a:t>
            </a:r>
            <a:r>
              <a:rPr b="0" lang="en-US" sz="2900" spc="-1" strike="noStrike">
                <a:solidFill>
                  <a:srgbClr val="703dff"/>
                </a:solidFill>
                <a:latin typeface="Comic Sans MS"/>
              </a:rPr>
              <a:t>communiquer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avec l'extérieur (utilisateur ou autre ordinateur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ériphériques </a:t>
            </a:r>
            <a:r>
              <a:rPr b="0" lang="en-US" sz="2500" spc="-1" strike="noStrike">
                <a:solidFill>
                  <a:srgbClr val="703dff"/>
                </a:solidFill>
                <a:latin typeface="Comic Sans MS"/>
              </a:rPr>
              <a:t>d'entré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: clavier, souris, carte réseau, mémoires de masse, etc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ériphériques de </a:t>
            </a:r>
            <a:r>
              <a:rPr b="0" lang="en-US" sz="2500" spc="-1" strike="noStrike">
                <a:solidFill>
                  <a:srgbClr val="703dff"/>
                </a:solidFill>
                <a:latin typeface="Comic Sans MS"/>
              </a:rPr>
              <a:t>sorti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: écran, imprimante, carte réseau, mémoires de masse, etc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ériphériques d’</a:t>
            </a:r>
            <a:r>
              <a:rPr b="0" lang="en-US" sz="2500" spc="-1" strike="noStrike">
                <a:solidFill>
                  <a:srgbClr val="703dff"/>
                </a:solidFill>
                <a:latin typeface="Comic Sans MS"/>
              </a:rPr>
              <a:t>entrée/sorti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: modem, disque dur, lecteur de CD/DVD, clé USB …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944720" y="5780160"/>
            <a:ext cx="1727280" cy="979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637160" y="5649840"/>
            <a:ext cx="1139760" cy="1141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95920" y="5794200"/>
            <a:ext cx="1730520" cy="96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FC7-F43D-40DE-8ABD-FD72467FEE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F98F2-9463-463D-8C31-D689CF77E303}" type="datetime1">
              <a:rPr lang="en-US"/>
              <a:t>07/30/26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connec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ès aux périphériques et aux cartes fil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77058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052-240D-4CA3-BDE4-46230A2D5D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FD16E-F7FB-49C4-B76A-49BDAD6097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ce veut s’acheter un ordinateur pour la rentrée. Étudiez l’offre qui lui est proposé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3080" y="1552680"/>
            <a:ext cx="9036000" cy="526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B19-E78F-4A50-9011-49E2C08D5A2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66E8A-16BE-4BF9-BE1A-FF22272A67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416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tions de Base 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éseaux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6C1-158C-4732-B5C5-124113A3E04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EAEFE-ED8E-4B5D-9722-D8D2CDE156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seau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seau local (</a:t>
            </a: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LAN – Local Area Networks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tage d’informations et de ressources dans une organis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seau mondial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188-AB50-41EA-BCCE-D6C567908C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BA82A-E0F0-444B-A831-17B5BE470A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ésent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Objecti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introduction à l’informatique et à la bureau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approprier l’environnement de trav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hercher l'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uvegarder, sécuriser, archiver les donn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aliser des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hanger et communiquer à d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11F-537A-422E-AC8B-A7731080CF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605B1-AFC8-4B35-88E2-7826BCD9CA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seau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vantages :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art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’informations et de services, communication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ques :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iru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piratage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Services" 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ourrier électron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fert des fich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D81-C591-466B-8BEE-76A98700CB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91636-595B-452A-9963-2696E22B66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seau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00000" y="1844640"/>
            <a:ext cx="3628800" cy="3494160"/>
            <a:chOff x="900000" y="1844640"/>
            <a:chExt cx="3628800" cy="3494160"/>
          </a:xfrm>
        </p:grpSpPr>
        <p:sp>
          <p:nvSpPr>
            <p:cNvPr id="212" name=""/>
            <p:cNvSpPr/>
            <p:nvPr/>
          </p:nvSpPr>
          <p:spPr>
            <a:xfrm>
              <a:off x="3059280" y="4869000"/>
              <a:ext cx="64908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900000" y="1844640"/>
              <a:ext cx="1524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00000" y="2924280"/>
              <a:ext cx="15242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900000" y="4221000"/>
              <a:ext cx="1524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4"/>
            <a:stretch/>
          </p:blipFill>
          <p:spPr>
            <a:xfrm flipH="1">
              <a:off x="2700000" y="3357720"/>
              <a:ext cx="1065240" cy="10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59280" y="2133720"/>
              <a:ext cx="0" cy="158256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411280" y="328464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411280" y="227664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11280" y="458136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59280" y="4005360"/>
              <a:ext cx="0" cy="122220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5"/>
            <a:stretch/>
          </p:blipFill>
          <p:spPr>
            <a:xfrm flipH="1">
              <a:off x="3347640" y="2398680"/>
              <a:ext cx="11811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flipH="1">
              <a:off x="3058920" y="2637000"/>
              <a:ext cx="43308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6"/>
            <a:stretch/>
          </p:blipFill>
          <p:spPr>
            <a:xfrm flipH="1">
              <a:off x="3634920" y="4370400"/>
              <a:ext cx="69876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4904640" y="3500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seau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09920" y="4221000"/>
            <a:ext cx="1917360" cy="1514520"/>
            <a:chOff x="709920" y="4221000"/>
            <a:chExt cx="1917360" cy="1514520"/>
          </a:xfrm>
        </p:grpSpPr>
        <p:sp>
          <p:nvSpPr>
            <p:cNvPr id="227" name=""/>
            <p:cNvSpPr/>
            <p:nvPr/>
          </p:nvSpPr>
          <p:spPr>
            <a:xfrm>
              <a:off x="755640" y="4221000"/>
              <a:ext cx="1871640" cy="1224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9920" y="536724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900520" y="4149720"/>
            <a:ext cx="2090160" cy="1937880"/>
            <a:chOff x="2900520" y="4149720"/>
            <a:chExt cx="2090160" cy="1937880"/>
          </a:xfrm>
        </p:grpSpPr>
        <p:sp>
          <p:nvSpPr>
            <p:cNvPr id="230" name=""/>
            <p:cNvSpPr/>
            <p:nvPr/>
          </p:nvSpPr>
          <p:spPr>
            <a:xfrm>
              <a:off x="3421080" y="4149720"/>
              <a:ext cx="1079640" cy="1366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00520" y="5445000"/>
              <a:ext cx="209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eu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.ex. ETU3, PO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268080" y="1982880"/>
            <a:ext cx="1395360" cy="1301760"/>
            <a:chOff x="3268080" y="1982880"/>
            <a:chExt cx="1395360" cy="1301760"/>
          </a:xfrm>
        </p:grpSpPr>
        <p:sp>
          <p:nvSpPr>
            <p:cNvPr id="233" name=""/>
            <p:cNvSpPr/>
            <p:nvPr/>
          </p:nvSpPr>
          <p:spPr>
            <a:xfrm>
              <a:off x="3276720" y="2349360"/>
              <a:ext cx="1295280" cy="93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68080" y="198288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s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6C5-D2EC-4E49-A041-656657B401E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67157-FC1A-404D-8293-65B1D27ED8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seau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16000" y="1557360"/>
            <a:ext cx="7198920" cy="4463640"/>
            <a:chOff x="1116000" y="1557360"/>
            <a:chExt cx="7198920" cy="4463640"/>
          </a:xfrm>
        </p:grpSpPr>
        <p:grpSp>
          <p:nvGrpSpPr>
            <p:cNvPr id="237" name=""/>
            <p:cNvGrpSpPr/>
            <p:nvPr/>
          </p:nvGrpSpPr>
          <p:grpSpPr>
            <a:xfrm>
              <a:off x="1116000" y="1557360"/>
              <a:ext cx="2376000" cy="1872720"/>
              <a:chOff x="1116000" y="1557360"/>
              <a:chExt cx="2376000" cy="1872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529720" y="317844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5573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1358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00" y="283104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2294280" y="236844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2529720" y="171216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105280" y="232920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105280" y="178884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105280" y="30243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29720" y="271548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8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2718720" y="185436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flipH="1">
                <a:off x="2529360" y="198180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2906640" y="291132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1" name=""/>
            <p:cNvGrpSpPr/>
            <p:nvPr/>
          </p:nvGrpSpPr>
          <p:grpSpPr>
            <a:xfrm>
              <a:off x="5867640" y="1700280"/>
              <a:ext cx="2376360" cy="1872720"/>
              <a:chOff x="5867640" y="1700280"/>
              <a:chExt cx="2376360" cy="1872720"/>
            </a:xfrm>
          </p:grpSpPr>
          <p:sp>
            <p:nvSpPr>
              <p:cNvPr id="252" name=""/>
              <p:cNvSpPr/>
              <p:nvPr/>
            </p:nvSpPr>
            <p:spPr>
              <a:xfrm flipH="1">
                <a:off x="6405120" y="332136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7246080" y="17002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7246080" y="227880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7246080" y="29739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68040" y="251136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829920" y="185508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30280" y="247212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30280" y="19317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830280" y="316728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29920" y="285840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67640" y="199728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6546960" y="212472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95440" y="305424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5" name="" descr=""/>
            <p:cNvPicPr/>
            <p:nvPr/>
          </p:nvPicPr>
          <p:blipFill>
            <a:blip r:embed="rId13"/>
            <a:stretch/>
          </p:blipFill>
          <p:spPr>
            <a:xfrm>
              <a:off x="3924360" y="3129120"/>
              <a:ext cx="1903320" cy="130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6" name=""/>
            <p:cNvGrpSpPr/>
            <p:nvPr/>
          </p:nvGrpSpPr>
          <p:grpSpPr>
            <a:xfrm>
              <a:off x="1187280" y="4005360"/>
              <a:ext cx="2376360" cy="1872720"/>
              <a:chOff x="1187280" y="4005360"/>
              <a:chExt cx="2376360" cy="1872720"/>
            </a:xfrm>
          </p:grpSpPr>
          <p:sp>
            <p:nvSpPr>
              <p:cNvPr id="267" name=""/>
              <p:cNvSpPr/>
              <p:nvPr/>
            </p:nvSpPr>
            <p:spPr>
              <a:xfrm>
                <a:off x="2601360" y="562644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87280" y="40053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87280" y="45838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87280" y="527904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2365920" y="481644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2601360" y="416016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2176920" y="477720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2176920" y="423684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176920" y="54723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01360" y="516348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2790360" y="430236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 flipH="1">
                <a:off x="2601000" y="442980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9" name="" descr=""/>
              <p:cNvPicPr/>
              <p:nvPr/>
            </p:nvPicPr>
            <p:blipFill>
              <a:blip r:embed="rId19"/>
              <a:stretch/>
            </p:blipFill>
            <p:spPr>
              <a:xfrm flipH="1">
                <a:off x="2978280" y="535932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0" name=""/>
            <p:cNvGrpSpPr/>
            <p:nvPr/>
          </p:nvGrpSpPr>
          <p:grpSpPr>
            <a:xfrm>
              <a:off x="5938920" y="4148280"/>
              <a:ext cx="2376000" cy="1872720"/>
              <a:chOff x="5938920" y="4148280"/>
              <a:chExt cx="2376000" cy="1872720"/>
            </a:xfrm>
          </p:grpSpPr>
          <p:sp>
            <p:nvSpPr>
              <p:cNvPr id="281" name=""/>
              <p:cNvSpPr/>
              <p:nvPr/>
            </p:nvSpPr>
            <p:spPr>
              <a:xfrm flipH="1">
                <a:off x="6476400" y="576936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2" name="" descr=""/>
              <p:cNvPicPr/>
              <p:nvPr/>
            </p:nvPicPr>
            <p:blipFill>
              <a:blip r:embed="rId20"/>
              <a:stretch/>
            </p:blipFill>
            <p:spPr>
              <a:xfrm flipH="1">
                <a:off x="7317000" y="41482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" descr=""/>
              <p:cNvPicPr/>
              <p:nvPr/>
            </p:nvPicPr>
            <p:blipFill>
              <a:blip r:embed="rId21"/>
              <a:stretch/>
            </p:blipFill>
            <p:spPr>
              <a:xfrm flipH="1">
                <a:off x="7317000" y="472680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22"/>
              <a:stretch/>
            </p:blipFill>
            <p:spPr>
              <a:xfrm flipH="1">
                <a:off x="7317000" y="54219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439320" y="495936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6901200" y="430308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01560" y="492012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01560" y="43797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901560" y="561528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01200" y="530640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938920" y="444528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6618240" y="457272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066720" y="550224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4" name=""/>
            <p:cNvSpPr/>
            <p:nvPr/>
          </p:nvSpPr>
          <p:spPr>
            <a:xfrm>
              <a:off x="3059280" y="263700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59280" y="508464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59280" y="278136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2360" y="522936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00720" y="2637000"/>
              <a:ext cx="0" cy="64764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59280" y="2781360"/>
              <a:ext cx="0" cy="43164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00720" y="4365720"/>
              <a:ext cx="0" cy="71892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32360" y="4437000"/>
              <a:ext cx="0" cy="79236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826920" y="1773360"/>
            <a:ext cx="7777080" cy="4680000"/>
            <a:chOff x="826920" y="1773360"/>
            <a:chExt cx="7777080" cy="4680000"/>
          </a:xfrm>
        </p:grpSpPr>
        <p:grpSp>
          <p:nvGrpSpPr>
            <p:cNvPr id="303" name=""/>
            <p:cNvGrpSpPr/>
            <p:nvPr/>
          </p:nvGrpSpPr>
          <p:grpSpPr>
            <a:xfrm>
              <a:off x="5435640" y="1773360"/>
              <a:ext cx="1800000" cy="1368360"/>
              <a:chOff x="5435640" y="1773360"/>
              <a:chExt cx="1800000" cy="136836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5435640" y="1773360"/>
                <a:ext cx="593640" cy="574200"/>
                <a:chOff x="5435640" y="1773360"/>
                <a:chExt cx="593640" cy="5742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789160" y="22705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435640" y="17733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5435640" y="1950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5435640" y="21639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29"/>
                <a:stretch/>
              </p:blipFill>
              <p:spPr>
                <a:xfrm flipH="1">
                  <a:off x="5730120" y="20221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0" name=""/>
                <p:cNvSpPr/>
                <p:nvPr/>
              </p:nvSpPr>
              <p:spPr>
                <a:xfrm>
                  <a:off x="5789160" y="18208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5682960" y="2009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5682960" y="1844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5682960" y="22230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89160" y="21283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5" name="" descr=""/>
                <p:cNvPicPr/>
                <p:nvPr/>
              </p:nvPicPr>
              <p:blipFill>
                <a:blip r:embed="rId30"/>
                <a:stretch/>
              </p:blipFill>
              <p:spPr>
                <a:xfrm flipH="1">
                  <a:off x="5835960" y="18644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6" name=""/>
                <p:cNvSpPr/>
                <p:nvPr/>
              </p:nvSpPr>
              <p:spPr>
                <a:xfrm flipH="1">
                  <a:off x="5789160" y="19033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7" name="" descr=""/>
                <p:cNvPicPr/>
                <p:nvPr/>
              </p:nvPicPr>
              <p:blipFill>
                <a:blip r:embed="rId31"/>
                <a:stretch/>
              </p:blipFill>
              <p:spPr>
                <a:xfrm flipH="1">
                  <a:off x="5883120" y="21884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8" name=""/>
              <p:cNvGrpSpPr/>
              <p:nvPr/>
            </p:nvGrpSpPr>
            <p:grpSpPr>
              <a:xfrm>
                <a:off x="6623640" y="1816920"/>
                <a:ext cx="594000" cy="574200"/>
                <a:chOff x="6623640" y="1816920"/>
                <a:chExt cx="594000" cy="5742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>
                  <a:off x="6757920" y="231408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32"/>
                <a:stretch/>
              </p:blipFill>
              <p:spPr>
                <a:xfrm flipH="1">
                  <a:off x="6968160" y="18169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33"/>
                <a:stretch/>
              </p:blipFill>
              <p:spPr>
                <a:xfrm flipH="1">
                  <a:off x="6968160" y="19944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34"/>
                <a:stretch/>
              </p:blipFill>
              <p:spPr>
                <a:xfrm flipH="1">
                  <a:off x="6968160" y="22075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748560" y="206568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4" name=""/>
                <p:cNvSpPr/>
                <p:nvPr/>
              </p:nvSpPr>
              <p:spPr>
                <a:xfrm>
                  <a:off x="6864120" y="186444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64480" y="2053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864480" y="1887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864480" y="2266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864120" y="217188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9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623640" y="190800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>
                  <a:off x="6793560" y="194688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31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6655320" y="223200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2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38000" y="225504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3" name=""/>
              <p:cNvGrpSpPr/>
              <p:nvPr/>
            </p:nvGrpSpPr>
            <p:grpSpPr>
              <a:xfrm>
                <a:off x="5453280" y="2523600"/>
                <a:ext cx="594000" cy="574200"/>
                <a:chOff x="5453280" y="2523600"/>
                <a:chExt cx="594000" cy="5742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806800" y="30207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35" name="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5453280" y="2523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5453280" y="27010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5453280" y="2914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42"/>
                <a:stretch/>
              </p:blipFill>
              <p:spPr>
                <a:xfrm flipH="1">
                  <a:off x="5748120" y="27723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>
                  <a:off x="5806800" y="25711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>
                  <a:off x="5700600" y="2760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5700600" y="2594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5700600" y="29732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806800" y="28785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4" name="" descr=""/>
                <p:cNvPicPr/>
                <p:nvPr/>
              </p:nvPicPr>
              <p:blipFill>
                <a:blip r:embed="rId43"/>
                <a:stretch/>
              </p:blipFill>
              <p:spPr>
                <a:xfrm flipH="1">
                  <a:off x="5853960" y="26146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 flipH="1">
                  <a:off x="5806440" y="26535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6" name="" descr=""/>
                <p:cNvPicPr/>
                <p:nvPr/>
              </p:nvPicPr>
              <p:blipFill>
                <a:blip r:embed="rId44"/>
                <a:stretch/>
              </p:blipFill>
              <p:spPr>
                <a:xfrm flipH="1">
                  <a:off x="5901120" y="29386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47" name=""/>
              <p:cNvGrpSpPr/>
              <p:nvPr/>
            </p:nvGrpSpPr>
            <p:grpSpPr>
              <a:xfrm>
                <a:off x="6642000" y="2567520"/>
                <a:ext cx="593640" cy="574200"/>
                <a:chOff x="6642000" y="2567520"/>
                <a:chExt cx="593640" cy="5742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>
                  <a:off x="6775920" y="306468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9" name="" descr=""/>
                <p:cNvPicPr/>
                <p:nvPr/>
              </p:nvPicPr>
              <p:blipFill>
                <a:blip r:embed="rId45"/>
                <a:stretch/>
              </p:blipFill>
              <p:spPr>
                <a:xfrm flipH="1">
                  <a:off x="6986160" y="25675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46"/>
                <a:stretch/>
              </p:blipFill>
              <p:spPr>
                <a:xfrm flipH="1">
                  <a:off x="6986160" y="2745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47"/>
                <a:stretch/>
              </p:blipFill>
              <p:spPr>
                <a:xfrm flipH="1">
                  <a:off x="6986160" y="2958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6766920" y="281628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3" name=""/>
                <p:cNvSpPr/>
                <p:nvPr/>
              </p:nvSpPr>
              <p:spPr>
                <a:xfrm>
                  <a:off x="6882120" y="261504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882480" y="28040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82480" y="2638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882480" y="3017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882120" y="292248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58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6642000" y="265860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9" name=""/>
                <p:cNvSpPr/>
                <p:nvPr/>
              </p:nvSpPr>
              <p:spPr>
                <a:xfrm>
                  <a:off x="6811560" y="269748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60" name="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6674040" y="298260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61" name=""/>
              <p:cNvSpPr/>
              <p:nvPr/>
            </p:nvSpPr>
            <p:spPr>
              <a:xfrm>
                <a:off x="5921640" y="210420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921640" y="28544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71640" y="2148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90000" y="2899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82000" y="210420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71640" y="214848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82000" y="263412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90000" y="265608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804000" y="5084640"/>
              <a:ext cx="1800000" cy="1368720"/>
              <a:chOff x="6804000" y="5084640"/>
              <a:chExt cx="1800000" cy="136872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6804000" y="5084640"/>
                <a:ext cx="593640" cy="574200"/>
                <a:chOff x="6804000" y="5084640"/>
                <a:chExt cx="593640" cy="5742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7157520" y="5581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72" name="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6804000" y="5084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6804000" y="5262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6804000" y="5475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54"/>
                <a:stretch/>
              </p:blipFill>
              <p:spPr>
                <a:xfrm flipH="1">
                  <a:off x="7098480" y="5333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" name=""/>
                <p:cNvSpPr/>
                <p:nvPr/>
              </p:nvSpPr>
              <p:spPr>
                <a:xfrm>
                  <a:off x="7157520" y="5132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7051320" y="5321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7051320" y="5155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7051320" y="5534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157520" y="5439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1" name="" descr=""/>
                <p:cNvPicPr/>
                <p:nvPr/>
              </p:nvPicPr>
              <p:blipFill>
                <a:blip r:embed="rId55"/>
                <a:stretch/>
              </p:blipFill>
              <p:spPr>
                <a:xfrm flipH="1">
                  <a:off x="7204320" y="5175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2" name=""/>
                <p:cNvSpPr/>
                <p:nvPr/>
              </p:nvSpPr>
              <p:spPr>
                <a:xfrm flipH="1">
                  <a:off x="7157520" y="5214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3" name="" descr=""/>
                <p:cNvPicPr/>
                <p:nvPr/>
              </p:nvPicPr>
              <p:blipFill>
                <a:blip r:embed="rId56"/>
                <a:stretch/>
              </p:blipFill>
              <p:spPr>
                <a:xfrm flipH="1">
                  <a:off x="7251480" y="5499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4" name=""/>
              <p:cNvGrpSpPr/>
              <p:nvPr/>
            </p:nvGrpSpPr>
            <p:grpSpPr>
              <a:xfrm>
                <a:off x="7992000" y="5128200"/>
                <a:ext cx="594000" cy="574200"/>
                <a:chOff x="7992000" y="5128200"/>
                <a:chExt cx="594000" cy="574200"/>
              </a:xfrm>
            </p:grpSpPr>
            <p:sp>
              <p:nvSpPr>
                <p:cNvPr id="385" name=""/>
                <p:cNvSpPr/>
                <p:nvPr/>
              </p:nvSpPr>
              <p:spPr>
                <a:xfrm flipH="1">
                  <a:off x="8126280" y="5625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6" name="" descr=""/>
                <p:cNvPicPr/>
                <p:nvPr/>
              </p:nvPicPr>
              <p:blipFill>
                <a:blip r:embed="rId57"/>
                <a:stretch/>
              </p:blipFill>
              <p:spPr>
                <a:xfrm flipH="1">
                  <a:off x="8336520" y="5128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58"/>
                <a:stretch/>
              </p:blipFill>
              <p:spPr>
                <a:xfrm flipH="1">
                  <a:off x="8336520" y="5305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59"/>
                <a:stretch/>
              </p:blipFill>
              <p:spPr>
                <a:xfrm flipH="1">
                  <a:off x="8336520" y="5518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8116920" y="5376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0" name=""/>
                <p:cNvSpPr/>
                <p:nvPr/>
              </p:nvSpPr>
              <p:spPr>
                <a:xfrm>
                  <a:off x="8232480" y="5175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232840" y="5364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232840" y="5199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32840" y="5577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232480" y="5483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5" name="" descr="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7992000" y="5219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"/>
                <p:cNvSpPr/>
                <p:nvPr/>
              </p:nvSpPr>
              <p:spPr>
                <a:xfrm>
                  <a:off x="8161920" y="5258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7" name="" descr="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8023680" y="5543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98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7506360" y="5566320"/>
                <a:ext cx="475920" cy="40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9" name=""/>
              <p:cNvGrpSpPr/>
              <p:nvPr/>
            </p:nvGrpSpPr>
            <p:grpSpPr>
              <a:xfrm>
                <a:off x="6821640" y="5835240"/>
                <a:ext cx="594000" cy="574200"/>
                <a:chOff x="6821640" y="5835240"/>
                <a:chExt cx="594000" cy="574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175160" y="6332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01" name="" descr="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6821640" y="5835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6821640" y="6012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6821640" y="6225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67"/>
                <a:stretch/>
              </p:blipFill>
              <p:spPr>
                <a:xfrm flipH="1">
                  <a:off x="7116480" y="6084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5" name=""/>
                <p:cNvSpPr/>
                <p:nvPr/>
              </p:nvSpPr>
              <p:spPr>
                <a:xfrm>
                  <a:off x="7175160" y="5882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7068960" y="6071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>
                  <a:off x="7068960" y="5906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>
                  <a:off x="7068960" y="6284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175160" y="6190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0" name="" descr=""/>
                <p:cNvPicPr/>
                <p:nvPr/>
              </p:nvPicPr>
              <p:blipFill>
                <a:blip r:embed="rId68"/>
                <a:stretch/>
              </p:blipFill>
              <p:spPr>
                <a:xfrm flipH="1">
                  <a:off x="7222320" y="5926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1" name=""/>
                <p:cNvSpPr/>
                <p:nvPr/>
              </p:nvSpPr>
              <p:spPr>
                <a:xfrm flipH="1">
                  <a:off x="7174800" y="5965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2" name="" descr=""/>
                <p:cNvPicPr/>
                <p:nvPr/>
              </p:nvPicPr>
              <p:blipFill>
                <a:blip r:embed="rId69"/>
                <a:stretch/>
              </p:blipFill>
              <p:spPr>
                <a:xfrm flipH="1">
                  <a:off x="7269480" y="6250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3" name=""/>
              <p:cNvGrpSpPr/>
              <p:nvPr/>
            </p:nvGrpSpPr>
            <p:grpSpPr>
              <a:xfrm>
                <a:off x="8010360" y="5879160"/>
                <a:ext cx="593640" cy="574200"/>
                <a:chOff x="8010360" y="5879160"/>
                <a:chExt cx="593640" cy="574200"/>
              </a:xfrm>
            </p:grpSpPr>
            <p:sp>
              <p:nvSpPr>
                <p:cNvPr id="414" name=""/>
                <p:cNvSpPr/>
                <p:nvPr/>
              </p:nvSpPr>
              <p:spPr>
                <a:xfrm flipH="1">
                  <a:off x="8144280" y="6376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5" name="" descr=""/>
                <p:cNvPicPr/>
                <p:nvPr/>
              </p:nvPicPr>
              <p:blipFill>
                <a:blip r:embed="rId70"/>
                <a:stretch/>
              </p:blipFill>
              <p:spPr>
                <a:xfrm flipH="1">
                  <a:off x="8354520" y="5879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71"/>
                <a:stretch/>
              </p:blipFill>
              <p:spPr>
                <a:xfrm flipH="1">
                  <a:off x="8354520" y="6056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72"/>
                <a:stretch/>
              </p:blipFill>
              <p:spPr>
                <a:xfrm flipH="1">
                  <a:off x="8354520" y="6269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8135280" y="6127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9" name=""/>
                <p:cNvSpPr/>
                <p:nvPr/>
              </p:nvSpPr>
              <p:spPr>
                <a:xfrm>
                  <a:off x="8250480" y="5926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250840" y="6115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250840" y="5950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250840" y="6328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250480" y="6234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24" name="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8010360" y="5970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5" name=""/>
                <p:cNvSpPr/>
                <p:nvPr/>
              </p:nvSpPr>
              <p:spPr>
                <a:xfrm>
                  <a:off x="8179920" y="6009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26" name="" descr="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8042400" y="6294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27" name=""/>
              <p:cNvSpPr/>
              <p:nvPr/>
            </p:nvSpPr>
            <p:spPr>
              <a:xfrm>
                <a:off x="7290000" y="5415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290000" y="6166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40000" y="5459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58360" y="6210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50360" y="5415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40000" y="5459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50360" y="5945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58360" y="5967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3059280" y="4653000"/>
              <a:ext cx="1800000" cy="1368360"/>
              <a:chOff x="3059280" y="4653000"/>
              <a:chExt cx="1800000" cy="136836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3059280" y="4653000"/>
                <a:ext cx="593640" cy="574200"/>
                <a:chOff x="3059280" y="4653000"/>
                <a:chExt cx="593640" cy="5742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3412800" y="51501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38" name="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3059280" y="4653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3059280" y="4830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3059280" y="5043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79"/>
                <a:stretch/>
              </p:blipFill>
              <p:spPr>
                <a:xfrm flipH="1">
                  <a:off x="3353760" y="49017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2" name=""/>
                <p:cNvSpPr/>
                <p:nvPr/>
              </p:nvSpPr>
              <p:spPr>
                <a:xfrm>
                  <a:off x="3412800" y="47005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>
                  <a:off x="3306600" y="4889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3306600" y="47239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3306600" y="51026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412800" y="50079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47" name="" descr=""/>
                <p:cNvPicPr/>
                <p:nvPr/>
              </p:nvPicPr>
              <p:blipFill>
                <a:blip r:embed="rId80"/>
                <a:stretch/>
              </p:blipFill>
              <p:spPr>
                <a:xfrm flipH="1">
                  <a:off x="3459600" y="47440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8" name=""/>
                <p:cNvSpPr/>
                <p:nvPr/>
              </p:nvSpPr>
              <p:spPr>
                <a:xfrm flipH="1">
                  <a:off x="3412800" y="47829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49" name="" descr=""/>
                <p:cNvPicPr/>
                <p:nvPr/>
              </p:nvPicPr>
              <p:blipFill>
                <a:blip r:embed="rId81"/>
                <a:stretch/>
              </p:blipFill>
              <p:spPr>
                <a:xfrm flipH="1">
                  <a:off x="3506760" y="50680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0" name=""/>
              <p:cNvGrpSpPr/>
              <p:nvPr/>
            </p:nvGrpSpPr>
            <p:grpSpPr>
              <a:xfrm>
                <a:off x="4247640" y="4696560"/>
                <a:ext cx="593640" cy="574200"/>
                <a:chOff x="4247640" y="4696560"/>
                <a:chExt cx="593640" cy="574200"/>
              </a:xfrm>
            </p:grpSpPr>
            <p:sp>
              <p:nvSpPr>
                <p:cNvPr id="451" name=""/>
                <p:cNvSpPr/>
                <p:nvPr/>
              </p:nvSpPr>
              <p:spPr>
                <a:xfrm flipH="1">
                  <a:off x="4381560" y="51937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52" name="" descr=""/>
                <p:cNvPicPr/>
                <p:nvPr/>
              </p:nvPicPr>
              <p:blipFill>
                <a:blip r:embed="rId82"/>
                <a:stretch/>
              </p:blipFill>
              <p:spPr>
                <a:xfrm flipH="1">
                  <a:off x="4591800" y="46965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83"/>
                <a:stretch/>
              </p:blipFill>
              <p:spPr>
                <a:xfrm flipH="1">
                  <a:off x="4591800" y="48740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84"/>
                <a:stretch/>
              </p:blipFill>
              <p:spPr>
                <a:xfrm flipH="1">
                  <a:off x="4591800" y="5087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4372560" y="49453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>
                  <a:off x="4487760" y="47440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488120" y="4933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488120" y="47674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488120" y="51462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487760" y="50515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61" name="" descr="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4247640" y="47876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"/>
                <p:cNvSpPr/>
                <p:nvPr/>
              </p:nvSpPr>
              <p:spPr>
                <a:xfrm>
                  <a:off x="4417200" y="48265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63" name="" descr="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4279680" y="51116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4" name="" descr=""/>
              <p:cNvPicPr/>
              <p:nvPr/>
            </p:nvPicPr>
            <p:blipFill>
              <a:blip r:embed="rId88"/>
              <a:stretch/>
            </p:blipFill>
            <p:spPr>
              <a:xfrm>
                <a:off x="3761280" y="513468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"/>
              <p:cNvGrpSpPr/>
              <p:nvPr/>
            </p:nvGrpSpPr>
            <p:grpSpPr>
              <a:xfrm>
                <a:off x="3076920" y="5403240"/>
                <a:ext cx="593640" cy="574200"/>
                <a:chOff x="3076920" y="5403240"/>
                <a:chExt cx="593640" cy="5742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430440" y="5900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67" name="" descr="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3076920" y="5403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" descr="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3076920" y="5580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" descr="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3076920" y="5793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92"/>
                <a:stretch/>
              </p:blipFill>
              <p:spPr>
                <a:xfrm flipH="1">
                  <a:off x="3371400" y="5652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>
                  <a:off x="3430440" y="5450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3324240" y="5639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3324240" y="5474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3324240" y="5852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30440" y="5758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6" name="" descr=""/>
                <p:cNvPicPr/>
                <p:nvPr/>
              </p:nvPicPr>
              <p:blipFill>
                <a:blip r:embed="rId93"/>
                <a:stretch/>
              </p:blipFill>
              <p:spPr>
                <a:xfrm flipH="1">
                  <a:off x="3477240" y="5494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 flipH="1">
                  <a:off x="3430440" y="55332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8" name="" descr=""/>
                <p:cNvPicPr/>
                <p:nvPr/>
              </p:nvPicPr>
              <p:blipFill>
                <a:blip r:embed="rId94"/>
                <a:stretch/>
              </p:blipFill>
              <p:spPr>
                <a:xfrm flipH="1">
                  <a:off x="3524400" y="58183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9" name=""/>
              <p:cNvGrpSpPr/>
              <p:nvPr/>
            </p:nvGrpSpPr>
            <p:grpSpPr>
              <a:xfrm>
                <a:off x="4265640" y="5447160"/>
                <a:ext cx="593640" cy="574200"/>
                <a:chOff x="4265640" y="5447160"/>
                <a:chExt cx="593640" cy="57420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4399560" y="5944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81" name="" descr=""/>
                <p:cNvPicPr/>
                <p:nvPr/>
              </p:nvPicPr>
              <p:blipFill>
                <a:blip r:embed="rId95"/>
                <a:stretch/>
              </p:blipFill>
              <p:spPr>
                <a:xfrm flipH="1">
                  <a:off x="4609800" y="5447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96"/>
                <a:stretch/>
              </p:blipFill>
              <p:spPr>
                <a:xfrm flipH="1">
                  <a:off x="4609800" y="5624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97"/>
                <a:stretch/>
              </p:blipFill>
              <p:spPr>
                <a:xfrm flipH="1">
                  <a:off x="4609800" y="5837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4390560" y="5695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5" name=""/>
                <p:cNvSpPr/>
                <p:nvPr/>
              </p:nvSpPr>
              <p:spPr>
                <a:xfrm>
                  <a:off x="4505760" y="5494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506120" y="5683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506120" y="5518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506120" y="5896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505760" y="5802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90" name="" descr="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4265640" y="5538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"/>
                <p:cNvSpPr/>
                <p:nvPr/>
              </p:nvSpPr>
              <p:spPr>
                <a:xfrm>
                  <a:off x="4435200" y="5577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92" name="" descr="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4297680" y="5862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93" name=""/>
              <p:cNvSpPr/>
              <p:nvPr/>
            </p:nvSpPr>
            <p:spPr>
              <a:xfrm>
                <a:off x="3544920" y="49838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44920" y="5734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995280" y="50281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13280" y="5778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905640" y="498384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995280" y="502812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905640" y="5513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13280" y="5535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2124000" y="2276640"/>
              <a:ext cx="1800000" cy="1368360"/>
              <a:chOff x="2124000" y="2276640"/>
              <a:chExt cx="1800000" cy="136836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2124000" y="2276640"/>
                <a:ext cx="593640" cy="574200"/>
                <a:chOff x="2124000" y="2276640"/>
                <a:chExt cx="593640" cy="5742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2477520" y="2773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04" name="" descr="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2124000" y="2276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2124000" y="2454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2124000" y="2667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104"/>
                <a:stretch/>
              </p:blipFill>
              <p:spPr>
                <a:xfrm flipH="1">
                  <a:off x="2418480" y="2525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8" name=""/>
                <p:cNvSpPr/>
                <p:nvPr/>
              </p:nvSpPr>
              <p:spPr>
                <a:xfrm>
                  <a:off x="2477520" y="2324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2371320" y="2513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>
                  <a:off x="2371320" y="2347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>
                  <a:off x="2371320" y="2726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477520" y="2631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3" name="" descr=""/>
                <p:cNvPicPr/>
                <p:nvPr/>
              </p:nvPicPr>
              <p:blipFill>
                <a:blip r:embed="rId105"/>
                <a:stretch/>
              </p:blipFill>
              <p:spPr>
                <a:xfrm flipH="1">
                  <a:off x="2524320" y="2367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4" name=""/>
                <p:cNvSpPr/>
                <p:nvPr/>
              </p:nvSpPr>
              <p:spPr>
                <a:xfrm flipH="1">
                  <a:off x="2477520" y="2406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5" name="" descr=""/>
                <p:cNvPicPr/>
                <p:nvPr/>
              </p:nvPicPr>
              <p:blipFill>
                <a:blip r:embed="rId106"/>
                <a:stretch/>
              </p:blipFill>
              <p:spPr>
                <a:xfrm flipH="1">
                  <a:off x="2571480" y="2691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6" name=""/>
              <p:cNvGrpSpPr/>
              <p:nvPr/>
            </p:nvGrpSpPr>
            <p:grpSpPr>
              <a:xfrm>
                <a:off x="3312000" y="2320200"/>
                <a:ext cx="594000" cy="574200"/>
                <a:chOff x="3312000" y="2320200"/>
                <a:chExt cx="594000" cy="574200"/>
              </a:xfrm>
            </p:grpSpPr>
            <p:sp>
              <p:nvSpPr>
                <p:cNvPr id="517" name=""/>
                <p:cNvSpPr/>
                <p:nvPr/>
              </p:nvSpPr>
              <p:spPr>
                <a:xfrm flipH="1">
                  <a:off x="3446280" y="2817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8" name="" descr=""/>
                <p:cNvPicPr/>
                <p:nvPr/>
              </p:nvPicPr>
              <p:blipFill>
                <a:blip r:embed="rId107"/>
                <a:stretch/>
              </p:blipFill>
              <p:spPr>
                <a:xfrm flipH="1">
                  <a:off x="3656520" y="2320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" descr=""/>
                <p:cNvPicPr/>
                <p:nvPr/>
              </p:nvPicPr>
              <p:blipFill>
                <a:blip r:embed="rId108"/>
                <a:stretch/>
              </p:blipFill>
              <p:spPr>
                <a:xfrm flipH="1">
                  <a:off x="3656520" y="2497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" descr=""/>
                <p:cNvPicPr/>
                <p:nvPr/>
              </p:nvPicPr>
              <p:blipFill>
                <a:blip r:embed="rId109"/>
                <a:stretch/>
              </p:blipFill>
              <p:spPr>
                <a:xfrm flipH="1">
                  <a:off x="3656520" y="2710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" descr=""/>
                <p:cNvPicPr/>
                <p:nvPr/>
              </p:nvPicPr>
              <p:blipFill>
                <a:blip r:embed="rId110"/>
                <a:stretch/>
              </p:blipFill>
              <p:spPr>
                <a:xfrm>
                  <a:off x="3436920" y="2568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2" name=""/>
                <p:cNvSpPr/>
                <p:nvPr/>
              </p:nvSpPr>
              <p:spPr>
                <a:xfrm>
                  <a:off x="3552480" y="2367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552840" y="2556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552840" y="2391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52840" y="2769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552480" y="2675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7" name="" descr=""/>
                <p:cNvPicPr/>
                <p:nvPr/>
              </p:nvPicPr>
              <p:blipFill>
                <a:blip r:embed="rId111"/>
                <a:stretch/>
              </p:blipFill>
              <p:spPr>
                <a:xfrm>
                  <a:off x="3312000" y="2411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8" name=""/>
                <p:cNvSpPr/>
                <p:nvPr/>
              </p:nvSpPr>
              <p:spPr>
                <a:xfrm>
                  <a:off x="3481920" y="2450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9" name="" descr=""/>
                <p:cNvPicPr/>
                <p:nvPr/>
              </p:nvPicPr>
              <p:blipFill>
                <a:blip r:embed="rId112"/>
                <a:stretch/>
              </p:blipFill>
              <p:spPr>
                <a:xfrm>
                  <a:off x="3343680" y="2735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0" name="" descr=""/>
              <p:cNvPicPr/>
              <p:nvPr/>
            </p:nvPicPr>
            <p:blipFill>
              <a:blip r:embed="rId113"/>
              <a:stretch/>
            </p:blipFill>
            <p:spPr>
              <a:xfrm>
                <a:off x="2826360" y="275832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1" name=""/>
              <p:cNvGrpSpPr/>
              <p:nvPr/>
            </p:nvGrpSpPr>
            <p:grpSpPr>
              <a:xfrm>
                <a:off x="2141640" y="3026880"/>
                <a:ext cx="594000" cy="574200"/>
                <a:chOff x="2141640" y="3026880"/>
                <a:chExt cx="594000" cy="5742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495160" y="352404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33" name="" descr=""/>
                <p:cNvPicPr/>
                <p:nvPr/>
              </p:nvPicPr>
              <p:blipFill>
                <a:blip r:embed="rId114"/>
                <a:stretch/>
              </p:blipFill>
              <p:spPr>
                <a:xfrm>
                  <a:off x="2141640" y="30268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15"/>
                <a:stretch/>
              </p:blipFill>
              <p:spPr>
                <a:xfrm>
                  <a:off x="2141640" y="32043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16"/>
                <a:stretch/>
              </p:blipFill>
              <p:spPr>
                <a:xfrm>
                  <a:off x="2141640" y="3417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17"/>
                <a:stretch/>
              </p:blipFill>
              <p:spPr>
                <a:xfrm flipH="1">
                  <a:off x="2436480" y="327564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"/>
                <p:cNvSpPr/>
                <p:nvPr/>
              </p:nvSpPr>
              <p:spPr>
                <a:xfrm>
                  <a:off x="2495160" y="307440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2388960" y="32634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>
                  <a:off x="2388960" y="3097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>
                  <a:off x="2388960" y="3476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495160" y="338184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42" name="" descr=""/>
                <p:cNvPicPr/>
                <p:nvPr/>
              </p:nvPicPr>
              <p:blipFill>
                <a:blip r:embed="rId118"/>
                <a:stretch/>
              </p:blipFill>
              <p:spPr>
                <a:xfrm flipH="1">
                  <a:off x="2542320" y="311796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3" name=""/>
                <p:cNvSpPr/>
                <p:nvPr/>
              </p:nvSpPr>
              <p:spPr>
                <a:xfrm flipH="1">
                  <a:off x="2494800" y="315684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44" name="" descr=""/>
                <p:cNvPicPr/>
                <p:nvPr/>
              </p:nvPicPr>
              <p:blipFill>
                <a:blip r:embed="rId119"/>
                <a:stretch/>
              </p:blipFill>
              <p:spPr>
                <a:xfrm flipH="1">
                  <a:off x="2589480" y="344196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5" name=""/>
              <p:cNvGrpSpPr/>
              <p:nvPr/>
            </p:nvGrpSpPr>
            <p:grpSpPr>
              <a:xfrm>
                <a:off x="3330360" y="3070800"/>
                <a:ext cx="593640" cy="574200"/>
                <a:chOff x="3330360" y="3070800"/>
                <a:chExt cx="593640" cy="574200"/>
              </a:xfrm>
            </p:grpSpPr>
            <p:sp>
              <p:nvSpPr>
                <p:cNvPr id="546" name=""/>
                <p:cNvSpPr/>
                <p:nvPr/>
              </p:nvSpPr>
              <p:spPr>
                <a:xfrm flipH="1">
                  <a:off x="3464280" y="35679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47" name="" descr=""/>
                <p:cNvPicPr/>
                <p:nvPr/>
              </p:nvPicPr>
              <p:blipFill>
                <a:blip r:embed="rId120"/>
                <a:stretch/>
              </p:blipFill>
              <p:spPr>
                <a:xfrm flipH="1">
                  <a:off x="3674520" y="3070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121"/>
                <a:stretch/>
              </p:blipFill>
              <p:spPr>
                <a:xfrm flipH="1">
                  <a:off x="3674520" y="32482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122"/>
                <a:stretch/>
              </p:blipFill>
              <p:spPr>
                <a:xfrm flipH="1">
                  <a:off x="3674520" y="34614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123"/>
                <a:stretch/>
              </p:blipFill>
              <p:spPr>
                <a:xfrm>
                  <a:off x="3455280" y="33195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1" name=""/>
                <p:cNvSpPr/>
                <p:nvPr/>
              </p:nvSpPr>
              <p:spPr>
                <a:xfrm>
                  <a:off x="3570480" y="31183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570840" y="33073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570840" y="3141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570840" y="3520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570480" y="34257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56" name="" descr=""/>
                <p:cNvPicPr/>
                <p:nvPr/>
              </p:nvPicPr>
              <p:blipFill>
                <a:blip r:embed="rId124"/>
                <a:stretch/>
              </p:blipFill>
              <p:spPr>
                <a:xfrm>
                  <a:off x="3330360" y="31618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7" name=""/>
                <p:cNvSpPr/>
                <p:nvPr/>
              </p:nvSpPr>
              <p:spPr>
                <a:xfrm>
                  <a:off x="3499920" y="32007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58" name="" descr=""/>
                <p:cNvPicPr/>
                <p:nvPr/>
              </p:nvPicPr>
              <p:blipFill>
                <a:blip r:embed="rId125"/>
                <a:stretch/>
              </p:blipFill>
              <p:spPr>
                <a:xfrm>
                  <a:off x="3362400" y="34858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9" name=""/>
              <p:cNvSpPr/>
              <p:nvPr/>
            </p:nvSpPr>
            <p:spPr>
              <a:xfrm>
                <a:off x="2610000" y="2607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610000" y="3357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060000" y="2651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078360" y="34023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970360" y="2607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060000" y="2651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970360" y="313740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78360" y="315936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826920" y="3860640"/>
              <a:ext cx="1800000" cy="1368720"/>
              <a:chOff x="826920" y="3860640"/>
              <a:chExt cx="1800000" cy="136872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26920" y="3860640"/>
                <a:ext cx="593640" cy="574200"/>
                <a:chOff x="826920" y="3860640"/>
                <a:chExt cx="593640" cy="57420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1180440" y="4357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0" name="" descr=""/>
                <p:cNvPicPr/>
                <p:nvPr/>
              </p:nvPicPr>
              <p:blipFill>
                <a:blip r:embed="rId126"/>
                <a:stretch/>
              </p:blipFill>
              <p:spPr>
                <a:xfrm>
                  <a:off x="826920" y="3860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127"/>
                <a:stretch/>
              </p:blipFill>
              <p:spPr>
                <a:xfrm>
                  <a:off x="826920" y="4038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128"/>
                <a:stretch/>
              </p:blipFill>
              <p:spPr>
                <a:xfrm>
                  <a:off x="826920" y="4251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129"/>
                <a:stretch/>
              </p:blipFill>
              <p:spPr>
                <a:xfrm flipH="1">
                  <a:off x="1121400" y="4109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4" name=""/>
                <p:cNvSpPr/>
                <p:nvPr/>
              </p:nvSpPr>
              <p:spPr>
                <a:xfrm>
                  <a:off x="1180440" y="3908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>
                  <a:off x="1074240" y="4097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1074240" y="3931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1074240" y="4310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180440" y="4215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9" name="" descr=""/>
                <p:cNvPicPr/>
                <p:nvPr/>
              </p:nvPicPr>
              <p:blipFill>
                <a:blip r:embed="rId130"/>
                <a:stretch/>
              </p:blipFill>
              <p:spPr>
                <a:xfrm flipH="1">
                  <a:off x="1227240" y="3951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0" name=""/>
                <p:cNvSpPr/>
                <p:nvPr/>
              </p:nvSpPr>
              <p:spPr>
                <a:xfrm flipH="1">
                  <a:off x="1180440" y="3990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81" name="" descr=""/>
                <p:cNvPicPr/>
                <p:nvPr/>
              </p:nvPicPr>
              <p:blipFill>
                <a:blip r:embed="rId131"/>
                <a:stretch/>
              </p:blipFill>
              <p:spPr>
                <a:xfrm flipH="1">
                  <a:off x="1274400" y="4275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2" name=""/>
              <p:cNvGrpSpPr/>
              <p:nvPr/>
            </p:nvGrpSpPr>
            <p:grpSpPr>
              <a:xfrm>
                <a:off x="2014920" y="3904200"/>
                <a:ext cx="594000" cy="574200"/>
                <a:chOff x="2014920" y="3904200"/>
                <a:chExt cx="594000" cy="574200"/>
              </a:xfrm>
            </p:grpSpPr>
            <p:sp>
              <p:nvSpPr>
                <p:cNvPr id="583" name=""/>
                <p:cNvSpPr/>
                <p:nvPr/>
              </p:nvSpPr>
              <p:spPr>
                <a:xfrm flipH="1">
                  <a:off x="2149200" y="4401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84" name="" descr=""/>
                <p:cNvPicPr/>
                <p:nvPr/>
              </p:nvPicPr>
              <p:blipFill>
                <a:blip r:embed="rId132"/>
                <a:stretch/>
              </p:blipFill>
              <p:spPr>
                <a:xfrm flipH="1">
                  <a:off x="2359440" y="3904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133"/>
                <a:stretch/>
              </p:blipFill>
              <p:spPr>
                <a:xfrm flipH="1">
                  <a:off x="2359440" y="4081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134"/>
                <a:stretch/>
              </p:blipFill>
              <p:spPr>
                <a:xfrm flipH="1">
                  <a:off x="2359440" y="4294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2139840" y="4152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8" name=""/>
                <p:cNvSpPr/>
                <p:nvPr/>
              </p:nvSpPr>
              <p:spPr>
                <a:xfrm>
                  <a:off x="2255400" y="3951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255760" y="4140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255760" y="3975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255760" y="4353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5400" y="4259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93" name="" descr=""/>
                <p:cNvPicPr/>
                <p:nvPr/>
              </p:nvPicPr>
              <p:blipFill>
                <a:blip r:embed="rId136"/>
                <a:stretch/>
              </p:blipFill>
              <p:spPr>
                <a:xfrm>
                  <a:off x="2014920" y="3995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4" name=""/>
                <p:cNvSpPr/>
                <p:nvPr/>
              </p:nvSpPr>
              <p:spPr>
                <a:xfrm>
                  <a:off x="2184840" y="4034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95" name="" descr="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2046600" y="4319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96" name="" descr=""/>
              <p:cNvPicPr/>
              <p:nvPr/>
            </p:nvPicPr>
            <p:blipFill>
              <a:blip r:embed="rId138"/>
              <a:stretch/>
            </p:blipFill>
            <p:spPr>
              <a:xfrm>
                <a:off x="1529280" y="4342320"/>
                <a:ext cx="475920" cy="40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"/>
              <p:cNvGrpSpPr/>
              <p:nvPr/>
            </p:nvGrpSpPr>
            <p:grpSpPr>
              <a:xfrm>
                <a:off x="844560" y="4611240"/>
                <a:ext cx="594000" cy="574200"/>
                <a:chOff x="844560" y="4611240"/>
                <a:chExt cx="594000" cy="57420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198080" y="5108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99" name="" descr=""/>
                <p:cNvPicPr/>
                <p:nvPr/>
              </p:nvPicPr>
              <p:blipFill>
                <a:blip r:embed="rId139"/>
                <a:stretch/>
              </p:blipFill>
              <p:spPr>
                <a:xfrm>
                  <a:off x="844560" y="4611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" descr=""/>
                <p:cNvPicPr/>
                <p:nvPr/>
              </p:nvPicPr>
              <p:blipFill>
                <a:blip r:embed="rId140"/>
                <a:stretch/>
              </p:blipFill>
              <p:spPr>
                <a:xfrm>
                  <a:off x="844560" y="4788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844560" y="5001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142"/>
                <a:stretch/>
              </p:blipFill>
              <p:spPr>
                <a:xfrm flipH="1">
                  <a:off x="1139400" y="4860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3" name=""/>
                <p:cNvSpPr/>
                <p:nvPr/>
              </p:nvSpPr>
              <p:spPr>
                <a:xfrm>
                  <a:off x="1198080" y="4658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>
                  <a:off x="1091880" y="4847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>
                  <a:off x="1091880" y="4682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>
                  <a:off x="1091880" y="5060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198080" y="4966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8" name="" descr=""/>
                <p:cNvPicPr/>
                <p:nvPr/>
              </p:nvPicPr>
              <p:blipFill>
                <a:blip r:embed="rId143"/>
                <a:stretch/>
              </p:blipFill>
              <p:spPr>
                <a:xfrm flipH="1">
                  <a:off x="1245240" y="4702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9" name=""/>
                <p:cNvSpPr/>
                <p:nvPr/>
              </p:nvSpPr>
              <p:spPr>
                <a:xfrm flipH="1">
                  <a:off x="1197720" y="4741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10" name="" descr=""/>
                <p:cNvPicPr/>
                <p:nvPr/>
              </p:nvPicPr>
              <p:blipFill>
                <a:blip r:embed="rId144"/>
                <a:stretch/>
              </p:blipFill>
              <p:spPr>
                <a:xfrm flipH="1">
                  <a:off x="1292400" y="5026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11" name=""/>
              <p:cNvGrpSpPr/>
              <p:nvPr/>
            </p:nvGrpSpPr>
            <p:grpSpPr>
              <a:xfrm>
                <a:off x="2033280" y="4655160"/>
                <a:ext cx="593640" cy="574200"/>
                <a:chOff x="2033280" y="4655160"/>
                <a:chExt cx="593640" cy="574200"/>
              </a:xfrm>
            </p:grpSpPr>
            <p:sp>
              <p:nvSpPr>
                <p:cNvPr id="612" name=""/>
                <p:cNvSpPr/>
                <p:nvPr/>
              </p:nvSpPr>
              <p:spPr>
                <a:xfrm flipH="1">
                  <a:off x="2167200" y="5152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13" name="" descr=""/>
                <p:cNvPicPr/>
                <p:nvPr/>
              </p:nvPicPr>
              <p:blipFill>
                <a:blip r:embed="rId145"/>
                <a:stretch/>
              </p:blipFill>
              <p:spPr>
                <a:xfrm flipH="1">
                  <a:off x="2377440" y="4655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" descr=""/>
                <p:cNvPicPr/>
                <p:nvPr/>
              </p:nvPicPr>
              <p:blipFill>
                <a:blip r:embed="rId146"/>
                <a:stretch/>
              </p:blipFill>
              <p:spPr>
                <a:xfrm flipH="1">
                  <a:off x="2377440" y="4832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" descr=""/>
                <p:cNvPicPr/>
                <p:nvPr/>
              </p:nvPicPr>
              <p:blipFill>
                <a:blip r:embed="rId147"/>
                <a:stretch/>
              </p:blipFill>
              <p:spPr>
                <a:xfrm flipH="1">
                  <a:off x="2377440" y="5045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" descr="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2158200" y="4903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7" name=""/>
                <p:cNvSpPr/>
                <p:nvPr/>
              </p:nvSpPr>
              <p:spPr>
                <a:xfrm>
                  <a:off x="2273400" y="4702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273760" y="4891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273760" y="4726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273760" y="5104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273400" y="5010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22" name="" descr="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2033280" y="4746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3" name=""/>
                <p:cNvSpPr/>
                <p:nvPr/>
              </p:nvSpPr>
              <p:spPr>
                <a:xfrm>
                  <a:off x="2202840" y="4785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24" name="" descr="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2065320" y="5070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25" name=""/>
              <p:cNvSpPr/>
              <p:nvPr/>
            </p:nvSpPr>
            <p:spPr>
              <a:xfrm>
                <a:off x="1312920" y="4191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12920" y="4942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62920" y="4235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781280" y="4986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673280" y="4191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762920" y="4235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673280" y="4721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781280" y="4743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859280" y="3429000"/>
              <a:ext cx="1800000" cy="1368360"/>
              <a:chOff x="4859280" y="3429000"/>
              <a:chExt cx="1800000" cy="136836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4859280" y="3429000"/>
                <a:ext cx="593640" cy="574200"/>
                <a:chOff x="4859280" y="3429000"/>
                <a:chExt cx="593640" cy="5742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212800" y="39261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36" name="" descr="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4859280" y="3429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152"/>
                <a:stretch/>
              </p:blipFill>
              <p:spPr>
                <a:xfrm>
                  <a:off x="4859280" y="3606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153"/>
                <a:stretch/>
              </p:blipFill>
              <p:spPr>
                <a:xfrm>
                  <a:off x="4859280" y="3819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154"/>
                <a:stretch/>
              </p:blipFill>
              <p:spPr>
                <a:xfrm flipH="1">
                  <a:off x="5153760" y="36777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0" name=""/>
                <p:cNvSpPr/>
                <p:nvPr/>
              </p:nvSpPr>
              <p:spPr>
                <a:xfrm>
                  <a:off x="5212800" y="34765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>
                  <a:off x="5106600" y="3665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5106600" y="34999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>
                  <a:off x="5106600" y="38786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212800" y="37839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5" name="" descr=""/>
                <p:cNvPicPr/>
                <p:nvPr/>
              </p:nvPicPr>
              <p:blipFill>
                <a:blip r:embed="rId155"/>
                <a:stretch/>
              </p:blipFill>
              <p:spPr>
                <a:xfrm flipH="1">
                  <a:off x="5259600" y="35200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6" name=""/>
                <p:cNvSpPr/>
                <p:nvPr/>
              </p:nvSpPr>
              <p:spPr>
                <a:xfrm flipH="1">
                  <a:off x="5212800" y="35589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7" name="" descr=""/>
                <p:cNvPicPr/>
                <p:nvPr/>
              </p:nvPicPr>
              <p:blipFill>
                <a:blip r:embed="rId156"/>
                <a:stretch/>
              </p:blipFill>
              <p:spPr>
                <a:xfrm flipH="1">
                  <a:off x="5306760" y="38440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8" name=""/>
              <p:cNvGrpSpPr/>
              <p:nvPr/>
            </p:nvGrpSpPr>
            <p:grpSpPr>
              <a:xfrm>
                <a:off x="6047280" y="3472560"/>
                <a:ext cx="594000" cy="574200"/>
                <a:chOff x="6047280" y="3472560"/>
                <a:chExt cx="594000" cy="574200"/>
              </a:xfrm>
            </p:grpSpPr>
            <p:sp>
              <p:nvSpPr>
                <p:cNvPr id="649" name=""/>
                <p:cNvSpPr/>
                <p:nvPr/>
              </p:nvSpPr>
              <p:spPr>
                <a:xfrm flipH="1">
                  <a:off x="6181560" y="39697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50" name="" descr=""/>
                <p:cNvPicPr/>
                <p:nvPr/>
              </p:nvPicPr>
              <p:blipFill>
                <a:blip r:embed="rId157"/>
                <a:stretch/>
              </p:blipFill>
              <p:spPr>
                <a:xfrm flipH="1">
                  <a:off x="6391800" y="34725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158"/>
                <a:stretch/>
              </p:blipFill>
              <p:spPr>
                <a:xfrm flipH="1">
                  <a:off x="6391800" y="36500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159"/>
                <a:stretch/>
              </p:blipFill>
              <p:spPr>
                <a:xfrm flipH="1">
                  <a:off x="6391800" y="3863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160"/>
                <a:stretch/>
              </p:blipFill>
              <p:spPr>
                <a:xfrm>
                  <a:off x="6172200" y="37213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4" name=""/>
                <p:cNvSpPr/>
                <p:nvPr/>
              </p:nvSpPr>
              <p:spPr>
                <a:xfrm>
                  <a:off x="6287760" y="35200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8120" y="3709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288120" y="35434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288120" y="39222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287760" y="38275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59" name="" descr="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6047280" y="35636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217200" y="360252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61" name="" descr=""/>
                <p:cNvPicPr/>
                <p:nvPr/>
              </p:nvPicPr>
              <p:blipFill>
                <a:blip r:embed="rId162"/>
                <a:stretch/>
              </p:blipFill>
              <p:spPr>
                <a:xfrm>
                  <a:off x="6078960" y="388764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62" name="" descr=""/>
              <p:cNvPicPr/>
              <p:nvPr/>
            </p:nvPicPr>
            <p:blipFill>
              <a:blip r:embed="rId163"/>
              <a:stretch/>
            </p:blipFill>
            <p:spPr>
              <a:xfrm>
                <a:off x="5561640" y="391068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3" name=""/>
              <p:cNvGrpSpPr/>
              <p:nvPr/>
            </p:nvGrpSpPr>
            <p:grpSpPr>
              <a:xfrm>
                <a:off x="4876920" y="4179240"/>
                <a:ext cx="594000" cy="574200"/>
                <a:chOff x="4876920" y="4179240"/>
                <a:chExt cx="594000" cy="5742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230440" y="4676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65" name="" descr=""/>
                <p:cNvPicPr/>
                <p:nvPr/>
              </p:nvPicPr>
              <p:blipFill>
                <a:blip r:embed="rId164"/>
                <a:stretch/>
              </p:blipFill>
              <p:spPr>
                <a:xfrm>
                  <a:off x="4876920" y="4179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4876920" y="4356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4876920" y="4569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167"/>
                <a:stretch/>
              </p:blipFill>
              <p:spPr>
                <a:xfrm flipH="1">
                  <a:off x="5171760" y="4428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9" name=""/>
                <p:cNvSpPr/>
                <p:nvPr/>
              </p:nvSpPr>
              <p:spPr>
                <a:xfrm>
                  <a:off x="5230440" y="4226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>
                  <a:off x="5124240" y="4415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H="1">
                  <a:off x="5124240" y="4250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H="1">
                  <a:off x="5124240" y="4628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230440" y="4534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74" name="" descr=""/>
                <p:cNvPicPr/>
                <p:nvPr/>
              </p:nvPicPr>
              <p:blipFill>
                <a:blip r:embed="rId168"/>
                <a:stretch/>
              </p:blipFill>
              <p:spPr>
                <a:xfrm flipH="1">
                  <a:off x="5277600" y="4270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5" name=""/>
                <p:cNvSpPr/>
                <p:nvPr/>
              </p:nvSpPr>
              <p:spPr>
                <a:xfrm flipH="1">
                  <a:off x="5230080" y="4309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76" name="" descr=""/>
                <p:cNvPicPr/>
                <p:nvPr/>
              </p:nvPicPr>
              <p:blipFill>
                <a:blip r:embed="rId169"/>
                <a:stretch/>
              </p:blipFill>
              <p:spPr>
                <a:xfrm flipH="1">
                  <a:off x="5324760" y="4594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7" name=""/>
              <p:cNvGrpSpPr/>
              <p:nvPr/>
            </p:nvGrpSpPr>
            <p:grpSpPr>
              <a:xfrm>
                <a:off x="6065640" y="4223160"/>
                <a:ext cx="593640" cy="574200"/>
                <a:chOff x="6065640" y="4223160"/>
                <a:chExt cx="593640" cy="574200"/>
              </a:xfrm>
            </p:grpSpPr>
            <p:sp>
              <p:nvSpPr>
                <p:cNvPr id="678" name=""/>
                <p:cNvSpPr/>
                <p:nvPr/>
              </p:nvSpPr>
              <p:spPr>
                <a:xfrm flipH="1">
                  <a:off x="6199560" y="4720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79" name="" descr=""/>
                <p:cNvPicPr/>
                <p:nvPr/>
              </p:nvPicPr>
              <p:blipFill>
                <a:blip r:embed="rId170"/>
                <a:stretch/>
              </p:blipFill>
              <p:spPr>
                <a:xfrm flipH="1">
                  <a:off x="6409800" y="4223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71"/>
                <a:stretch/>
              </p:blipFill>
              <p:spPr>
                <a:xfrm flipH="1">
                  <a:off x="6409800" y="4400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72"/>
                <a:stretch/>
              </p:blipFill>
              <p:spPr>
                <a:xfrm flipH="1">
                  <a:off x="6409800" y="4613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173"/>
                <a:stretch/>
              </p:blipFill>
              <p:spPr>
                <a:xfrm>
                  <a:off x="6190560" y="4471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3" name=""/>
                <p:cNvSpPr/>
                <p:nvPr/>
              </p:nvSpPr>
              <p:spPr>
                <a:xfrm>
                  <a:off x="6305760" y="4270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306120" y="4459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306120" y="4294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306120" y="4672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05760" y="4578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8" name="" descr=""/>
                <p:cNvPicPr/>
                <p:nvPr/>
              </p:nvPicPr>
              <p:blipFill>
                <a:blip r:embed="rId174"/>
                <a:stretch/>
              </p:blipFill>
              <p:spPr>
                <a:xfrm>
                  <a:off x="6065640" y="4314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9" name=""/>
                <p:cNvSpPr/>
                <p:nvPr/>
              </p:nvSpPr>
              <p:spPr>
                <a:xfrm>
                  <a:off x="6235200" y="4353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90" name="" descr=""/>
                <p:cNvPicPr/>
                <p:nvPr/>
              </p:nvPicPr>
              <p:blipFill>
                <a:blip r:embed="rId175"/>
                <a:stretch/>
              </p:blipFill>
              <p:spPr>
                <a:xfrm>
                  <a:off x="6097680" y="4638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91" name=""/>
              <p:cNvSpPr/>
              <p:nvPr/>
            </p:nvSpPr>
            <p:spPr>
              <a:xfrm>
                <a:off x="5345280" y="37598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45280" y="4510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95280" y="38041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813640" y="4554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05640" y="375984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95280" y="380412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705640" y="4289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13640" y="4311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99" name=""/>
            <p:cNvCxnSpPr>
              <a:stCxn id="464" idx="0"/>
              <a:endCxn id="566" idx="0"/>
            </p:cNvCxnSpPr>
            <p:nvPr/>
          </p:nvCxnSpPr>
          <p:spPr>
            <a:xfrm flipV="1" rot="16200000">
              <a:off x="2686320" y="3821040"/>
              <a:ext cx="1704240" cy="921600"/>
            </a:xfrm>
            <a:prstGeom prst="bentConnector3">
              <a:avLst>
                <a:gd name="adj1" fmla="val 507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0" name=""/>
            <p:cNvCxnSpPr>
              <a:stCxn id="596" idx="0"/>
              <a:endCxn id="530" idx="2"/>
            </p:cNvCxnSpPr>
            <p:nvPr/>
          </p:nvCxnSpPr>
          <p:spPr>
            <a:xfrm flipH="1" flipV="1" rot="5400000">
              <a:off x="1823400" y="3101400"/>
              <a:ext cx="1183680" cy="1297800"/>
            </a:xfrm>
            <a:prstGeom prst="bentConnector3">
              <a:avLst>
                <a:gd name="adj1" fmla="val 49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1" name=""/>
            <p:cNvCxnSpPr>
              <a:stCxn id="398" idx="0"/>
              <a:endCxn id="662" idx="2"/>
            </p:cNvCxnSpPr>
            <p:nvPr/>
          </p:nvCxnSpPr>
          <p:spPr>
            <a:xfrm flipV="1" rot="16200000">
              <a:off x="6144120" y="3965400"/>
              <a:ext cx="1254600" cy="1945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2" name=""/>
            <p:cNvCxnSpPr>
              <a:stCxn id="662" idx="0"/>
              <a:endCxn id="368" idx="0"/>
            </p:cNvCxnSpPr>
            <p:nvPr/>
          </p:nvCxnSpPr>
          <p:spPr>
            <a:xfrm flipH="1" flipV="1" rot="5400000">
              <a:off x="5452920" y="2972880"/>
              <a:ext cx="1283400" cy="591120"/>
            </a:xfrm>
            <a:prstGeom prst="bentConnector3">
              <a:avLst>
                <a:gd name="adj1" fmla="val 178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3" name=""/>
            <p:cNvCxnSpPr>
              <a:stCxn id="530" idx="3"/>
              <a:endCxn id="332" idx="1"/>
            </p:cNvCxnSpPr>
            <p:nvPr/>
          </p:nvCxnSpPr>
          <p:spPr>
            <a:xfrm flipV="1">
              <a:off x="3301920" y="2455560"/>
              <a:ext cx="2835720" cy="50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704" name=""/>
          <p:cNvSpPr/>
          <p:nvPr/>
        </p:nvSpPr>
        <p:spPr>
          <a:xfrm>
            <a:off x="5560200" y="836640"/>
            <a:ext cx="180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ress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xx.xxx.xxx.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94.214.170.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64000" y="1700280"/>
            <a:ext cx="3603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47720" y="18900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iuta.univ-nancy2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7" name=""/>
          <p:cNvCxnSpPr>
            <a:stCxn id="704" idx="1"/>
            <a:endCxn id="706" idx="2"/>
          </p:cNvCxnSpPr>
          <p:nvPr/>
        </p:nvCxnSpPr>
        <p:spPr>
          <a:xfrm flipH="1" flipV="1">
            <a:off x="4843080" y="829800"/>
            <a:ext cx="63432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58176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935-56E2-4C32-A8C5-1860255E574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A313E-7DAD-415F-A7EF-29B977DAFD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dresses Interne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e adresse Web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URL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Uniform Resource Locator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"/>
          <p:cNvSpPr/>
          <p:nvPr/>
        </p:nvSpPr>
        <p:spPr>
          <a:xfrm>
            <a:off x="996120" y="3197160"/>
            <a:ext cx="78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http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://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ww.iuta.univ-nancy2.f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Diplom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46640" y="40766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55560" y="4869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« service 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591360" y="4005360"/>
            <a:ext cx="12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u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40328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21164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5976720" y="353664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727680" y="40291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 (ressour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59636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82520" y="425592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716360" y="4941720"/>
            <a:ext cx="3024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com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om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org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organ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fr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asso.fr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association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12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01200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77A-9B10-40AF-AB30-8F8E28F4A9D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05876-3960-494A-A78B-85BEF4740F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seau Loca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ès à un serveur Wind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\\serveur\répertoi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 exemple :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\\etu3\pot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3"/>
          <a:stretch/>
        </p:blipFill>
        <p:spPr>
          <a:xfrm>
            <a:off x="1405080" y="401004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4"/>
          <a:stretch/>
        </p:blipFill>
        <p:spPr>
          <a:xfrm>
            <a:off x="5856120" y="4005360"/>
            <a:ext cx="1524240" cy="111744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 flipH="1" rot="21255000">
            <a:off x="3924000" y="4009680"/>
            <a:ext cx="1727280" cy="504720"/>
          </a:xfrm>
          <a:custGeom>
            <a:avLst/>
            <a:gdLst>
              <a:gd name="textAreaLeft" fmla="*/ 302040 w 1727280"/>
              <a:gd name="textAreaRight" fmla="*/ 1252440 w 1727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624680" y="53737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079320" y="5300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5"/>
          <a:stretch/>
        </p:blipFill>
        <p:spPr>
          <a:xfrm>
            <a:off x="2268360" y="3938760"/>
            <a:ext cx="719280" cy="3790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6"/>
          <a:stretch/>
        </p:blipFill>
        <p:spPr>
          <a:xfrm>
            <a:off x="2916360" y="4730760"/>
            <a:ext cx="1224000" cy="30636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7"/>
          <a:stretch/>
        </p:blipFill>
        <p:spPr>
          <a:xfrm>
            <a:off x="2557440" y="4299120"/>
            <a:ext cx="719280" cy="3790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8"/>
          <a:stretch/>
        </p:blipFill>
        <p:spPr>
          <a:xfrm>
            <a:off x="3276720" y="4340160"/>
            <a:ext cx="50472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5C3-0080-4B8B-A118-B7D3EFF3960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0B923-762E-4075-89E3-E06086B69D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stions ?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724-DCC5-4F34-AAE9-194442004636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E911C-1D31-4750-A01F-4FCF35269E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ésent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 séances de 2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sentation des concepts et travaux pratiques sur mach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Évalu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3 travaux pratiq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/3 examen en fin de sem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EA7-8DA7-41CD-A074-6671A7E835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2D58C-582E-4998-9168-1A25FEAF30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ogramm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ons de base : architecture et matéri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ons de base : résea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ème d’exploitation : Windo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vigation sur le 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itement de texte : Wo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ur : Exce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sentation assistée par Ordinateur : PowerPo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786-70D2-4D8C-9972-DCE72C5E8F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BF5EB-A673-48AF-BEB7-A3ACB94B81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416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tions de Base 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chitecture et Matériel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F4B-A712-4811-BCB7-AC8CF48AA6B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6CAAF-E9FB-4E1F-B268-6CD15B9474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rchitecture et Matérie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ordinateu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t une machine électronique qui permet l'exécution des program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program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t un ensemble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d'instruc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i seront exécutées par l’ordinate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5373720"/>
            <a:ext cx="47754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rdw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645080" y="1700280"/>
            <a:ext cx="4247640" cy="3601440"/>
            <a:chOff x="4645080" y="1700280"/>
            <a:chExt cx="4247640" cy="3601440"/>
          </a:xfrm>
        </p:grpSpPr>
        <p:grpSp>
          <p:nvGrpSpPr>
            <p:cNvPr id="156" name=""/>
            <p:cNvGrpSpPr/>
            <p:nvPr/>
          </p:nvGrpSpPr>
          <p:grpSpPr>
            <a:xfrm>
              <a:off x="4645080" y="3268440"/>
              <a:ext cx="4197240" cy="2033280"/>
              <a:chOff x="4645080" y="3268440"/>
              <a:chExt cx="4197240" cy="2033280"/>
            </a:xfrm>
          </p:grpSpPr>
          <p:sp>
            <p:nvSpPr>
              <p:cNvPr id="157" name=""/>
              <p:cNvSpPr/>
              <p:nvPr/>
            </p:nvSpPr>
            <p:spPr>
              <a:xfrm>
                <a:off x="4645080" y="4781160"/>
                <a:ext cx="4197240" cy="520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ef66"/>
                    </a:solidFill>
                    <a:latin typeface="Comic Sans MS"/>
                  </a:rPr>
                  <a:t>Hardwar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65600" y="4204800"/>
                <a:ext cx="4176360" cy="947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ef66"/>
                    </a:solidFill>
                    <a:latin typeface="Comic Sans MS"/>
                  </a:rPr>
                  <a:t>Système d’exploita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4665600" y="3268440"/>
                <a:ext cx="4176360" cy="865080"/>
                <a:chOff x="4665600" y="3268440"/>
                <a:chExt cx="4176360" cy="865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665600" y="3268440"/>
                  <a:ext cx="4176360" cy="5205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Application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665600" y="3773160"/>
                  <a:ext cx="1223280" cy="3585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61960" y="3773160"/>
                  <a:ext cx="115056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85960" y="3773160"/>
                  <a:ext cx="115056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8409960" y="3773160"/>
                  <a:ext cx="43164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7813440" y="1700280"/>
              <a:ext cx="107928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rot="2428800">
              <a:off x="7236720" y="2031480"/>
              <a:ext cx="504720" cy="115056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201240 h 1150560"/>
                <a:gd name="textAreaBottom" fmla="*/ 834120 h 11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2E1-A80D-4A96-B362-C1F16468FE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87815-99F2-483D-95C7-2F5DE28F36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dage Numériqu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s communications à l'intérieur de l'ordinateur sont faites à travers les 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signaux électriq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our simplicité et fiabilité, ces signaux ont deux états seulement</a:t>
            </a:r>
            <a:r>
              <a:rPr b="0" lang="fr-FR" sz="2600" spc="-1" strike="noStrike">
                <a:solidFill>
                  <a:srgbClr val="703dff"/>
                </a:solidFill>
                <a:latin typeface="Comic Sans MS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b200"/>
                </a:solidFill>
                <a:latin typeface="Comic Sans MS"/>
              </a:rPr>
              <a:t>0 – éteint (absence de signal électriqu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b200"/>
                </a:solidFill>
                <a:latin typeface="Comic Sans MS"/>
              </a:rPr>
              <a:t>1 – allumé (présence de signal électriqu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Une unité d'information (0 ou 1) est appelée </a:t>
            </a:r>
            <a:r>
              <a:rPr b="0" i="1" lang="fr-FR" sz="2800" spc="-1" strike="noStrike">
                <a:solidFill>
                  <a:srgbClr val="9933ff"/>
                </a:solidFill>
                <a:latin typeface="Comic Sans MS"/>
              </a:rPr>
              <a:t>bit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 (de l'anglais binary digi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6 (décimal) = 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x2</a:t>
            </a:r>
            <a:r>
              <a:rPr b="0" lang="fr-FR" sz="2400" spc="-1" strike="noStrike" baseline="33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x2</a:t>
            </a:r>
            <a:r>
              <a:rPr b="0" lang="fr-FR" sz="2400" spc="-1" strike="noStrike" baseline="33000">
                <a:solidFill>
                  <a:srgbClr val="00b200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1" lang="fr-FR" sz="2400" spc="-1" strike="noStrike">
                <a:solidFill>
                  <a:srgbClr val="00b200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x2</a:t>
            </a:r>
            <a:r>
              <a:rPr b="0" lang="fr-FR" sz="2400" spc="-1" strike="noStrike" baseline="33000">
                <a:solidFill>
                  <a:srgbClr val="00b200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 = 110 (binair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CB5-D126-46B2-B608-404B78A323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3102A-06DF-4957-835A-4DDB37F4D8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872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Bits, Bytes, octets, etc...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9240" y="1926720"/>
            <a:ext cx="77090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Bi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– une unité binaire (0 ou 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Octe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(ou </a:t>
            </a: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By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) – groupe de 8 b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Kilo-octet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(Ko) – 1024 octe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Méga-octet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(Mo) – 1024Ko - 1048576 oct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Giga-octet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(Go) – 1024 Mo - 1073741824 oct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ourquoi 1Ko ≠ 1000 octe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encore, à cause de la base binaire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E52-5634-41CB-A12F-2EE5C3AE19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92195-5FD1-49AD-8789-7C50DC1E834E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Les composants intern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n ordinateur est composé au moins de 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575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processeur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575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arte mèr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575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mémoire viv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575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mémoires de mass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575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périphériques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356000" y="2963880"/>
            <a:ext cx="4737240" cy="3273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076720" y="1125360"/>
            <a:ext cx="2089080" cy="1530360"/>
          </a:xfrm>
          <a:prstGeom prst="rect">
            <a:avLst/>
          </a:prstGeom>
          <a:ln w="0">
            <a:noFill/>
          </a:ln>
        </p:spPr>
      </p:pic>
      <p:cxnSp>
        <p:nvCxnSpPr>
          <p:cNvPr id="175" name=""/>
          <p:cNvCxnSpPr>
            <a:stCxn id="174" idx="3"/>
          </p:cNvCxnSpPr>
          <p:nvPr/>
        </p:nvCxnSpPr>
        <p:spPr>
          <a:xfrm>
            <a:off x="7165800" y="1890720"/>
            <a:ext cx="286560" cy="962640"/>
          </a:xfrm>
          <a:prstGeom prst="bentConnector2">
            <a:avLst/>
          </a:prstGeom>
          <a:ln w="38160">
            <a:solidFill>
              <a:srgbClr val="703dff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25B-D206-434E-ABA2-FF43B42085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66168-10C7-4676-A316-0C2F83F8B14B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2:18:13Z</dcterms:created>
  <dc:creator>Manuele Kirsch Pinheiro</dc:creator>
  <dc:description/>
  <dc:language>en-US</dc:language>
  <cp:lastModifiedBy>Manuele Kirsch Pinheiro</cp:lastModifiedBy>
  <dcterms:modified xsi:type="dcterms:W3CDTF">2006-09-17T16:11:14Z</dcterms:modified>
  <cp:revision>19</cp:revision>
  <dc:subject/>
  <dc:title>Informatique Générale ML-AS</dc:title>
</cp:coreProperties>
</file>