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14.png" ContentType="image/png"/>
  <Override PartName="/ppt/media/image24.png" ContentType="image/png"/>
  <Override PartName="/ppt/media/image31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AF17-EEE6-4E86-993D-E8E92E82E0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e référence à l’activité correspon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qu’on peut spécifier la casse de la chaîne à recherche et de la chaîne de rem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fort : rendre un document présentant des coquilles n’est plus pardon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que les performances du correcteur grammatical ne sont pas toujours excellentes (exemple de « Julie e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onn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, « je marche dans un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n’insistera pas sur la notion de section.  Il est seulement important de remarquer que la section a des attributs de mise en page propre (taille du papier, marges, nombre de colonnes,…) et qu’il est possible de créer un document avec plusieurs s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e référence à la notion de répétition. Préciser que ces attributs dépendent de la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sur lequel se base tous les autres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el sur le style et le style sur lequel il se base. Ici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5F3-00E7-4F54-B325-64C224C9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120-B06F-4444-B4D7-7AFEF2B3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7CA-5D74-461B-9EEC-15C7347F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6EC-4694-41C3-9EA4-285F945F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A77-EDDA-437A-904B-617A8ED4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446-DB48-4D01-8D67-2E27D41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C386-AED0-41D5-9B4E-F7D03E4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F49E-73D3-4130-ACCD-2756B243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73F-0A62-424F-AA62-90AA0A6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58BE-7AD6-4A4D-A5F8-38DA73D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64FF-83CB-4EB4-A154-0827AE7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7F2-BF23-4F6A-9537-2163BACF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DE46-9C41-4B33-A555-D105209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DF2-5D16-4582-823E-FB5342F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E260-CE7F-410B-B748-9070452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07C-1DC9-43B8-9C9A-05E5A2D1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39E7-6B5A-4997-B695-D2BABF6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1B4-3987-4D4A-A4DB-93657E8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2A9-B94A-43C2-A8AF-79BADCA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2D3-B636-464D-B001-37DC8885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C0D-2FEA-426F-AF73-6BFFCDA0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F6C-2644-41CB-B513-970B97B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865-DC35-485D-922C-0015F39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B56-3D06-4B67-B05D-13E39E7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ABB1-1BCA-493E-B7AF-3CE14E7CC3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A93-2FC0-48F7-BEDE-5C6F05C450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aitement de texte 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ord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59280" y="2035080"/>
            <a:ext cx="5486400" cy="4057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00000" y="3284640"/>
            <a:ext cx="18226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Bor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9040" y="1484280"/>
            <a:ext cx="41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rdure et t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5486400" cy="4057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00000" y="2421000"/>
            <a:ext cx="1828800" cy="99036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Bordures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486400" cy="4057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71640" y="2781360"/>
            <a:ext cx="1828800" cy="99072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Trame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de 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br>
              <a:rPr sz="4000"/>
            </a:b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etraits, Taquets de tabulation</a:t>
            </a:r>
            <a:endParaRPr b="0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uble-clic sur une marque de retrait, de tabulation: accès au menu correspond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772400" cy="126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19440" y="3276720"/>
            <a:ext cx="132732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Re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3657600"/>
            <a:ext cx="1319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6095880"/>
            <a:ext cx="17524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504960" y="472392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572000" y="47239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30686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quets de tabul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535640" cy="4132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12520" y="14191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676760" cy="459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5040" y="3849840"/>
            <a:ext cx="19810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M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89040" y="2841120"/>
            <a:ext cx="1656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5040" y="5002200"/>
            <a:ext cx="19810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49400" y="3994200"/>
            <a:ext cx="1366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0280" y="14191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se en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4676760" cy="459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41148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Dimension</a:t>
            </a:r>
            <a:br>
              <a:rPr sz="2400"/>
            </a:b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 des fe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57400" y="3200040"/>
            <a:ext cx="2232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608360" cy="4524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38200" y="2852640"/>
            <a:ext cx="1981440" cy="106704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En-tête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Pied 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’être et le paraît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une qualité optimale, utiliser les commandes appropriées de mise en for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e mauvaise mise en form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n de mauvaise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cation (style, ajout de texte,…) diffic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ils (table des matières,…) inutilis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particuli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cier retour à la lign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hift-entré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in de paragrap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ntré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in de pag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trl-entré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ser les 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sty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 Word, créer un document identique au document exe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auvegarder le document créé avec le nom « experimentation 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éfini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traitement de texte est une application destinée à mettre en forme un tex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s principales fonctionnalités visent à faciliter la conception, la rédaction et la révision d'un document textu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roch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YSIWY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What You See Is What You Ge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penOffice Wri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9041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2513160" y="2417760"/>
            <a:ext cx="6257520" cy="762840"/>
            <a:chOff x="2513160" y="2417760"/>
            <a:chExt cx="6257520" cy="762840"/>
          </a:xfrm>
        </p:grpSpPr>
        <p:sp>
          <p:nvSpPr>
            <p:cNvPr id="235" name=""/>
            <p:cNvSpPr/>
            <p:nvPr/>
          </p:nvSpPr>
          <p:spPr>
            <a:xfrm>
              <a:off x="2513160" y="2417760"/>
              <a:ext cx="60948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11840" y="2720880"/>
              <a:ext cx="2958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haîne à recher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6" idx="0"/>
              <a:endCxn id="235" idx="6"/>
            </p:cNvCxnSpPr>
            <p:nvPr/>
          </p:nvCxnSpPr>
          <p:spPr>
            <a:xfrm flipV="1" rot="16200000">
              <a:off x="5130720" y="561600"/>
              <a:ext cx="153360" cy="4169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034880" y="3484440"/>
            <a:ext cx="3050280" cy="1829880"/>
            <a:chOff x="4034880" y="3484440"/>
            <a:chExt cx="3050280" cy="1829880"/>
          </a:xfrm>
        </p:grpSpPr>
        <p:sp>
          <p:nvSpPr>
            <p:cNvPr id="239" name=""/>
            <p:cNvSpPr/>
            <p:nvPr/>
          </p:nvSpPr>
          <p:spPr>
            <a:xfrm>
              <a:off x="5942160" y="3484440"/>
              <a:ext cx="1143000" cy="609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4880" y="4854600"/>
              <a:ext cx="2602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asser au suiv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40" idx="0"/>
              <a:endCxn id="239" idx="2"/>
            </p:cNvCxnSpPr>
            <p:nvPr/>
          </p:nvCxnSpPr>
          <p:spPr>
            <a:xfrm flipH="1" flipV="1" rot="5400000">
              <a:off x="5105160" y="4018680"/>
              <a:ext cx="1067400" cy="6073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42" name=""/>
          <p:cNvGrpSpPr/>
          <p:nvPr/>
        </p:nvGrpSpPr>
        <p:grpSpPr>
          <a:xfrm>
            <a:off x="543960" y="4322880"/>
            <a:ext cx="2823480" cy="2058120"/>
            <a:chOff x="543960" y="4322880"/>
            <a:chExt cx="2823480" cy="2058120"/>
          </a:xfrm>
        </p:grpSpPr>
        <p:sp>
          <p:nvSpPr>
            <p:cNvPr id="243" name=""/>
            <p:cNvSpPr/>
            <p:nvPr/>
          </p:nvSpPr>
          <p:spPr>
            <a:xfrm>
              <a:off x="1065240" y="4322880"/>
              <a:ext cx="685800" cy="1143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3960" y="5921280"/>
              <a:ext cx="2823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ffiner la recher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4" idx="0"/>
              <a:endCxn id="243" idx="4"/>
            </p:cNvCxnSpPr>
            <p:nvPr/>
          </p:nvCxnSpPr>
          <p:spPr>
            <a:xfrm flipV="1" rot="16200000">
              <a:off x="1452960" y="5419800"/>
              <a:ext cx="457920" cy="548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46" name=""/>
          <p:cNvSpPr/>
          <p:nvPr/>
        </p:nvSpPr>
        <p:spPr>
          <a:xfrm>
            <a:off x="779400" y="1197000"/>
            <a:ext cx="327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mplac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39680" y="1827360"/>
            <a:ext cx="6917040" cy="36496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86480" y="2894040"/>
            <a:ext cx="4484520" cy="3048840"/>
            <a:chOff x="186480" y="2894040"/>
            <a:chExt cx="4484520" cy="3048840"/>
          </a:xfrm>
        </p:grpSpPr>
        <p:sp>
          <p:nvSpPr>
            <p:cNvPr id="250" name=""/>
            <p:cNvSpPr/>
            <p:nvPr/>
          </p:nvSpPr>
          <p:spPr>
            <a:xfrm>
              <a:off x="2207880" y="2894040"/>
              <a:ext cx="99072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480" y="5483160"/>
              <a:ext cx="4484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mplacer le texte trouvé pa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51" idx="0"/>
              <a:endCxn id="250" idx="2"/>
            </p:cNvCxnSpPr>
            <p:nvPr/>
          </p:nvCxnSpPr>
          <p:spPr>
            <a:xfrm flipV="1" rot="16200000">
              <a:off x="1098360" y="4155120"/>
              <a:ext cx="2439000" cy="221400"/>
            </a:xfrm>
            <a:prstGeom prst="bentConnector4">
              <a:avLst>
                <a:gd name="adj1" fmla="val 46870"/>
                <a:gd name="adj2" fmla="val 20358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53" name=""/>
          <p:cNvSpPr/>
          <p:nvPr/>
        </p:nvSpPr>
        <p:spPr>
          <a:xfrm>
            <a:off x="5131800" y="1268280"/>
            <a:ext cx="329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ion  -&gt; Rempla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rthograp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1680" cy="325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256" name=""/>
          <p:cNvGrpSpPr/>
          <p:nvPr/>
        </p:nvGrpSpPr>
        <p:grpSpPr>
          <a:xfrm>
            <a:off x="865080" y="2590920"/>
            <a:ext cx="2416320" cy="3582360"/>
            <a:chOff x="865080" y="2590920"/>
            <a:chExt cx="2416320" cy="3582360"/>
          </a:xfrm>
        </p:grpSpPr>
        <p:sp>
          <p:nvSpPr>
            <p:cNvPr id="257" name=""/>
            <p:cNvSpPr/>
            <p:nvPr/>
          </p:nvSpPr>
          <p:spPr>
            <a:xfrm>
              <a:off x="1752480" y="2590920"/>
              <a:ext cx="1447920" cy="533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5080" y="5713560"/>
              <a:ext cx="2416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enu contextu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8" idx="0"/>
              <a:endCxn id="257" idx="2"/>
            </p:cNvCxnSpPr>
            <p:nvPr/>
          </p:nvCxnSpPr>
          <p:spPr>
            <a:xfrm flipV="1" rot="16200000">
              <a:off x="483480" y="4125240"/>
              <a:ext cx="2858040" cy="321480"/>
            </a:xfrm>
            <a:prstGeom prst="bentConnector4">
              <a:avLst>
                <a:gd name="adj1" fmla="val 38384"/>
                <a:gd name="adj2" fmla="val 25582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rthograp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43704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76960" y="3124080"/>
            <a:ext cx="2780640" cy="2805120"/>
            <a:chOff x="876960" y="3124080"/>
            <a:chExt cx="2780640" cy="280512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30492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6960" y="5103720"/>
              <a:ext cx="2298960" cy="82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rrection en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urs de frap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4" idx="0"/>
              <a:endCxn id="263" idx="2"/>
            </p:cNvCxnSpPr>
            <p:nvPr/>
          </p:nvCxnSpPr>
          <p:spPr>
            <a:xfrm flipH="1" flipV="1" rot="5400000">
              <a:off x="1775160" y="3528000"/>
              <a:ext cx="1829520" cy="13262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66" name=""/>
          <p:cNvSpPr/>
          <p:nvPr/>
        </p:nvSpPr>
        <p:spPr>
          <a:xfrm>
            <a:off x="615960" y="1484280"/>
            <a:ext cx="261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692360" y="184464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Grammai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14880" y="1268280"/>
            <a:ext cx="336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rtho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rriger l’orthographe du docu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introduction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mplacer toutes les occurrences du mot « dispositif » par « appareil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ages, Tableau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’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ma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à partir du fich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blea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a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ér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égend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7816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96120" y="2057400"/>
            <a:ext cx="5390280" cy="4572000"/>
            <a:chOff x="96120" y="2057400"/>
            <a:chExt cx="5390280" cy="4572000"/>
          </a:xfrm>
        </p:grpSpPr>
        <p:sp>
          <p:nvSpPr>
            <p:cNvPr id="278" name=""/>
            <p:cNvSpPr/>
            <p:nvPr/>
          </p:nvSpPr>
          <p:spPr>
            <a:xfrm>
              <a:off x="96120" y="2057400"/>
              <a:ext cx="45547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1) On positionne le curseur</a:t>
              </a:r>
              <a:br>
                <a:rPr sz="2400"/>
              </a:b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à l'emplacement de la lég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9200" y="6324480"/>
              <a:ext cx="45720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8" idx="3"/>
              <a:endCxn id="279" idx="0"/>
            </p:cNvCxnSpPr>
            <p:nvPr/>
          </p:nvCxnSpPr>
          <p:spPr>
            <a:xfrm>
              <a:off x="4517640" y="2473200"/>
              <a:ext cx="740520" cy="385200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281" name=""/>
          <p:cNvSpPr/>
          <p:nvPr/>
        </p:nvSpPr>
        <p:spPr>
          <a:xfrm>
            <a:off x="137880" y="3048120"/>
            <a:ext cx="332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(2) Insertion|Lég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57200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166320" y="2819520"/>
            <a:ext cx="5243760" cy="1678680"/>
            <a:chOff x="166320" y="2819520"/>
            <a:chExt cx="5243760" cy="1678680"/>
          </a:xfrm>
        </p:grpSpPr>
        <p:sp>
          <p:nvSpPr>
            <p:cNvPr id="284" name=""/>
            <p:cNvSpPr/>
            <p:nvPr/>
          </p:nvSpPr>
          <p:spPr>
            <a:xfrm>
              <a:off x="166320" y="4038480"/>
              <a:ext cx="4528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3) Saisir le texte de la lég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"/>
            <p:cNvCxnSpPr>
              <a:stCxn id="284" idx="3"/>
              <a:endCxn id="286" idx="4"/>
            </p:cNvCxnSpPr>
            <p:nvPr/>
          </p:nvCxnSpPr>
          <p:spPr>
            <a:xfrm flipV="1">
              <a:off x="4632120" y="3047760"/>
              <a:ext cx="549720" cy="122472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4952880" y="2819520"/>
              <a:ext cx="4572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8424720" cy="5543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5601960" y="49338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Renvoi vers une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08360" y="4076640"/>
            <a:ext cx="1150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3440" y="5661000"/>
            <a:ext cx="3022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9" idx="1"/>
            <a:endCxn id="290" idx="6"/>
          </p:cNvCxnSpPr>
          <p:nvPr/>
        </p:nvCxnSpPr>
        <p:spPr>
          <a:xfrm rot="10800000">
            <a:off x="4877640" y="4255200"/>
            <a:ext cx="774000" cy="862920"/>
          </a:xfrm>
          <a:prstGeom prst="curvedConnector5">
            <a:avLst>
              <a:gd name="adj1" fmla="val 51093"/>
              <a:gd name="adj2" fmla="val 50000"/>
              <a:gd name="adj3" fmla="val 510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9" idx="1"/>
            <a:endCxn id="291" idx="7"/>
          </p:cNvCxnSpPr>
          <p:nvPr/>
        </p:nvCxnSpPr>
        <p:spPr>
          <a:xfrm flipV="1" rot="10800000">
            <a:off x="5352480" y="5117040"/>
            <a:ext cx="299160" cy="5770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 document se décompose en plusieurs constituants hiérarchisé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agrap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ractère, Image, Dess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érer une légende à la fig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finir le renvoi à la figu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172200" cy="44766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2096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98800" y="1980720"/>
            <a:ext cx="6254280" cy="902160"/>
            <a:chOff x="298800" y="1980720"/>
            <a:chExt cx="6254280" cy="902160"/>
          </a:xfrm>
        </p:grpSpPr>
        <p:sp>
          <p:nvSpPr>
            <p:cNvPr id="300" name=""/>
            <p:cNvSpPr/>
            <p:nvPr/>
          </p:nvSpPr>
          <p:spPr>
            <a:xfrm>
              <a:off x="298800" y="2057400"/>
              <a:ext cx="4149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1) On positionne le curseur</a:t>
              </a:r>
              <a:br>
                <a:rPr sz="2400"/>
              </a:b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à l'emplacement du renv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stCxn id="300" idx="3"/>
              <a:endCxn id="298" idx="0"/>
            </p:cNvCxnSpPr>
            <p:nvPr/>
          </p:nvCxnSpPr>
          <p:spPr>
            <a:xfrm flipV="1">
              <a:off x="4355640" y="2209320"/>
              <a:ext cx="2197800" cy="264240"/>
            </a:xfrm>
            <a:prstGeom prst="bentConnector4">
              <a:avLst>
                <a:gd name="adj1" fmla="val 44790"/>
                <a:gd name="adj2" fmla="val 186630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302" name=""/>
          <p:cNvSpPr/>
          <p:nvPr/>
        </p:nvSpPr>
        <p:spPr>
          <a:xfrm>
            <a:off x="309240" y="3048120"/>
            <a:ext cx="3053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(2) Insertion|Renv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348000" y="2235240"/>
            <a:ext cx="5072040" cy="34257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531720" y="4724280"/>
            <a:ext cx="5640480" cy="685800"/>
            <a:chOff x="531720" y="4724280"/>
            <a:chExt cx="5640480" cy="685800"/>
          </a:xfrm>
        </p:grpSpPr>
        <p:sp>
          <p:nvSpPr>
            <p:cNvPr id="305" name=""/>
            <p:cNvSpPr/>
            <p:nvPr/>
          </p:nvSpPr>
          <p:spPr>
            <a:xfrm>
              <a:off x="531720" y="4724280"/>
              <a:ext cx="161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4) Vali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1320" y="5181480"/>
              <a:ext cx="38088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"/>
            <p:cNvCxnSpPr>
              <a:stCxn id="305" idx="3"/>
              <a:endCxn id="306" idx="2"/>
            </p:cNvCxnSpPr>
            <p:nvPr/>
          </p:nvCxnSpPr>
          <p:spPr>
            <a:xfrm>
              <a:off x="2144520" y="4957560"/>
              <a:ext cx="3647160" cy="338760"/>
            </a:xfrm>
            <a:prstGeom prst="bentConnector3">
              <a:avLst>
                <a:gd name="adj1" fmla="val 49970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308" name=""/>
          <p:cNvSpPr/>
          <p:nvPr/>
        </p:nvSpPr>
        <p:spPr>
          <a:xfrm>
            <a:off x="4952880" y="2819520"/>
            <a:ext cx="4572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4600" y="2666880"/>
            <a:ext cx="5879880" cy="1831320"/>
            <a:chOff x="444600" y="2666880"/>
            <a:chExt cx="5879880" cy="1831320"/>
          </a:xfrm>
        </p:grpSpPr>
        <p:sp>
          <p:nvSpPr>
            <p:cNvPr id="310" name=""/>
            <p:cNvSpPr/>
            <p:nvPr/>
          </p:nvSpPr>
          <p:spPr>
            <a:xfrm>
              <a:off x="444600" y="4038480"/>
              <a:ext cx="3989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3) Adapter les paramè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12" idx="5"/>
            </p:cNvCxnSpPr>
            <p:nvPr/>
          </p:nvCxnSpPr>
          <p:spPr>
            <a:xfrm flipH="1" flipV="1">
              <a:off x="3688560" y="2862000"/>
              <a:ext cx="661320" cy="1410480"/>
            </a:xfrm>
            <a:prstGeom prst="bentConnector4">
              <a:avLst>
                <a:gd name="adj1" fmla="val -34586"/>
                <a:gd name="adj2" fmla="val 57084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3429000" y="2666880"/>
              <a:ext cx="30492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274320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"/>
            <p:cNvCxnSpPr>
              <a:stCxn id="310" idx="3"/>
              <a:endCxn id="313" idx="4"/>
            </p:cNvCxnSpPr>
            <p:nvPr/>
          </p:nvCxnSpPr>
          <p:spPr>
            <a:xfrm flipV="1">
              <a:off x="4349880" y="2971440"/>
              <a:ext cx="1861200" cy="130104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416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e image sur le documen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« experimentation.doc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 tableau de 4 lignes et 3 colonnes sur le même docu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 tableau comme celui-ci dans le même doc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2200" y="4290840"/>
            <a:ext cx="88581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066840" cy="43052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838080" y="1981080"/>
            <a:ext cx="5257800" cy="2439360"/>
            <a:chOff x="838080" y="1981080"/>
            <a:chExt cx="5257800" cy="2439360"/>
          </a:xfrm>
        </p:grpSpPr>
        <p:sp>
          <p:nvSpPr>
            <p:cNvPr id="321" name=""/>
            <p:cNvSpPr/>
            <p:nvPr/>
          </p:nvSpPr>
          <p:spPr>
            <a:xfrm>
              <a:off x="4572000" y="1981080"/>
              <a:ext cx="1523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3960720"/>
              <a:ext cx="11638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n-tê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"/>
            <p:cNvCxnSpPr>
              <a:stCxn id="322" idx="0"/>
              <a:endCxn id="321" idx="2"/>
            </p:cNvCxnSpPr>
            <p:nvPr/>
          </p:nvCxnSpPr>
          <p:spPr>
            <a:xfrm flipH="1" flipV="1" rot="5400000">
              <a:off x="2100600" y="1491120"/>
              <a:ext cx="1791360" cy="315180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24" name=""/>
          <p:cNvGrpSpPr/>
          <p:nvPr/>
        </p:nvGrpSpPr>
        <p:grpSpPr>
          <a:xfrm>
            <a:off x="4038480" y="2970360"/>
            <a:ext cx="4174920" cy="3201840"/>
            <a:chOff x="4038480" y="2970360"/>
            <a:chExt cx="4174920" cy="3201840"/>
          </a:xfrm>
        </p:grpSpPr>
        <p:sp>
          <p:nvSpPr>
            <p:cNvPr id="325" name=""/>
            <p:cNvSpPr/>
            <p:nvPr/>
          </p:nvSpPr>
          <p:spPr>
            <a:xfrm>
              <a:off x="4038480" y="5791320"/>
              <a:ext cx="152424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24640" y="2970360"/>
              <a:ext cx="78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"/>
            <p:cNvCxnSpPr>
              <a:stCxn id="326" idx="1"/>
              <a:endCxn id="325" idx="6"/>
            </p:cNvCxnSpPr>
            <p:nvPr/>
          </p:nvCxnSpPr>
          <p:spPr>
            <a:xfrm flipV="1" rot="10800000">
              <a:off x="5562000" y="3204000"/>
              <a:ext cx="1889640" cy="2777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29" name="" descr="Afficher et modifier les en-têtes et pieds de pages"/>
          <p:cNvPicPr/>
          <p:nvPr/>
        </p:nvPicPr>
        <p:blipFill>
          <a:blip r:embed="rId1"/>
          <a:stretch/>
        </p:blipFill>
        <p:spPr>
          <a:xfrm>
            <a:off x="392040" y="2276640"/>
            <a:ext cx="1552680" cy="2695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21080" y="36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200400" y="2997360"/>
            <a:ext cx="5954760" cy="2893680"/>
            <a:chOff x="3200400" y="2997360"/>
            <a:chExt cx="5954760" cy="2893680"/>
          </a:xfrm>
        </p:grpSpPr>
        <p:pic>
          <p:nvPicPr>
            <p:cNvPr id="332" name="word_entete_icon_insereauto" descr=""/>
            <p:cNvPicPr/>
            <p:nvPr/>
          </p:nvPicPr>
          <p:blipFill>
            <a:blip r:embed="rId2"/>
            <a:stretch/>
          </p:blipFill>
          <p:spPr>
            <a:xfrm>
              <a:off x="3200400" y="2997360"/>
              <a:ext cx="1278000" cy="1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word_entete_icon_nropage" descr=""/>
            <p:cNvPicPr/>
            <p:nvPr/>
          </p:nvPicPr>
          <p:blipFill>
            <a:blip r:embed="rId3"/>
            <a:stretch/>
          </p:blipFill>
          <p:spPr>
            <a:xfrm>
              <a:off x="3271680" y="3357720"/>
              <a:ext cx="11448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word_entete_icon_nbpage" descr=""/>
            <p:cNvPicPr/>
            <p:nvPr/>
          </p:nvPicPr>
          <p:blipFill>
            <a:blip r:embed="rId4"/>
            <a:stretch/>
          </p:blipFill>
          <p:spPr>
            <a:xfrm>
              <a:off x="3270240" y="3871800"/>
              <a:ext cx="11736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word_entete_icon_numerotationpage" descr=""/>
            <p:cNvPicPr/>
            <p:nvPr/>
          </p:nvPicPr>
          <p:blipFill>
            <a:blip r:embed="rId5"/>
            <a:stretch/>
          </p:blipFill>
          <p:spPr>
            <a:xfrm>
              <a:off x="3270240" y="4303800"/>
              <a:ext cx="1494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word_entete_icon_date" descr=""/>
            <p:cNvPicPr/>
            <p:nvPr/>
          </p:nvPicPr>
          <p:blipFill>
            <a:blip r:embed="rId6"/>
            <a:stretch/>
          </p:blipFill>
          <p:spPr>
            <a:xfrm>
              <a:off x="3270240" y="4735440"/>
              <a:ext cx="1494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word_entete_icon_heure" descr=""/>
            <p:cNvPicPr/>
            <p:nvPr/>
          </p:nvPicPr>
          <p:blipFill>
            <a:blip r:embed="rId7"/>
            <a:stretch/>
          </p:blipFill>
          <p:spPr>
            <a:xfrm>
              <a:off x="3271680" y="5157720"/>
              <a:ext cx="1382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word_entete_icon_miseenpage" descr=""/>
            <p:cNvPicPr/>
            <p:nvPr/>
          </p:nvPicPr>
          <p:blipFill>
            <a:blip r:embed="rId8"/>
            <a:stretch/>
          </p:blipFill>
          <p:spPr>
            <a:xfrm>
              <a:off x="3271680" y="5589720"/>
              <a:ext cx="13824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word_entete_icon_affiche_masque_texte" descr=""/>
            <p:cNvPicPr/>
            <p:nvPr/>
          </p:nvPicPr>
          <p:blipFill>
            <a:blip r:embed="rId9"/>
            <a:stretch/>
          </p:blipFill>
          <p:spPr>
            <a:xfrm>
              <a:off x="6008760" y="3357720"/>
              <a:ext cx="1062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word_entete_icon_identique_precedent" descr=""/>
            <p:cNvPicPr/>
            <p:nvPr/>
          </p:nvPicPr>
          <p:blipFill>
            <a:blip r:embed="rId10"/>
            <a:stretch/>
          </p:blipFill>
          <p:spPr>
            <a:xfrm>
              <a:off x="6008760" y="3860640"/>
              <a:ext cx="1490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word_entete_icon_bascule_entete" descr=""/>
            <p:cNvPicPr/>
            <p:nvPr/>
          </p:nvPicPr>
          <p:blipFill>
            <a:blip r:embed="rId11"/>
            <a:stretch/>
          </p:blipFill>
          <p:spPr>
            <a:xfrm>
              <a:off x="6008760" y="4365720"/>
              <a:ext cx="1378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word_entete_icon_entetesuiv_prec" descr=""/>
            <p:cNvPicPr/>
            <p:nvPr/>
          </p:nvPicPr>
          <p:blipFill>
            <a:blip r:embed="rId12"/>
            <a:stretch/>
          </p:blipFill>
          <p:spPr>
            <a:xfrm>
              <a:off x="5864400" y="5229360"/>
              <a:ext cx="371160" cy="1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83160" y="3232080"/>
              <a:ext cx="19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un numéro de la page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03680" y="3789360"/>
              <a:ext cx="19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Nombre de page total sans mise en for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8480" y="4600440"/>
              <a:ext cx="154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une dat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0440" y="501336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l’heur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7400" y="3284640"/>
              <a:ext cx="24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Afficher ou masquer le tex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88840" y="429264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Basculer entre le pied 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l'entête de pag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7400" y="3500280"/>
              <a:ext cx="277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Afficher ou masquer le texte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dans le cas  d’un saut de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57960" y="5157720"/>
              <a:ext cx="250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Basculer entre le pied 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l'entête de page, dans le c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d’un saut de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00440" y="5516640"/>
              <a:ext cx="138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Mettre en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903320" y="1981080"/>
            <a:ext cx="6220080" cy="2095200"/>
            <a:chOff x="1903320" y="1981080"/>
            <a:chExt cx="6220080" cy="2095200"/>
          </a:xfrm>
        </p:grpSpPr>
        <p:grpSp>
          <p:nvGrpSpPr>
            <p:cNvPr id="353" name=""/>
            <p:cNvGrpSpPr/>
            <p:nvPr/>
          </p:nvGrpSpPr>
          <p:grpSpPr>
            <a:xfrm>
              <a:off x="1903320" y="2362320"/>
              <a:ext cx="6220080" cy="1713960"/>
              <a:chOff x="1903320" y="2362320"/>
              <a:chExt cx="6220080" cy="17139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0400" y="2362320"/>
                <a:ext cx="49230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flipV="1">
                <a:off x="1903320" y="2491920"/>
                <a:ext cx="1368360" cy="158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5952240" y="1981080"/>
              <a:ext cx="19576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rre d’out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77120" cy="4367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28800" y="3429000"/>
            <a:ext cx="289548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00" y="6095880"/>
            <a:ext cx="33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chier/Mise en p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te de bas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éféren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de bas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95640" y="1700280"/>
            <a:ext cx="482436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029120" y="5257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84720" y="2060640"/>
            <a:ext cx="28728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4000" y="3232080"/>
            <a:ext cx="35272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uméros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914560" cy="2885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9040" y="1413000"/>
            <a:ext cx="37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méros d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067280" y="3789360"/>
            <a:ext cx="473400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2" name=""/>
          <p:cNvCxnSpPr>
            <a:endCxn id="371" idx="0"/>
          </p:cNvCxnSpPr>
          <p:nvPr/>
        </p:nvCxnSpPr>
        <p:spPr>
          <a:xfrm>
            <a:off x="3634920" y="2707920"/>
            <a:ext cx="2799720" cy="108180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l’en-tête  « Fichier d’expérimentation » sur le document « experimentation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une note en bas de pages sur le même fich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les numéros de pages sur le même document (en bas au centre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s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ation du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nalisation de chaque sess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-tête et pied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on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dure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2068560"/>
          <a:ext cx="7576920" cy="30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8560"/>
                    <a:ext cx="757692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33640" cy="3301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149640" cy="33271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454280" y="1700280"/>
            <a:ext cx="22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a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020000" y="414972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348000" y="2276280"/>
            <a:ext cx="115272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lonn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951520" cy="4701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339240" y="1700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l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aliser un document où les pages paires ont les numéros de pages en haut à gauche, et les pages impaires, en haut à dro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aliser un document identique au suiv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258920" y="71280"/>
            <a:ext cx="6261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style s'applique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paragraph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ou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caractè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l correspond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ensemble d'attribut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mémorisés sous un no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quer un style à un paragraphe/caractère revient à lui affecter l'ensemble des attributs mémorisé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utilisateur peut créer un nouveau style ou modifier un style exista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prédéfini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existe un certain nombre de styles prédéfinis, notamment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s-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2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ps de text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: avant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ement de plusieurs attribu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e plus cl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on de « sens » derrière le « style 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un sty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r toutes les occurrences ayant ce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es styles sont respectés pour les titres, la table des matières est auto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m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style est identifié par un n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97160" y="2492280"/>
            <a:ext cx="6019920" cy="33228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1008720" y="3976560"/>
            <a:ext cx="3347280" cy="1677240"/>
            <a:chOff x="1008720" y="3976560"/>
            <a:chExt cx="3347280" cy="1677240"/>
          </a:xfrm>
        </p:grpSpPr>
        <p:sp>
          <p:nvSpPr>
            <p:cNvPr id="399" name=""/>
            <p:cNvSpPr/>
            <p:nvPr/>
          </p:nvSpPr>
          <p:spPr>
            <a:xfrm>
              <a:off x="3365640" y="3976560"/>
              <a:ext cx="9903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08720" y="5194080"/>
              <a:ext cx="1959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om d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400" idx="0"/>
              <a:endCxn id="399" idx="2"/>
            </p:cNvCxnSpPr>
            <p:nvPr/>
          </p:nvCxnSpPr>
          <p:spPr>
            <a:xfrm flipH="1" flipV="1" rot="5400000">
              <a:off x="2162520" y="3992760"/>
              <a:ext cx="1029600" cy="1377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rma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438280" y="1911240"/>
            <a:ext cx="5715000" cy="481644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560160" y="4425840"/>
            <a:ext cx="7440840" cy="2113200"/>
            <a:chOff x="560160" y="4425840"/>
            <a:chExt cx="7440840" cy="2113200"/>
          </a:xfrm>
        </p:grpSpPr>
        <p:sp>
          <p:nvSpPr>
            <p:cNvPr id="405" name=""/>
            <p:cNvSpPr/>
            <p:nvPr/>
          </p:nvSpPr>
          <p:spPr>
            <a:xfrm>
              <a:off x="4572000" y="4425840"/>
              <a:ext cx="3429000" cy="1219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160" y="5713560"/>
              <a:ext cx="18738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s d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tyle Nor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"/>
            <p:cNvCxnSpPr>
              <a:stCxn id="406" idx="0"/>
              <a:endCxn id="405" idx="2"/>
            </p:cNvCxnSpPr>
            <p:nvPr/>
          </p:nvCxnSpPr>
          <p:spPr>
            <a:xfrm flipH="1" flipV="1" rot="5400000">
              <a:off x="2694600" y="3837240"/>
              <a:ext cx="680040" cy="30758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ppliquer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086600" cy="4064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410" name=""/>
          <p:cNvGrpSpPr/>
          <p:nvPr/>
        </p:nvGrpSpPr>
        <p:grpSpPr>
          <a:xfrm>
            <a:off x="4038480" y="3122640"/>
            <a:ext cx="5050800" cy="1830240"/>
            <a:chOff x="4038480" y="3122640"/>
            <a:chExt cx="5050800" cy="1830240"/>
          </a:xfrm>
        </p:grpSpPr>
        <p:sp>
          <p:nvSpPr>
            <p:cNvPr id="411" name=""/>
            <p:cNvSpPr/>
            <p:nvPr/>
          </p:nvSpPr>
          <p:spPr>
            <a:xfrm>
              <a:off x="4038480" y="4495680"/>
              <a:ext cx="39960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18440" y="3122640"/>
              <a:ext cx="26708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Se positionn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r un paragrap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3" name=""/>
            <p:cNvCxnSpPr>
              <a:stCxn id="412" idx="1"/>
              <a:endCxn id="411" idx="0"/>
            </p:cNvCxnSpPr>
            <p:nvPr/>
          </p:nvCxnSpPr>
          <p:spPr>
            <a:xfrm flipV="1" rot="10800000">
              <a:off x="6036480" y="3539880"/>
              <a:ext cx="529200" cy="956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14" name=""/>
          <p:cNvGrpSpPr/>
          <p:nvPr/>
        </p:nvGrpSpPr>
        <p:grpSpPr>
          <a:xfrm>
            <a:off x="128520" y="3122640"/>
            <a:ext cx="3834000" cy="2744640"/>
            <a:chOff x="128520" y="3122640"/>
            <a:chExt cx="3834000" cy="2744640"/>
          </a:xfrm>
        </p:grpSpPr>
        <p:sp>
          <p:nvSpPr>
            <p:cNvPr id="415" name=""/>
            <p:cNvSpPr/>
            <p:nvPr/>
          </p:nvSpPr>
          <p:spPr>
            <a:xfrm>
              <a:off x="1371600" y="5257800"/>
              <a:ext cx="25909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5320" y="3122640"/>
              <a:ext cx="2331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Sélection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e style choi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"/>
            <p:cNvCxnSpPr>
              <a:stCxn id="416" idx="1"/>
              <a:endCxn id="415" idx="2"/>
            </p:cNvCxnSpPr>
            <p:nvPr/>
          </p:nvCxnSpPr>
          <p:spPr>
            <a:xfrm flipH="1" flipV="1" rot="10800000">
              <a:off x="356760" y="3540240"/>
              <a:ext cx="1015200" cy="2022840"/>
            </a:xfrm>
            <a:prstGeom prst="bentConnector3">
              <a:avLst>
                <a:gd name="adj1" fmla="val -2252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attributs déterminent la mise en forme des constitu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ains attributs sont prédéfinis (affectés par défaut), mais ils sont toujours modif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cation d’un attribut : sélectionner la zone de texte et utiliser les menus appropri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348160" cy="4795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  (ou modifier)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7400" y="2286000"/>
            <a:ext cx="3275640" cy="2820240"/>
            <a:chOff x="77400" y="2286000"/>
            <a:chExt cx="3275640" cy="2820240"/>
          </a:xfrm>
        </p:grpSpPr>
        <p:sp>
          <p:nvSpPr>
            <p:cNvPr id="421" name=""/>
            <p:cNvSpPr/>
            <p:nvPr/>
          </p:nvSpPr>
          <p:spPr>
            <a:xfrm>
              <a:off x="77400" y="4646520"/>
              <a:ext cx="2418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Nom du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9680" y="2286000"/>
              <a:ext cx="914400" cy="533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" name=""/>
            <p:cNvCxnSpPr>
              <a:stCxn id="421" idx="3"/>
              <a:endCxn id="422" idx="6"/>
            </p:cNvCxnSpPr>
            <p:nvPr/>
          </p:nvCxnSpPr>
          <p:spPr>
            <a:xfrm flipV="1">
              <a:off x="2419200" y="2552040"/>
              <a:ext cx="705240" cy="2329560"/>
            </a:xfrm>
            <a:prstGeom prst="bentConnector3">
              <a:avLst>
                <a:gd name="adj1" fmla="val 13248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4" name=""/>
          <p:cNvGrpSpPr/>
          <p:nvPr/>
        </p:nvGrpSpPr>
        <p:grpSpPr>
          <a:xfrm>
            <a:off x="74520" y="1752480"/>
            <a:ext cx="3735000" cy="2576520"/>
            <a:chOff x="74520" y="1752480"/>
            <a:chExt cx="3735000" cy="2576520"/>
          </a:xfrm>
        </p:grpSpPr>
        <p:sp>
          <p:nvSpPr>
            <p:cNvPr id="425" name=""/>
            <p:cNvSpPr/>
            <p:nvPr/>
          </p:nvSpPr>
          <p:spPr>
            <a:xfrm>
              <a:off x="1904760" y="1752480"/>
              <a:ext cx="190476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6" name=""/>
            <p:cNvCxnSpPr>
              <a:stCxn id="427" idx="0"/>
              <a:endCxn id="425" idx="2"/>
            </p:cNvCxnSpPr>
            <p:nvPr/>
          </p:nvCxnSpPr>
          <p:spPr>
            <a:xfrm flipH="1" flipV="1" rot="5400000">
              <a:off x="955800" y="2556360"/>
              <a:ext cx="1562760" cy="335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27" name=""/>
            <p:cNvSpPr/>
            <p:nvPr/>
          </p:nvSpPr>
          <p:spPr>
            <a:xfrm>
              <a:off x="74520" y="3503520"/>
              <a:ext cx="29908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 Format/Style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difier ou Nouv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362320" y="3048120"/>
            <a:ext cx="3865320" cy="1753560"/>
            <a:chOff x="2362320" y="3048120"/>
            <a:chExt cx="3865320" cy="1753560"/>
          </a:xfrm>
        </p:grpSpPr>
        <p:sp>
          <p:nvSpPr>
            <p:cNvPr id="429" name=""/>
            <p:cNvSpPr/>
            <p:nvPr/>
          </p:nvSpPr>
          <p:spPr>
            <a:xfrm>
              <a:off x="2362320" y="3048120"/>
              <a:ext cx="144756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720" y="4341960"/>
              <a:ext cx="1789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3) Héri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>
              <a:stCxn id="430" idx="0"/>
              <a:endCxn id="429" idx="4"/>
            </p:cNvCxnSpPr>
            <p:nvPr/>
          </p:nvCxnSpPr>
          <p:spPr>
            <a:xfrm flipV="1" rot="16200000">
              <a:off x="3713040" y="2724480"/>
              <a:ext cx="991440" cy="2246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32" name=""/>
          <p:cNvGrpSpPr/>
          <p:nvPr/>
        </p:nvGrpSpPr>
        <p:grpSpPr>
          <a:xfrm>
            <a:off x="5029200" y="3048120"/>
            <a:ext cx="3933000" cy="1143720"/>
            <a:chOff x="5029200" y="3048120"/>
            <a:chExt cx="3933000" cy="1143720"/>
          </a:xfrm>
        </p:grpSpPr>
        <p:sp>
          <p:nvSpPr>
            <p:cNvPr id="433" name=""/>
            <p:cNvSpPr/>
            <p:nvPr/>
          </p:nvSpPr>
          <p:spPr>
            <a:xfrm>
              <a:off x="5029200" y="30481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58320" y="3732120"/>
              <a:ext cx="2603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4) Enchaî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"/>
            <p:cNvCxnSpPr>
              <a:stCxn id="434" idx="1"/>
              <a:endCxn id="433" idx="6"/>
            </p:cNvCxnSpPr>
            <p:nvPr/>
          </p:nvCxnSpPr>
          <p:spPr>
            <a:xfrm rot="10800000">
              <a:off x="6095160" y="3237840"/>
              <a:ext cx="381600" cy="729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36" name=""/>
          <p:cNvGrpSpPr/>
          <p:nvPr/>
        </p:nvGrpSpPr>
        <p:grpSpPr>
          <a:xfrm>
            <a:off x="4495680" y="4875120"/>
            <a:ext cx="4221360" cy="1677960"/>
            <a:chOff x="4495680" y="4875120"/>
            <a:chExt cx="4221360" cy="1677960"/>
          </a:xfrm>
        </p:grpSpPr>
        <p:sp>
          <p:nvSpPr>
            <p:cNvPr id="437" name=""/>
            <p:cNvSpPr/>
            <p:nvPr/>
          </p:nvSpPr>
          <p:spPr>
            <a:xfrm>
              <a:off x="4495680" y="6172200"/>
              <a:ext cx="14479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53000" y="4875120"/>
              <a:ext cx="22640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5)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s attrib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9" name=""/>
            <p:cNvCxnSpPr>
              <a:stCxn id="438" idx="2"/>
              <a:endCxn id="437" idx="0"/>
            </p:cNvCxnSpPr>
            <p:nvPr/>
          </p:nvCxnSpPr>
          <p:spPr>
            <a:xfrm rot="5400000">
              <a:off x="6169680" y="4757760"/>
              <a:ext cx="464400" cy="2365920"/>
            </a:xfrm>
            <a:prstGeom prst="bentConnector3">
              <a:avLst>
                <a:gd name="adj1" fmla="val 4996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ble des mati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5792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044800" y="1389240"/>
            <a:ext cx="4759200" cy="51354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sertion table des matièr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ersonnalisa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851280" y="1325520"/>
            <a:ext cx="5097600" cy="3087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86200" y="32767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37339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114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3068640"/>
            <a:ext cx="35290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fi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 d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 numér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gner à droite les numéros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en entre les titres et les n°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format de la 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nombre de hiérachie des titres 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étail sur les styles de titre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56" idx="0"/>
            <a:endCxn id="449" idx="1"/>
          </p:cNvCxnSpPr>
          <p:nvPr/>
        </p:nvCxnSpPr>
        <p:spPr>
          <a:xfrm flipH="1" flipV="1" rot="5400000">
            <a:off x="2798640" y="2015640"/>
            <a:ext cx="199080" cy="1907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ise à jour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760320" y="4340160"/>
            <a:ext cx="39560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contextuel T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214960" y="2205000"/>
            <a:ext cx="3460680" cy="3409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791320" y="3429000"/>
            <a:ext cx="38088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</p:cNvCxnSpPr>
          <p:nvPr/>
        </p:nvCxnSpPr>
        <p:spPr>
          <a:xfrm flipH="1" flipV="1" rot="5400000">
            <a:off x="3523680" y="2787120"/>
            <a:ext cx="767520" cy="233892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ppliquer les styles « titre », « titre 1 », etc. au docu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 introduction.doc 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une table de matière sur le même de docum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réer un nouveau style de paragraphe comme le suivant (justifié, fond gris) dans le document « introduction.doc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liquer ce style sur le premier paragraphe après chaque tit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00000" y="4025880"/>
            <a:ext cx="7561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nde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11192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0" name=""/>
          <p:cNvSpPr/>
          <p:nvPr/>
        </p:nvSpPr>
        <p:spPr>
          <a:xfrm>
            <a:off x="304920" y="4800600"/>
            <a:ext cx="5403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index 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 inventaire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mots importants d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Arial"/>
              </a:rPr>
              <a:t>avec indication des numéros 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880" y="2514600"/>
            <a:ext cx="5403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2 opér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(1) Marquage d'une entrée,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(2) Création/insertion d'un ind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ndex : marqu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3276720"/>
            <a:ext cx="5783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Inser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les et ind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209680"/>
            <a:ext cx="480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Sélectionner le mot à ind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480060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886280" cy="364788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380880" y="4648320"/>
            <a:ext cx="5715360" cy="459720"/>
            <a:chOff x="380880" y="4648320"/>
            <a:chExt cx="5715360" cy="459720"/>
          </a:xfrm>
        </p:grpSpPr>
        <p:sp>
          <p:nvSpPr>
            <p:cNvPr id="478" name=""/>
            <p:cNvSpPr/>
            <p:nvPr/>
          </p:nvSpPr>
          <p:spPr>
            <a:xfrm>
              <a:off x="380880" y="4648320"/>
              <a:ext cx="4800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) Marquer entré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9" name=""/>
            <p:cNvCxnSpPr>
              <a:stCxn id="478" idx="3"/>
              <a:endCxn id="475" idx="2"/>
            </p:cNvCxnSpPr>
            <p:nvPr/>
          </p:nvCxnSpPr>
          <p:spPr>
            <a:xfrm>
              <a:off x="5181480" y="4881600"/>
              <a:ext cx="915120" cy="14832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ndex : marqu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349880" y="1773360"/>
            <a:ext cx="40384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1332000" y="4724280"/>
            <a:ext cx="3657600" cy="647640"/>
            <a:chOff x="1332000" y="4724280"/>
            <a:chExt cx="3657600" cy="647640"/>
          </a:xfrm>
        </p:grpSpPr>
        <p:sp>
          <p:nvSpPr>
            <p:cNvPr id="483" name=""/>
            <p:cNvSpPr/>
            <p:nvPr/>
          </p:nvSpPr>
          <p:spPr>
            <a:xfrm>
              <a:off x="1332000" y="4724280"/>
              <a:ext cx="2361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4) Marqu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3" idx="3"/>
              <a:endCxn id="485" idx="2"/>
            </p:cNvCxnSpPr>
            <p:nvPr/>
          </p:nvCxnSpPr>
          <p:spPr>
            <a:xfrm>
              <a:off x="3693600" y="4957200"/>
              <a:ext cx="1296360" cy="415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5" name=""/>
          <p:cNvSpPr/>
          <p:nvPr/>
        </p:nvSpPr>
        <p:spPr>
          <a:xfrm>
            <a:off x="3962520" y="5867280"/>
            <a:ext cx="6094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caract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4038480" cy="39513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184400" y="2954160"/>
            <a:ext cx="2666880" cy="762120"/>
            <a:chOff x="1184400" y="2954160"/>
            <a:chExt cx="2666880" cy="762120"/>
          </a:xfrm>
        </p:grpSpPr>
        <p:sp>
          <p:nvSpPr>
            <p:cNvPr id="157" name=""/>
            <p:cNvSpPr/>
            <p:nvPr/>
          </p:nvSpPr>
          <p:spPr>
            <a:xfrm>
              <a:off x="1184400" y="295416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imes New Roman"/>
                </a:rPr>
                <a:t>Po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84600" y="3182760"/>
              <a:ext cx="106668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8360" y="3789000"/>
            <a:ext cx="3124080" cy="990720"/>
            <a:chOff x="468360" y="3789000"/>
            <a:chExt cx="3124080" cy="990720"/>
          </a:xfrm>
        </p:grpSpPr>
        <p:sp>
          <p:nvSpPr>
            <p:cNvPr id="160" name=""/>
            <p:cNvSpPr/>
            <p:nvPr/>
          </p:nvSpPr>
          <p:spPr>
            <a:xfrm>
              <a:off x="468360" y="4322520"/>
              <a:ext cx="236232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Autres attrib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0680" y="3789000"/>
              <a:ext cx="76176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705720" y="3716280"/>
            <a:ext cx="2438280" cy="533160"/>
            <a:chOff x="6705720" y="3716280"/>
            <a:chExt cx="2438280" cy="533160"/>
          </a:xfrm>
        </p:grpSpPr>
        <p:sp>
          <p:nvSpPr>
            <p:cNvPr id="163" name=""/>
            <p:cNvSpPr/>
            <p:nvPr/>
          </p:nvSpPr>
          <p:spPr>
            <a:xfrm>
              <a:off x="7543800" y="379224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Tail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705720" y="3716280"/>
              <a:ext cx="83808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32000" y="1413000"/>
            <a:ext cx="3352680" cy="1143000"/>
            <a:chOff x="3132000" y="1413000"/>
            <a:chExt cx="3352680" cy="1143000"/>
          </a:xfrm>
        </p:grpSpPr>
        <p:sp>
          <p:nvSpPr>
            <p:cNvPr id="166" name=""/>
            <p:cNvSpPr/>
            <p:nvPr/>
          </p:nvSpPr>
          <p:spPr>
            <a:xfrm>
              <a:off x="4884480" y="141300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32000" y="1793880"/>
              <a:ext cx="17524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651640" y="1844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659640" y="3357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040" y="162864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ndex : création/inser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924360" y="1905120"/>
            <a:ext cx="4886280" cy="3647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1268280"/>
            <a:ext cx="5635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ser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les et ind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7200" y="5024520"/>
            <a:ext cx="7467480" cy="538200"/>
            <a:chOff x="457200" y="5024520"/>
            <a:chExt cx="7467480" cy="538200"/>
          </a:xfrm>
        </p:grpSpPr>
        <p:sp>
          <p:nvSpPr>
            <p:cNvPr id="490" name=""/>
            <p:cNvSpPr/>
            <p:nvPr/>
          </p:nvSpPr>
          <p:spPr>
            <a:xfrm>
              <a:off x="7162920" y="5105520"/>
              <a:ext cx="76176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" y="5024520"/>
              <a:ext cx="4800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) Création de la table d'ind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2" name=""/>
            <p:cNvCxnSpPr>
              <a:stCxn id="491" idx="3"/>
              <a:endCxn id="490" idx="2"/>
            </p:cNvCxnSpPr>
            <p:nvPr/>
          </p:nvCxnSpPr>
          <p:spPr>
            <a:xfrm>
              <a:off x="5257800" y="5257800"/>
              <a:ext cx="1905840" cy="76680"/>
            </a:xfrm>
            <a:prstGeom prst="bentConnector3">
              <a:avLst>
                <a:gd name="adj1" fmla="val 4999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caract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1557360"/>
            <a:ext cx="4624200" cy="452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2349360"/>
            <a:ext cx="182232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Esp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038480" cy="41464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684360" y="2382840"/>
            <a:ext cx="3030120" cy="685800"/>
            <a:chOff x="684360" y="2382840"/>
            <a:chExt cx="3030120" cy="685800"/>
          </a:xfrm>
        </p:grpSpPr>
        <p:sp>
          <p:nvSpPr>
            <p:cNvPr id="177" name=""/>
            <p:cNvSpPr/>
            <p:nvPr/>
          </p:nvSpPr>
          <p:spPr>
            <a:xfrm>
              <a:off x="684360" y="2382840"/>
              <a:ext cx="17676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Alig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1960" y="2763720"/>
              <a:ext cx="1262520" cy="30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39800" y="2125440"/>
            <a:ext cx="2895480" cy="1447920"/>
            <a:chOff x="739800" y="2125440"/>
            <a:chExt cx="2895480" cy="1447920"/>
          </a:xfrm>
        </p:grpSpPr>
        <p:sp>
          <p:nvSpPr>
            <p:cNvPr id="180" name=""/>
            <p:cNvSpPr/>
            <p:nvPr/>
          </p:nvSpPr>
          <p:spPr>
            <a:xfrm>
              <a:off x="739800" y="311616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Retra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340000" y="2125440"/>
              <a:ext cx="129528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680160" y="2898360"/>
            <a:ext cx="2932200" cy="1538640"/>
            <a:chOff x="6680160" y="2898360"/>
            <a:chExt cx="2932200" cy="1538640"/>
          </a:xfrm>
        </p:grpSpPr>
        <p:sp>
          <p:nvSpPr>
            <p:cNvPr id="183" name=""/>
            <p:cNvSpPr/>
            <p:nvPr/>
          </p:nvSpPr>
          <p:spPr>
            <a:xfrm>
              <a:off x="6680160" y="3979800"/>
              <a:ext cx="175248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Esp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388360" y="2898360"/>
              <a:ext cx="1224000" cy="10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68080" y="1274760"/>
            <a:ext cx="33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4038480" cy="4146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332000" y="2349000"/>
            <a:ext cx="3816000" cy="1105200"/>
            <a:chOff x="1332000" y="2349000"/>
            <a:chExt cx="3816000" cy="1105200"/>
          </a:xfrm>
        </p:grpSpPr>
        <p:sp>
          <p:nvSpPr>
            <p:cNvPr id="189" name=""/>
            <p:cNvSpPr/>
            <p:nvPr/>
          </p:nvSpPr>
          <p:spPr>
            <a:xfrm>
              <a:off x="1332000" y="2997000"/>
              <a:ext cx="210096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Enchaî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390480" y="2349000"/>
              <a:ext cx="1757520" cy="64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9:45:05Z</dcterms:created>
  <dc:creator>Manuele Kirsch Pinheiro</dc:creator>
  <dc:description/>
  <dc:language>en-US</dc:language>
  <cp:lastModifiedBy>angelo</cp:lastModifiedBy>
  <dcterms:modified xsi:type="dcterms:W3CDTF">2006-10-11T19:00:33Z</dcterms:modified>
  <cp:revision>16</cp:revision>
  <dc:subject/>
  <dc:title>Traitement de texte : Word</dc:title>
</cp:coreProperties>
</file>