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D7D-C8B9-4386-99CF-3ACB1026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52F-4E22-4186-B2A5-1A85DD3D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D9B-EC34-439D-AE11-B7CE98C7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6EE-747D-4263-861F-1E306E77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A7ED-536B-4C50-9C04-8136A33E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8663-EF97-4196-A12B-3851607C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EEEE-FB8A-4298-9A73-CD7CEAB4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40EB-0C86-4518-AA4F-330033E7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3C96-590D-4936-BCFD-3F61C5F8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85BB-B580-40BE-AEBC-61095029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DE56-79CC-4877-A961-45C4583C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FC5-A7B0-4159-9835-08E4D25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6E52-A543-42D3-8263-73ED2D04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8F1D-EC3D-4AAF-B3E8-17DFA9C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1BF7-84DE-48D7-AAE2-852A6FA7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F3D5-6873-4EB1-81A7-CB3833C6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7AD4-56AD-4080-9134-5DFC6B56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694-969E-4737-BC74-474CA6BF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790-61E1-4B47-93CA-D9140C35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230-7CE3-4C03-AF11-220BB498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EE6-436E-42C3-B2F2-501CE2C0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A33-C074-4986-B833-B8B5C8D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2ED-5954-43FC-AA97-705133C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1E1-4FA8-4957-B320-3D09826C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1544-7B01-466E-9433-F3B8BD4735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B02B-CAB9-4EFA-87EE-40E8A4EE84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Informatique Générale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ML-A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 KIRSCH PINH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pplic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s programmes qui utilisent le système d’exploitation et fournissent un service à l’utilisate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ord, Excel, PowerPoint, Internet Explorer, Firefox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ccessibles à travers le menu démarrer (et/ou les raccourc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plore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explorateur présente en cascade les conteneurs et les conten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xplorer le poste de travai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placer des obj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pliquer des obj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nommer des obj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rimer des obj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plore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ible dans le men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marr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gramm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ccess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23920" y="907920"/>
            <a:ext cx="7048440" cy="5288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97760" y="-20289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194160" y="-157176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75240" y="260280"/>
            <a:ext cx="4715640" cy="1656000"/>
            <a:chOff x="975240" y="260280"/>
            <a:chExt cx="4715640" cy="1656000"/>
          </a:xfrm>
        </p:grpSpPr>
        <p:sp>
          <p:nvSpPr>
            <p:cNvPr id="246" name=""/>
            <p:cNvSpPr/>
            <p:nvPr/>
          </p:nvSpPr>
          <p:spPr>
            <a:xfrm>
              <a:off x="975240" y="26028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épertoi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35280" y="836640"/>
              <a:ext cx="0" cy="107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9600" y="26028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e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19640" y="836640"/>
              <a:ext cx="0" cy="107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908000" y="4076640"/>
            <a:ext cx="1584360" cy="865080"/>
            <a:chOff x="1908000" y="4076640"/>
            <a:chExt cx="1584360" cy="865080"/>
          </a:xfrm>
        </p:grpSpPr>
        <p:sp>
          <p:nvSpPr>
            <p:cNvPr id="251" name=""/>
            <p:cNvSpPr/>
            <p:nvPr/>
          </p:nvSpPr>
          <p:spPr>
            <a:xfrm>
              <a:off x="1908000" y="4437000"/>
              <a:ext cx="503280" cy="5047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484360" y="4076640"/>
              <a:ext cx="100800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enu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ute application contient des menus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menus permettent la réalisation des 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916280" y="844560"/>
            <a:ext cx="7048440" cy="5392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63640" y="981000"/>
            <a:ext cx="2808360" cy="505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90792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7" idx="3"/>
            <a:endCxn id="256" idx="2"/>
          </p:cNvCxnSpPr>
          <p:nvPr/>
        </p:nvCxnSpPr>
        <p:spPr>
          <a:xfrm>
            <a:off x="1405080" y="1106640"/>
            <a:ext cx="334080" cy="12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1692360" y="1700280"/>
            <a:ext cx="215640" cy="42498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3500280"/>
            <a:ext cx="12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Zon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530064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rre d’é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5734080"/>
            <a:ext cx="50328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enu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ques menus importants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chier : ouvrir, fermer, sortir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dition : copier, coller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fichage : options d’affich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537080" cy="4476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547640" y="417600"/>
            <a:ext cx="60469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ouver l’application « calculatrice ». Que contient son menu « édition » ? Et son menu « affichage »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e fois qu’on a choisi l’option «scientifique» dans le menu «affichage», que se passe-t-il avec ce menu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éer un raccourci dans le bureau vers l’application « calculatrice 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fichie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uite d'informations binaires stockées sur une mémoire de masse (disque dur, clé USB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xte, image, son, program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typ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est donné par l'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extens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du fichier (ex: rapport.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doc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cônes indicatif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788000" y="4149720"/>
            <a:ext cx="411624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répertoi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t informatique contenant des fichiers ou des réperto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225960" cy="5334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2286000" cy="1447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364000" y="4437000"/>
            <a:ext cx="3384720" cy="433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58760" y="515772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éseau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>
            <a:stCxn id="277" idx="0"/>
            <a:endCxn id="276" idx="2"/>
          </p:cNvCxnSpPr>
          <p:nvPr/>
        </p:nvCxnSpPr>
        <p:spPr>
          <a:xfrm flipV="1">
            <a:off x="4516200" y="4654080"/>
            <a:ext cx="82764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5219640" y="1916280"/>
            <a:ext cx="360360" cy="252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86800" y="29973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é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1341360"/>
            <a:ext cx="216000" cy="71928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33160" y="14842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é US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4448160"/>
            <a:ext cx="8713800" cy="852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4348080" cy="1563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219640" y="2708280"/>
            <a:ext cx="72072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60040" y="191628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ésence d’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ositif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7680" y="3429000"/>
            <a:ext cx="21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éconnexion d’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ositif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7" idx="3"/>
            <a:endCxn id="286" idx="1"/>
          </p:cNvCxnSpPr>
          <p:nvPr/>
        </p:nvCxnSpPr>
        <p:spPr>
          <a:xfrm>
            <a:off x="3502080" y="2236680"/>
            <a:ext cx="1823040" cy="580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1763640" y="4076640"/>
            <a:ext cx="5047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ystème d’exploit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ndow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82789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trouver, dans l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menu démarr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l’application « 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bloc note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».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ré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un document avec cette appli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Enregistr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le document sur votre h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ment avez-vous fait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e nom avez-vous donné à votre fichier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vec l’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explor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créer sur votre home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dossi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« 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Informatique-TP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placer le fichier que vous avez créé vers ce dossi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ment avez-vous fait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ats des docume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 existe différent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format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e 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’extension et les icônes les distingue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format est lié au contenu du fich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ature de l’information (image, son, tex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dage du document (mp3, wav, jpg, bmp, doc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979640" y="4292640"/>
          <a:ext cx="9144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292640"/>
                    <a:ext cx="9144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427800" y="4221000"/>
          <a:ext cx="95256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7800" y="4221000"/>
                    <a:ext cx="9525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826920" y="4375080"/>
          <a:ext cx="947880" cy="9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375080"/>
                    <a:ext cx="9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960480" y="527688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77480" y="5276880"/>
            <a:ext cx="203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déter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5640" y="5300640"/>
            <a:ext cx="8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66560" y="534816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4218120" y="4365720"/>
            <a:ext cx="723600" cy="861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138200" y="5229360"/>
            <a:ext cx="102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7524720" y="4292640"/>
            <a:ext cx="868320" cy="934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5411880" y="4365720"/>
            <a:ext cx="815760" cy="863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0"/>
          <a:stretch/>
        </p:blipFill>
        <p:spPr>
          <a:xfrm>
            <a:off x="2916360" y="4481640"/>
            <a:ext cx="722160" cy="81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422680" y="5300640"/>
            <a:ext cx="8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at et applic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associe une application à un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’autres applications peuvent aussi ouvrir un docum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110360" y="4292640"/>
          <a:ext cx="95256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0360" y="4292640"/>
                    <a:ext cx="9525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019160" y="4378320"/>
          <a:ext cx="117648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9160" y="4378320"/>
                    <a:ext cx="11764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424240" y="4883040"/>
            <a:ext cx="4343400" cy="0"/>
          </a:xfrm>
          <a:prstGeom prst="line">
            <a:avLst/>
          </a:prstGeom>
          <a:ln w="25560">
            <a:solidFill>
              <a:srgbClr val="00b2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2520" y="5340240"/>
            <a:ext cx="167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44320" y="5264280"/>
            <a:ext cx="157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29520" y="4357800"/>
            <a:ext cx="1876680" cy="118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Création</a:t>
            </a:r>
            <a:br>
              <a:rPr sz="2400"/>
            </a:b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Modification</a:t>
            </a:r>
            <a:br>
              <a:rPr sz="2400"/>
            </a:b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Consul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anger ses fichie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tiliser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ssi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our regrouper les fichiers par thè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tiliser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 évoquent le cont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uvegarde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tionalisation de l’espace : raccourc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Identifiant d’un fichier</a:t>
            </a:r>
            <a:br>
              <a:rPr sz="3600"/>
            </a:b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 (chemin ou path)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 fichier est identifié par un nom (chaîne de caractères) distincti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menclature textuell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C:\WINNT\Temp\readme.t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Identifiant d’un fichier</a:t>
            </a:r>
            <a:br>
              <a:rPr sz="3600"/>
            </a:b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(chemin ou path)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1368360" y="2060640"/>
            <a:ext cx="4550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47680" y="2060640"/>
            <a:ext cx="293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54680" y="4390920"/>
            <a:ext cx="10324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IN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34920" y="2060640"/>
            <a:ext cx="9946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26760" y="2060640"/>
            <a:ext cx="1758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adm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0" y="2060640"/>
            <a:ext cx="293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29320" y="2060640"/>
            <a:ext cx="293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73080" y="2593800"/>
          <a:ext cx="1230480" cy="12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2593800"/>
                    <a:ext cx="123048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268360" y="3355920"/>
          <a:ext cx="10782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355920"/>
                    <a:ext cx="1078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639960" y="4041720"/>
          <a:ext cx="1078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9960" y="4041720"/>
                    <a:ext cx="1078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5316480" y="4727520"/>
            <a:ext cx="914400" cy="800280"/>
          </a:xfrm>
          <a:prstGeom prst="rect">
            <a:avLst/>
          </a:prstGeom>
          <a:ln w="0">
            <a:noFill/>
          </a:ln>
        </p:spPr>
      </p:pic>
      <p:cxnSp>
        <p:nvCxnSpPr>
          <p:cNvPr id="340" name=""/>
          <p:cNvCxnSpPr/>
          <p:nvPr/>
        </p:nvCxnSpPr>
        <p:spPr>
          <a:xfrm>
            <a:off x="2203560" y="3198960"/>
            <a:ext cx="605520" cy="15768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1" name=""/>
          <p:cNvCxnSpPr/>
          <p:nvPr/>
        </p:nvCxnSpPr>
        <p:spPr>
          <a:xfrm>
            <a:off x="3346200" y="3850920"/>
            <a:ext cx="834120" cy="19116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endCxn id="339" idx="0"/>
          </p:cNvCxnSpPr>
          <p:nvPr/>
        </p:nvCxnSpPr>
        <p:spPr>
          <a:xfrm>
            <a:off x="4718160" y="4536720"/>
            <a:ext cx="1056240" cy="19116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2556720" y="2060640"/>
            <a:ext cx="1200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76040" y="4956120"/>
            <a:ext cx="860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200"/>
                </a:solidFill>
                <a:latin typeface="Tahoma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42680" y="5462640"/>
            <a:ext cx="149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200"/>
                </a:solidFill>
                <a:latin typeface="Tahoma"/>
              </a:rPr>
              <a:t>readm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21600" y="2136600"/>
            <a:ext cx="457200" cy="304920"/>
          </a:xfrm>
          <a:prstGeom prst="rect">
            <a:avLst/>
          </a:prstGeom>
          <a:noFill/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450200" y="2441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713640" y="31273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extensions courant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mp, gif, jpeg, jpg, pcx, png: im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c: documents Wo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pt: présentations PowerPo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xt: tex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vi, mpeg, mpg, wmv: vid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ar, zip: archives compressé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p3, wav, wma: aud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xls: feuilles Exc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htm, html: pages 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orsque le nombre des fichiers devient trop élevé, il nous faut un utilitaire pour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retrouver un documen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l existe plusieurs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critère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recherche qui peuvent se combin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Nom, date, type (format), taill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Joker » :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etup.*, *.t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 par nom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15000" cy="2465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53320" y="5013360"/>
            <a:ext cx="4208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Tahoma"/>
              </a:rPr>
              <a:t>Nom du fichier à reche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Tahoma"/>
              </a:rPr>
              <a:t>setup.log, setup.*, *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32360" y="5029200"/>
            <a:ext cx="378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Résultats de la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"/>
          <p:cNvCxnSpPr>
            <a:stCxn id="355" idx="0"/>
          </p:cNvCxnSpPr>
          <p:nvPr/>
        </p:nvCxnSpPr>
        <p:spPr>
          <a:xfrm flipH="1" flipV="1" rot="5400000">
            <a:off x="2517480" y="4542840"/>
            <a:ext cx="610200" cy="33084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6" idx="0"/>
          </p:cNvCxnSpPr>
          <p:nvPr/>
        </p:nvCxnSpPr>
        <p:spPr>
          <a:xfrm flipV="1" rot="16200000">
            <a:off x="6077880" y="4284000"/>
            <a:ext cx="991440" cy="499320"/>
          </a:xfrm>
          <a:prstGeom prst="bentConnector3">
            <a:avLst>
              <a:gd name="adj1" fmla="val 49981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 par contenu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748560" cy="2249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887760" y="4800600"/>
            <a:ext cx="3301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Contenu à reche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61" idx="0"/>
          </p:cNvCxnSpPr>
          <p:nvPr/>
        </p:nvCxnSpPr>
        <p:spPr>
          <a:xfrm flipH="1" flipV="1" rot="5400000">
            <a:off x="2398320" y="4330080"/>
            <a:ext cx="610200" cy="33084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ystème d’exploit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ujours acti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face entre l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lic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l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tilisateu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t le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téri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lote le démarrage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lic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t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ériphériqu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100160" y="1879560"/>
            <a:ext cx="6856560" cy="3349800"/>
            <a:chOff x="1100160" y="1879560"/>
            <a:chExt cx="6856560" cy="3349800"/>
          </a:xfrm>
        </p:grpSpPr>
        <p:grpSp>
          <p:nvGrpSpPr>
            <p:cNvPr id="142" name=""/>
            <p:cNvGrpSpPr/>
            <p:nvPr/>
          </p:nvGrpSpPr>
          <p:grpSpPr>
            <a:xfrm>
              <a:off x="1100160" y="3251160"/>
              <a:ext cx="6856560" cy="608040"/>
              <a:chOff x="1100160" y="3251160"/>
              <a:chExt cx="6856560" cy="608040"/>
            </a:xfrm>
          </p:grpSpPr>
          <p:sp>
            <p:nvSpPr>
              <p:cNvPr id="143" name=""/>
              <p:cNvSpPr/>
              <p:nvPr/>
            </p:nvSpPr>
            <p:spPr>
              <a:xfrm>
                <a:off x="1100160" y="3251160"/>
                <a:ext cx="6856560" cy="608040"/>
              </a:xfrm>
              <a:prstGeom prst="roundRect">
                <a:avLst>
                  <a:gd name="adj" fmla="val 259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00160" y="3251160"/>
                <a:ext cx="685656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Times New Roman"/>
                  </a:rPr>
                  <a:t>Système d’exploit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76880" y="2565360"/>
              <a:ext cx="3579840" cy="608040"/>
              <a:chOff x="4376880" y="2565360"/>
              <a:chExt cx="3579840" cy="608040"/>
            </a:xfrm>
          </p:grpSpPr>
          <p:sp>
            <p:nvSpPr>
              <p:cNvPr id="146" name=""/>
              <p:cNvSpPr/>
              <p:nvPr/>
            </p:nvSpPr>
            <p:spPr>
              <a:xfrm>
                <a:off x="4376880" y="2565360"/>
                <a:ext cx="3579840" cy="608040"/>
              </a:xfrm>
              <a:prstGeom prst="roundRect">
                <a:avLst>
                  <a:gd name="adj" fmla="val 259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76880" y="2565360"/>
                <a:ext cx="357984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Times New Roman"/>
                  </a:rPr>
                  <a:t>Interface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Times New Roman"/>
                  </a:rPr>
                  <a:t>utilisateu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100160" y="2565360"/>
              <a:ext cx="3098880" cy="608040"/>
              <a:chOff x="1100160" y="2565360"/>
              <a:chExt cx="3098880" cy="608040"/>
            </a:xfrm>
          </p:grpSpPr>
          <p:sp>
            <p:nvSpPr>
              <p:cNvPr id="149" name=""/>
              <p:cNvSpPr/>
              <p:nvPr/>
            </p:nvSpPr>
            <p:spPr>
              <a:xfrm>
                <a:off x="1100160" y="2565360"/>
                <a:ext cx="3098880" cy="608040"/>
              </a:xfrm>
              <a:prstGeom prst="roundRect">
                <a:avLst>
                  <a:gd name="adj" fmla="val 25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00160" y="2565360"/>
                <a:ext cx="309888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Programm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100160" y="4621320"/>
              <a:ext cx="6856560" cy="608040"/>
              <a:chOff x="1100160" y="4621320"/>
              <a:chExt cx="6856560" cy="608040"/>
            </a:xfrm>
          </p:grpSpPr>
          <p:sp>
            <p:nvSpPr>
              <p:cNvPr id="152" name=""/>
              <p:cNvSpPr/>
              <p:nvPr/>
            </p:nvSpPr>
            <p:spPr>
              <a:xfrm>
                <a:off x="1100160" y="4621320"/>
                <a:ext cx="6856560" cy="608040"/>
              </a:xfrm>
              <a:prstGeom prst="roundRect">
                <a:avLst>
                  <a:gd name="adj" fmla="val 25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00160" y="4621320"/>
                <a:ext cx="685656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Ordinateur / Matéri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1100160" y="1879560"/>
              <a:ext cx="6856560" cy="608040"/>
              <a:chOff x="1100160" y="1879560"/>
              <a:chExt cx="6856560" cy="608040"/>
            </a:xfrm>
          </p:grpSpPr>
          <p:sp>
            <p:nvSpPr>
              <p:cNvPr id="155" name=""/>
              <p:cNvSpPr/>
              <p:nvPr/>
            </p:nvSpPr>
            <p:spPr>
              <a:xfrm>
                <a:off x="1100160" y="1879560"/>
                <a:ext cx="6856560" cy="608040"/>
              </a:xfrm>
              <a:prstGeom prst="roundRect">
                <a:avLst>
                  <a:gd name="adj" fmla="val 25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00160" y="1879560"/>
                <a:ext cx="685656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Utilisateu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380960" y="3021120"/>
              <a:ext cx="18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533600" y="3019320"/>
              <a:ext cx="1440" cy="38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81440" y="2371680"/>
              <a:ext cx="180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757760" y="2371320"/>
              <a:ext cx="144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87800" y="2962440"/>
              <a:ext cx="38088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086000" y="2809800"/>
              <a:ext cx="38412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100160" y="3935520"/>
              <a:ext cx="3125880" cy="608040"/>
              <a:chOff x="1100160" y="3935520"/>
              <a:chExt cx="3125880" cy="608040"/>
            </a:xfrm>
          </p:grpSpPr>
          <p:sp>
            <p:nvSpPr>
              <p:cNvPr id="164" name=""/>
              <p:cNvSpPr/>
              <p:nvPr/>
            </p:nvSpPr>
            <p:spPr>
              <a:xfrm>
                <a:off x="1100160" y="3935520"/>
                <a:ext cx="3125880" cy="608040"/>
              </a:xfrm>
              <a:prstGeom prst="roundRect">
                <a:avLst>
                  <a:gd name="adj" fmla="val 259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00160" y="3935520"/>
                <a:ext cx="312588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Times New Roman"/>
                  </a:rPr>
                  <a:t>Pilotes (Driver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346040" y="4389480"/>
              <a:ext cx="18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498680" y="4387680"/>
              <a:ext cx="144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46040" y="3705120"/>
              <a:ext cx="180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498680" y="3703320"/>
              <a:ext cx="144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376880" y="3868920"/>
              <a:ext cx="3579840" cy="676080"/>
              <a:chOff x="4376880" y="3868920"/>
              <a:chExt cx="3579840" cy="676080"/>
            </a:xfrm>
          </p:grpSpPr>
          <p:sp>
            <p:nvSpPr>
              <p:cNvPr id="171" name=""/>
              <p:cNvSpPr/>
              <p:nvPr/>
            </p:nvSpPr>
            <p:spPr>
              <a:xfrm>
                <a:off x="4376880" y="3868920"/>
                <a:ext cx="3579840" cy="676080"/>
              </a:xfrm>
              <a:prstGeom prst="roundRect">
                <a:avLst>
                  <a:gd name="adj" fmla="val 231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6880" y="3868920"/>
                <a:ext cx="3579840" cy="67608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390920" y="3795840"/>
              <a:ext cx="3551400" cy="154080"/>
              <a:chOff x="4390920" y="3795840"/>
              <a:chExt cx="3551400" cy="154080"/>
            </a:xfrm>
          </p:grpSpPr>
          <p:sp>
            <p:nvSpPr>
              <p:cNvPr id="174" name=""/>
              <p:cNvSpPr/>
              <p:nvPr/>
            </p:nvSpPr>
            <p:spPr>
              <a:xfrm>
                <a:off x="4390920" y="3795840"/>
                <a:ext cx="3551400" cy="154080"/>
              </a:xfrm>
              <a:prstGeom prst="roundRect">
                <a:avLst>
                  <a:gd name="adj" fmla="val 1019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90920" y="3795840"/>
                <a:ext cx="3551400" cy="15408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00960" y="3057480"/>
              <a:ext cx="144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653240" y="3057120"/>
              <a:ext cx="180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653240" y="4428720"/>
              <a:ext cx="180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00960" y="4429080"/>
              <a:ext cx="144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956720" y="2924280"/>
            <a:ext cx="720720" cy="720720"/>
          </a:xfrm>
          <a:prstGeom prst="line">
            <a:avLst/>
          </a:prstGeom>
          <a:ln w="76320">
            <a:solidFill>
              <a:srgbClr val="703d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cherche le fichier que vous avez créé précédemment. Où se trouve-t-il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rouver tous les fichier texte (extension « .txt ») localisé sur le disque du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pression/Archiv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compress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consiste à regrouper un ensemble de fichiers et à réduire leur tai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fichier contenant l'ensemble des autres fichiers compressés est généralement appelé fichier 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archiv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format d'archives 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zip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est le plus répandu sous Window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lternatives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ra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plus performant que zip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z : Lin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pression/Archiv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518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implifie le transfert (ou l’envoi par mail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seul fichier plutôt que plusie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duit la quantité de données à transfé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duit la taille du fichier à sauvegard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.ex. on peut mettre plus sur une clé US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pplication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WinZ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werArch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7-zip (gratui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Bureau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pace de trav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étaphore bureau ré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00000" y="102708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969840" y="620640"/>
            <a:ext cx="7347240" cy="5760720"/>
            <a:chOff x="969840" y="620640"/>
            <a:chExt cx="7347240" cy="5760720"/>
          </a:xfrm>
        </p:grpSpPr>
        <p:grpSp>
          <p:nvGrpSpPr>
            <p:cNvPr id="185" name=""/>
            <p:cNvGrpSpPr/>
            <p:nvPr/>
          </p:nvGrpSpPr>
          <p:grpSpPr>
            <a:xfrm>
              <a:off x="969840" y="620640"/>
              <a:ext cx="7347240" cy="5688000"/>
              <a:chOff x="969840" y="620640"/>
              <a:chExt cx="7347240" cy="5688000"/>
            </a:xfrm>
          </p:grpSpPr>
          <p:sp>
            <p:nvSpPr>
              <p:cNvPr id="186" name=""/>
              <p:cNvSpPr/>
              <p:nvPr/>
            </p:nvSpPr>
            <p:spPr>
              <a:xfrm>
                <a:off x="969840" y="907920"/>
                <a:ext cx="649440" cy="237672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44240" y="620640"/>
                <a:ext cx="94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côn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556000" y="1628640"/>
                <a:ext cx="830160" cy="172908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77720" y="1557360"/>
                <a:ext cx="152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omic Sans MS"/>
                  </a:rPr>
                  <a:t>Raccourcis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62200" y="3933720"/>
                <a:ext cx="649440" cy="86364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06320" y="4149720"/>
                <a:ext cx="108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omic Sans MS"/>
                  </a:rPr>
                  <a:t>Dossie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67640" y="5445000"/>
                <a:ext cx="649440" cy="86364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19600" y="5084640"/>
                <a:ext cx="152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Courbeille</a:t>
                </a:r>
                <a:r>
                  <a:rPr b="1" lang="fr-FR" sz="18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V="1">
              <a:off x="1763640" y="5516280"/>
              <a:ext cx="14414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50720" y="525312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nu démar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Bureau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077320" cy="2819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1143000" y="51055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uton Démar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88620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’o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053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e tâ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514600"/>
            <a:ext cx="228276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rière-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fond d’écr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16765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te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28195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be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00200" y="2209680"/>
            <a:ext cx="5335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76520" y="335268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38280" y="4419720"/>
            <a:ext cx="53352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572000" y="3048120"/>
            <a:ext cx="5335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105520" y="4038480"/>
            <a:ext cx="8380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0384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990360" y="502920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5013360"/>
            <a:ext cx="360360" cy="86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rêter l’ordin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ermer la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c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verture / exécu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uble cl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place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lisser - dépos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enu contextu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ic droit sur l’obj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érations applicables à un obj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peut activer une commande de plusieurs manières différentes (on parle de redondan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enêt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303720" cy="2674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09480" y="220968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e 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2438280"/>
            <a:ext cx="3812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1143000"/>
            <a:ext cx="2286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utons 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Ré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Agrand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Ferme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714640" y="1981080"/>
            <a:ext cx="60948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39625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e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312408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’o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48640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’é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388620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one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53341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43200" y="3276720"/>
            <a:ext cx="3808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743200" y="5409720"/>
            <a:ext cx="6858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714640" y="3429000"/>
            <a:ext cx="6858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486400" y="4114800"/>
            <a:ext cx="9907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172200" y="4952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866920" y="5410080"/>
            <a:ext cx="68580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rbeil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emplacement intermédiaire avant la suppression d’un obj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ression définitive : vider l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rbe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ilité  d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staur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s objets avant de vider la corbe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 dans ma clé USB ?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 avec le réseau local ?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1297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278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vrir le poste de travail. Que contient-il 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ns la fenêtre « poste de travail »,  exécuter les actions suivante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placer la fenê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imensionner la fenê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 le burea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placer des icô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pier/coller des icôn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les actions sont disponibles au menu contextuelle lié à la corbeille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3:11:01Z</dcterms:created>
  <dc:creator>Manuele Kirsch Pinheiro</dc:creator>
  <dc:description/>
  <dc:language>en-US</dc:language>
  <cp:lastModifiedBy>Manuele Kirsch Pinheiro</cp:lastModifiedBy>
  <dcterms:modified xsi:type="dcterms:W3CDTF">2006-09-17T16:53:04Z</dcterms:modified>
  <cp:revision>33</cp:revision>
  <dc:subject/>
  <dc:title>Informatique Générale ML-AS</dc:title>
</cp:coreProperties>
</file>