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C68-6FFF-403F-BC52-A93371AB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B1C-8092-4570-98F4-D7A0F906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A2F-C98F-4C2B-857B-D476732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EB3-C9F7-4FD3-9817-E63062CB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4EB9-664E-443D-8568-E8F5D048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4DF-9C0A-4CC4-B9EE-4321328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753-5DA1-4C33-886B-6A45EB34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32C6-ED75-483C-BF2C-E300851D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0A0-E681-4588-BBBA-DF0E1267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61B-886A-4867-A3F9-92B9BC1D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29A1-3CAD-4484-B4F5-EF320FE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A33-1338-4EF7-80CA-A7FEDBF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1E82-E19E-45D8-9CD3-B6EA827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527B-7DE7-4B37-B0B9-A8B153C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58F-0EDB-4793-ADC1-4920E17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4DE0-9533-4FDD-ADA9-DAE8EB4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CBF3-82FF-4BA4-9FAA-D20735F3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446-0C13-4A80-B206-84C0573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C49-518A-42C9-9144-57382A47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9FA-82CC-4C18-B07C-C31266F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6E2-3AFC-45C8-80DD-A67457D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589-5D37-4258-A1EC-500ACFE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46A-DCEF-4284-9847-7C4E486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0C7-8030-42E9-A9CF-6F29813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705-E189-418C-A87D-8901D8160C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AEB-8649-48C4-9767-2F71D63B4A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utils.abondance.com/google.html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outils.abondance.com/msn.html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iane6.com/" TargetMode="External"/><Relationship Id="rId2" Type="http://schemas.openxmlformats.org/officeDocument/2006/relationships/hyperlink" Target="http://www.metacrawler.com/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ftp.inria.fr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avigation sur le Web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3680" y="257040"/>
            <a:ext cx="3821040" cy="331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518184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2492280"/>
            <a:ext cx="24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4" idx="2"/>
            <a:endCxn id="195" idx="1"/>
          </p:cNvCxnSpPr>
          <p:nvPr/>
        </p:nvCxnSpPr>
        <p:spPr>
          <a:xfrm flipH="1" rot="16200000">
            <a:off x="2599200" y="3347640"/>
            <a:ext cx="810360" cy="12610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329480" y="465300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3000" y="1406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acer mes 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1"/>
            <a:endCxn id="196" idx="7"/>
          </p:cNvCxnSpPr>
          <p:nvPr/>
        </p:nvCxnSpPr>
        <p:spPr>
          <a:xfrm flipH="1">
            <a:off x="3060720" y="1590480"/>
            <a:ext cx="144036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6877080" y="5084640"/>
            <a:ext cx="17985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8720" y="33336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ur Firefox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Recherche d’Information sur le Web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usieurs sites de recher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yahoo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voila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dmoz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google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riane6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metacrawler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teurs de recherc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852560"/>
            <a:ext cx="366372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s indexent des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sation des « robots » ou « spider 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 par mots cle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Goo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157720"/>
            <a:ext cx="1463760" cy="606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MSN Sea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5516640"/>
            <a:ext cx="1371600" cy="587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18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tilisation des 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5715000" cy="1425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62920" cy="704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2920" y="23605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itre de la p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819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505320"/>
            <a:ext cx="216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Résum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- extrait text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63040" y="495144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7320" y="533232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aille</a:t>
            </a: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 de l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01680" y="563724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Bell MT"/>
              </a:rPr>
              <a:t>Copie</a:t>
            </a:r>
            <a:r>
              <a:rPr b="0" lang="fr-FR" sz="2000" spc="-1" strike="noStrike">
                <a:solidFill>
                  <a:srgbClr val="000000"/>
                </a:solidFill>
                <a:latin typeface="Bell MT"/>
              </a:rPr>
              <a:t> de la page chez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32120" y="49514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Sites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l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362320" y="3504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438280" y="44193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267080" y="44953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867280" y="45720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560" y="4495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Avancé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0920" y="1228680"/>
            <a:ext cx="6769080" cy="5513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60400" y="27082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2600" y="3645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3080" y="501336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3068640"/>
            <a:ext cx="5760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4005360"/>
            <a:ext cx="863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19280" y="4509720"/>
            <a:ext cx="57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Opérateurs Goog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41444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ression (""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"dans la trace d'un guide«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pages incluant l'expression entiè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T :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Documents contenant </a:t>
            </a:r>
            <a:r>
              <a:rPr b="1" lang="en-US" sz="2400" spc="-1" strike="noStrike">
                <a:solidFill>
                  <a:srgbClr val="703dff"/>
                </a:solidFill>
                <a:latin typeface="Tahoma"/>
              </a:rPr>
              <a:t>tous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les m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Ours  Slovéni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Les pages où il est question d’ours et de la Slovén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 :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Documents contenant </a:t>
            </a:r>
            <a:r>
              <a:rPr b="1" lang="en-US" sz="2400" spc="-1" strike="noStrike">
                <a:solidFill>
                  <a:srgbClr val="703dff"/>
                </a:solidFill>
                <a:latin typeface="Tahoma"/>
              </a:rPr>
              <a:t>au moins un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des m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Slovéni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Les pages où il est question d’ours, les pages où il est question de Slovénie, éventuellement celles qui parlent des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AUF : </a:t>
            </a:r>
            <a:r>
              <a:rPr b="1" lang="fr-FR" sz="2400" spc="-1" strike="noStrike">
                <a:solidFill>
                  <a:srgbClr val="703dff"/>
                </a:solidFill>
                <a:latin typeface="Tahoma"/>
              </a:rPr>
              <a:t>Exclu</a:t>
            </a: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 certains documents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Pyrénées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sultats : pages où il est question d’ours, à l'exception de celles qui parlent des Pyré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« Mot vide » (+)</a:t>
            </a:r>
            <a:br>
              <a:rPr sz="2600"/>
            </a:b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Exemple : +la  bres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Résultats : Uniquement les pages indexées avec les mots Bresse et "la"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Requêtes composées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Exemple : ours +slovenie –Pyréné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Résultats : Document relatifs à l’ours, qui parlent de slovenie, mais qui ne concernent pas les Pyréné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Méta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537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r une expression simultanément  sur plusieurs mot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recherche avanc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ariane6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metacrawler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427640" y="1479600"/>
            <a:ext cx="439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cupération d’inform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registrer sou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, Pages entiè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chier HTML sans les images, Texte seu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pier/Col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uments non HTML (pdf, flash, real-audio, etc..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plugi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visionneuse, logici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ttention aux droits d’aut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i on fait référence à une page, on donne l’URL et la d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isiter les si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wikipedia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pcastuces.com/pratique/default.h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ns l’URL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pcastuces.com/pratique/default.htm, </a:t>
            </a: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lle partie indique le serveur, quelle parte indique la ressource Web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issance : début des années 90 au CERN (Suis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’application la plus utilisée sur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sponsable de la démocratisation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mier navigateur : Mosa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avigateurs disponibles : Firefox, Internet Explorer, Netscape, Opera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ation par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hypertexte, multimé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otocole :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 HT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ur Goog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hercher les sites qui parlent d’art nouveau a Na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hercher les sites qui parlent de l’école à Nancy, mais qui ne parlent pas d’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les mêmes informations sur Ariane6. Comparer les réponses avec celles de Goog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cupérer une image, une page (avec les images), et juste le texte d’une p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ypertext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page Web contient 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e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rs d'autres p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'hypertex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liens créent une « toile » de doc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741672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6560" y="1112760"/>
            <a:ext cx="6913440" cy="562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61080" y="2276640"/>
            <a:ext cx="1366920" cy="122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31520" y="40464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s média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xte, images, s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645000"/>
            <a:ext cx="27367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2"/>
            <a:endCxn id="144" idx="0"/>
          </p:cNvCxnSpPr>
          <p:nvPr/>
        </p:nvCxnSpPr>
        <p:spPr>
          <a:xfrm>
            <a:off x="6462720" y="1046160"/>
            <a:ext cx="883440" cy="1218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48" name=""/>
          <p:cNvCxnSpPr>
            <a:stCxn id="145" idx="2"/>
            <a:endCxn id="146" idx="0"/>
          </p:cNvCxnSpPr>
          <p:nvPr/>
        </p:nvCxnSpPr>
        <p:spPr>
          <a:xfrm flipH="1">
            <a:off x="5076360" y="1045800"/>
            <a:ext cx="1386720" cy="25866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9" name=""/>
          <p:cNvSpPr/>
          <p:nvPr/>
        </p:nvSpPr>
        <p:spPr>
          <a:xfrm>
            <a:off x="2411280" y="4653000"/>
            <a:ext cx="1152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6480" y="3860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yper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0" idx="2"/>
            <a:endCxn id="149" idx="2"/>
          </p:cNvCxnSpPr>
          <p:nvPr/>
        </p:nvCxnSpPr>
        <p:spPr>
          <a:xfrm>
            <a:off x="1273320" y="4227480"/>
            <a:ext cx="1126080" cy="642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2" name=""/>
          <p:cNvSpPr/>
          <p:nvPr/>
        </p:nvSpPr>
        <p:spPr>
          <a:xfrm>
            <a:off x="3276720" y="1484280"/>
            <a:ext cx="3095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43520" y="6206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ress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1"/>
          </p:cNvCxnSpPr>
          <p:nvPr/>
        </p:nvCxnSpPr>
        <p:spPr>
          <a:xfrm>
            <a:off x="2168280" y="987480"/>
            <a:ext cx="1562760" cy="5367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5" name=""/>
          <p:cNvSpPr/>
          <p:nvPr/>
        </p:nvSpPr>
        <p:spPr>
          <a:xfrm>
            <a:off x="482400" y="229536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042920" y="1414080"/>
            <a:ext cx="792360" cy="93492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440" y="2998800"/>
            <a:ext cx="66024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6602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èle client/serve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09520" y="3657600"/>
            <a:ext cx="576360" cy="706320"/>
          </a:xfrm>
          <a:prstGeom prst="flowChartMagneticDisk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933480" cy="1596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85280" y="4483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457280" cy="127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30880" y="4749840"/>
            <a:ext cx="19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avigat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3640" y="3068640"/>
            <a:ext cx="2952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9080" y="2560680"/>
            <a:ext cx="315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serveur/p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292560" y="4221000"/>
            <a:ext cx="293508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33160" y="3718080"/>
            <a:ext cx="140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50920" y="4653000"/>
            <a:ext cx="3240000" cy="984240"/>
            <a:chOff x="2050920" y="4653000"/>
            <a:chExt cx="3240000" cy="984240"/>
          </a:xfrm>
        </p:grpSpPr>
        <p:sp>
          <p:nvSpPr>
            <p:cNvPr id="181" name=""/>
            <p:cNvSpPr/>
            <p:nvPr/>
          </p:nvSpPr>
          <p:spPr>
            <a:xfrm>
              <a:off x="2050920" y="4653000"/>
              <a:ext cx="360360" cy="936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6920" y="4653000"/>
              <a:ext cx="30240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tp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  <a:hlinkClick r:id="rId1"/>
                </a:rPr>
                <a:t>ftp://ftp.inria.f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’information sur l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incontrôlé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’importe qui peut publier sur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’organisme de contrôle, multiplicité des législ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abond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centaines de millions (milliard ?) de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évolue tous les j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 référence sur Internet n’est pas une garan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e garantie de pérennité, pas d ’intégrité référentielle (« 404 not found 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glob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net ne connaît pas les frontières phys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avigateur: confidentialité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apidit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opie sur le disque (pages et imag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rgonomi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auvegarde de l’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iers électroniques, authentifications…: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ok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ème de confidentialité : le navigateur garde l’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Solution: vider le cache, effacer historique et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16000" y="1146240"/>
            <a:ext cx="6337440" cy="5451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59280" y="386064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79736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26828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43720" y="54144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ptions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92360" y="907560"/>
            <a:ext cx="287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1560" y="31752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ur I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2:56:24Z</dcterms:created>
  <dc:creator>Manuele Kirsch Pinheiro</dc:creator>
  <dc:description/>
  <dc:language>en-US</dc:language>
  <cp:lastModifiedBy>Manuele Kirsch Pinheiro</cp:lastModifiedBy>
  <dcterms:modified xsi:type="dcterms:W3CDTF">2006-09-24T18:57:57Z</dcterms:modified>
  <cp:revision>4</cp:revision>
  <dc:subject/>
  <dc:title>Navigation sur le Web</dc:title>
</cp:coreProperties>
</file>