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146-5C5A-4235-8B09-756D4705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245-F55D-49BA-9856-B9CC841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098-E6FB-4A5C-A48A-D2A366CE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F2D-78BA-498E-833D-DD9AB670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A34F-5E53-4D03-B958-96A65D6E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150-39F0-4D61-9369-77BC5E9D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D74F-8556-4DF7-8EEB-0555F89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AC66-B317-4997-A111-CDA86A0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CE8-680F-4E81-BADA-D908B2E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8F3F-F968-4B70-A891-812D1513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B55B-65E6-4F9E-84FE-69BFAF5E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A2C-1E2A-40D8-8465-6F6F8E84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8CDD-3BD8-4826-827E-86703CF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5F32-787B-4A17-9711-DCCC2F3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059-6BFB-491C-A82D-5B3C4E0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5CA-380A-4335-A5E2-31BD959F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E61F-275F-461E-B319-0510E386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502-B47E-4A8B-A301-3A48808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975-46F6-4F2A-87CC-6FFCF65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C15-6EAC-4EFC-8134-880D7D0C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EEC-9F86-48AE-9E36-8085EAAC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B94-BBBB-4353-96FE-9920E7D3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B36-5979-4D7E-BBA9-1F70EC6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2FF-6DBD-4A67-B71A-537B81F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fld id="{0B6FF5BF-5883-48D0-84AD-C9FB23FDD7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183-086E-415D-8622-F4456F5318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94D5-10E2-4F15-81C4-EB9426EBD256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6F2-135E-4D78-B494-956FE8E827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uta.univ-nancy2.fr/SCI/salles/index.html" TargetMode="External"/><Relationship Id="rId2" Type="http://schemas.openxmlformats.org/officeDocument/2006/relationships/hyperlink" Target="\\etu3\home" TargetMode="External"/><Relationship Id="rId3" Type="http://schemas.openxmlformats.org/officeDocument/2006/relationships/hyperlink" Target="\\etu3\home" TargetMode="External"/><Relationship Id="rId4" Type="http://schemas.openxmlformats.org/officeDocument/2006/relationships/hyperlink" Target="http://webet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t.univ-nancy2.fr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2i.univ-nancy2.fr/" TargetMode="External"/><Relationship Id="rId2" Type="http://schemas.openxmlformats.org/officeDocument/2006/relationships/hyperlink" Target="http://c2i.education.fr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L’informatique et l’IU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5 Salles informatiq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iuta.univ-nancy2.fr/SCI/salles/index.htm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sources matériell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éseau pédagogiqu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rveur des donnée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home sur </a:t>
            </a:r>
            <a:r>
              <a:rPr b="0" lang="fr-FR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\\</a:t>
            </a:r>
            <a:r>
              <a:rPr b="0" lang="fr-FR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etu3\h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Quotas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webetu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auvegarde des donné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rganiser votre ho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primant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as de relance de l’impression, amener votre papier (pas de transparent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iF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1A7-A7D1-41C2-BFCC-B938636890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BB8A5-3AB9-498F-BC30-C1EE76DF99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réation de compte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tre compte informat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ès aux salles informatiques et à la messager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T – Espace Numérique de Trav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bon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mot de pas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it être long (au minimum 8 caractères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 doit pas faire référence à votre vie privée : évitez le nom de votre chien, la date de naissance, etc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it contenir tous les caractères possibles (minuscules, majuscules, chiffres, symboles, etc.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it être changé régulièremen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 révélez jamais votre mot de passe à qui que ce soit !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36D-D16B-4BA5-8C16-A4B044573A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7F70D-CA2C-4E03-9BBB-73AB3AA3B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btenir un identifia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rérequis : inscription à l’universit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btenir un identifi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ent.univ-nancy2.fr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re et respecter la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charte informatique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e l’Universit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A4F-7F19-4554-86B7-721396AA2E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69121-5D55-4C74-8DAA-DCC2BF7DBC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84880" cy="577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3284640"/>
            <a:ext cx="2521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437000"/>
            <a:ext cx="360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e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« Obtention et gestion des codes d’accè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0"/>
            <a:endCxn id="142" idx="6"/>
          </p:cNvCxnSpPr>
          <p:nvPr/>
        </p:nvCxnSpPr>
        <p:spPr>
          <a:xfrm flipV="1" rot="16200000">
            <a:off x="4217400" y="2642400"/>
            <a:ext cx="937440" cy="265212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A2C-72DD-49C1-BA48-DB6A9650982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9CB05-3B31-42FC-BC15-FD6D4C99D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080" y="1347840"/>
            <a:ext cx="867564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43280" y="3429000"/>
            <a:ext cx="252072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79592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e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« Récupération de votre mont de passe initial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0"/>
            <a:endCxn id="146" idx="4"/>
          </p:cNvCxnSpPr>
          <p:nvPr/>
        </p:nvCxnSpPr>
        <p:spPr>
          <a:xfrm flipV="1" rot="16200000">
            <a:off x="4597200" y="3236400"/>
            <a:ext cx="1065960" cy="2053080"/>
          </a:xfrm>
          <a:prstGeom prst="curvedConnector5">
            <a:avLst>
              <a:gd name="adj1" fmla="val 50506"/>
              <a:gd name="adj2" fmla="val 50000"/>
              <a:gd name="adj3" fmla="val 50506"/>
            </a:avLst>
          </a:prstGeom>
          <a:ln w="507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B0D-1C59-486B-A42D-95013935334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CC802-78EA-4062-9AAA-6E17CB99B1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964720" cy="5602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43640" y="429264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0"/>
          </p:cNvCxnSpPr>
          <p:nvPr/>
        </p:nvCxnSpPr>
        <p:spPr>
          <a:xfrm flipV="1" rot="16200000">
            <a:off x="6112800" y="2834640"/>
            <a:ext cx="937440" cy="197856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3" name=""/>
          <p:cNvSpPr/>
          <p:nvPr/>
        </p:nvSpPr>
        <p:spPr>
          <a:xfrm>
            <a:off x="826920" y="3789360"/>
            <a:ext cx="259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ider et suivre les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</p:cNvCxnSpPr>
          <p:nvPr/>
        </p:nvCxnSpPr>
        <p:spPr>
          <a:xfrm flipH="1" rot="16200000">
            <a:off x="2639160" y="4138920"/>
            <a:ext cx="789840" cy="1820160"/>
          </a:xfrm>
          <a:prstGeom prst="curvedConnector2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2" name=""/>
          <p:cNvSpPr/>
          <p:nvPr/>
        </p:nvSpPr>
        <p:spPr>
          <a:xfrm>
            <a:off x="6372360" y="4292640"/>
            <a:ext cx="239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identifiant initial est sur la carte étud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163-A7CF-40F9-AEC7-FF76263541D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FD3BC-F995-4CF4-92CA-DD1445195F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ENT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rouper services et inform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ces : messagerie, documents, catalogue des BU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s : annonces, cours, note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è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fonction du profil (étudiant, personn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a un navigateu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uis tout poste connecté à l'Inter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 que soit le lieu, l'heur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BFC-1E72-4F5E-8D2C-6854B49BE5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69144-CE71-433A-9FFB-A9DEFDE47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55640" y="260280"/>
            <a:ext cx="7777080" cy="5770800"/>
            <a:chOff x="755640" y="260280"/>
            <a:chExt cx="7777080" cy="577080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55640" y="260280"/>
              <a:ext cx="7184880" cy="57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12000" y="1700280"/>
              <a:ext cx="2520720" cy="288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71480" y="157320"/>
            <a:ext cx="7675560" cy="616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82760" y="157320"/>
            <a:ext cx="7976880" cy="6406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3120" y="157320"/>
            <a:ext cx="8121600" cy="652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8040" y="115920"/>
            <a:ext cx="8121600" cy="652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993-ACD5-4AFB-A606-18B12D5FAD4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94340-4BA5-4019-948B-B8D866EE0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2i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®</a:t>
            </a:r>
            <a:endParaRPr b="1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rtificat Informatique et Internet (C2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c2i.univ-nancy2.fr/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rtificat 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2i.education.fr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valider les compétences en informatique et bureaut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développer et renforcer la maîtrise des technologies de l’information et de la communication (TIC) par les étudiant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nseignements : Thierry Jean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B09-9F90-41F8-9898-77BD70C796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5CF5D-1C2D-49C3-AF98-AD36D5FF4D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3:22:17Z</dcterms:created>
  <dc:creator>Manuele Kirsch Pinheiro</dc:creator>
  <dc:description/>
  <dc:language>en-US</dc:language>
  <cp:lastModifiedBy>Manuele Kirsch Pinheiro</cp:lastModifiedBy>
  <dcterms:modified xsi:type="dcterms:W3CDTF">2006-09-10T15:05:28Z</dcterms:modified>
  <cp:revision>8</cp:revision>
  <dc:subject/>
  <dc:title>L’informatique et l’IUT</dc:title>
</cp:coreProperties>
</file>