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8827F-AEB1-4E2B-ABB5-562B5FCEE5D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B7F28-4EF7-48D6-A4D5-88DB9CAAEED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3117D-B302-46D5-BCD3-4430553BA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628B-0F7A-481A-84DA-4A894EE30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58BDE-B830-47CD-8EE8-98796D86E4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A0152-5421-4CDB-BF31-A36F60914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F76C2-F417-4946-BD3E-7B29BAC3C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D4542-8F2C-4411-9D27-C2426E76D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FC8C8-80D9-44FD-9857-1363EF4AD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AE42-FF0F-4671-B0F2-3EE8D0D4A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29037-67D1-4128-ADF3-CC60C93D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26D9C-D062-407B-94B2-BE9D611C3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B6C54-9E21-4769-BF4F-B21468A37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22FC-CCFF-487F-A401-D371D10F5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65FEE-5089-4F85-B1FC-ECEF1DA3D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615AD-A027-4510-B85C-4972F475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3CEB-8CC4-4AA3-8A9F-CB5D92D3D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BB8F8-A720-4119-A3FE-10302D9B8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EB4B-0FC6-4363-8240-1BAA9BCE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79C05D-F0D4-4D9D-BA45-2C751DE37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5F5140-C6EE-44B6-96FD-49167CB5E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ECD6F2-395D-474B-BD44-6D507D49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BE5E97-0D6F-42C4-A89C-49E54740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E3250D-FE22-4F7B-80EE-AABD51240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CAE6-931C-4979-9266-2724AFBA7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DFD6F-A9B6-4F18-827D-5B85B9B79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60D392-AB58-49D2-A6E2-2A8BF44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D821D2-357C-4D94-BAFC-AA717BC79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A43D14-D11F-4069-BFA3-F7EB594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23707A-5172-49DD-8D49-B8058B523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48AF9-5888-4246-A161-51B93E535E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E14EFF-69E9-4D95-982B-4A23C4CD2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D58ED6-D4A8-4009-928A-E1A0D7984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B230E-2D71-43ED-ACD5-DEDDDD7E4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7A9B26-AAF6-43D3-ACA1-D702E65CF4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7115-00C3-4E0C-951D-BF721DBD4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8B3182-9731-4CCF-8858-A71B9135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98DB-016B-4BF3-B0CC-1E31D361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F2B7DF-C6D7-4002-ACAA-CC2A8803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C585F6-81D7-4230-B562-B05E4B2E3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909FC0-7EA5-490F-AB9E-01228040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47C958-FD3C-40BF-ACDB-57868215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B30450-BA53-4A77-B5D1-62D9E7359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67D873-0264-4429-BD4F-DF4B7572A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9CF58F-9B1A-4C14-9C11-AC5011665D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EACEB5-2A7F-4E68-B071-DD49E21B3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3A52-D2E6-4E8A-888B-0F60F5126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F15EB7-96C2-483F-8FF0-81BF7B4E5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DED439-02F7-445E-9E8A-466FE5EC7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637BC-7CF2-4AE4-BB58-4DC7CDF3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62705C-06B4-4D53-8526-BD1712A7A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A3C8E-1A36-4324-B2DE-F8AF285C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1515BB-1822-4ED1-B6A7-78BAEEC46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F0AFA8-B3AC-4601-AA61-DB0A85185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1F04F5-5D97-4F4A-91B8-AAD48D09A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A8A9-66F4-454C-BC36-D7BCD9687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84E10-3610-4BAD-B5E8-5915F61C6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93BD-3BB8-4A1E-9317-EC9A6BE2D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8D89C3-D7BB-485E-B7F5-EAF131D4F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728541-C5A3-42F8-9C48-254250C12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5DFCE6-A907-4FAB-B3B4-26F8B4EA4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5DF33D-0081-4CC0-9F42-948895271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CD0A80-64EC-4613-AAD5-9374A6449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CC1DA0-AE29-4C4E-9E1F-8D95E077C6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BBF3E3-C128-4D9C-8974-4A4DE6945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E76C57-77A0-46C2-B4C6-ED7110883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1CC77A-C2C3-4EF9-88D1-34B9F7CA7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EE62B4-0EE2-443D-9123-F4DE73FE9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98A99-24D6-4F19-81F9-48E47411C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F01918-71CA-4B90-A41B-1C9576E3D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A5C65E-4CFF-4BFE-9119-AAFEF92137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EF918A-2E42-48F6-A749-2ACBA9330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FC66E-652C-410B-99D5-59C8613FF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4537AE-1C14-4553-85BF-B1DE427FE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E4093A-36A0-42EE-B4FD-F1323FA5F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08B7EA-012E-4378-BB98-9AE3C7511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962AB9-2250-410D-899B-C95530979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7D20AC-281D-4C8C-B5B5-7CD319855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EBAAC8-B54F-4D7B-A928-5E75115D4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CEC53-1C95-4F92-AB35-327152C0C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752542-746F-4F1F-9C77-C74428B8C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210EB27-5F1D-4D93-A11F-445D1D7DC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64F1F-020A-47B8-9D63-8DB8B5188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6EFA8A-0004-4DB3-B1D2-255B65191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ACE0BD-911C-456F-8260-D66DCF9E6D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4A4DA-E282-47AC-A0D2-23A00279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EB72-C19B-480B-B549-666BFF34704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BF45A-0523-49E7-98FE-504869216680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D10C5-2131-4B1F-8332-F3C76746269E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1BAE6-6E08-4B00-87A2-2ECC0B977EB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74B1B-4189-4D1F-8F13-F890DB47A56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3E135-A5C1-495A-9F98-A4F87A40944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dt" idx="19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ftr" idx="20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sldNum" idx="21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4D635-9A68-4B5A-A418-DA33C9610A76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formatique S1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ogrammation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Objectif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roduction système bina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Représentation des caractère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SCI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Norme internationale pour la représentation des caractè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256 caractères y sont représen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hiffres 0 à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ttres de l’alphabet en majuscule et minuscu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aractères spéci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pace, *, /, \, &lt;, &gt;, !, ?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aractères de contrô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velle ligne, bip, tabulation, etc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Picture 5" descr="char"/>
          <p:cNvPicPr/>
          <p:nvPr/>
        </p:nvPicPr>
        <p:blipFill>
          <a:blip r:embed="rId1"/>
          <a:stretch/>
        </p:blipFill>
        <p:spPr>
          <a:xfrm>
            <a:off x="0" y="20520"/>
            <a:ext cx="9144000" cy="683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ype char en langage C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"/>
          <p:cNvSpPr txBox="1"/>
          <p:nvPr/>
        </p:nvSpPr>
        <p:spPr>
          <a:xfrm>
            <a:off x="285840" y="1357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présentation selon le code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ASCI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r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 = 'A'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;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rrespond   à   (int) c == 65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r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 = '0'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rrespond  à   (int) c  ==  4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TextBox 5"/>
          <p:cNvSpPr/>
          <p:nvPr/>
        </p:nvSpPr>
        <p:spPr>
          <a:xfrm>
            <a:off x="3214800" y="4500720"/>
            <a:ext cx="5429160" cy="17391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Rappel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Pour mentionner un char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on utilise ' ' :</a:t>
            </a:r>
            <a:br>
              <a:rPr sz="26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'a', 'b', '0', '1', '\n', '\t'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3" name="Isosceles Triangle 6"/>
          <p:cNvGrpSpPr/>
          <p:nvPr/>
        </p:nvGrpSpPr>
        <p:grpSpPr>
          <a:xfrm>
            <a:off x="2925720" y="4565520"/>
            <a:ext cx="1212840" cy="1054080"/>
            <a:chOff x="2925720" y="4565520"/>
            <a:chExt cx="1212840" cy="1054080"/>
          </a:xfrm>
        </p:grpSpPr>
        <p:pic>
          <p:nvPicPr>
            <p:cNvPr id="354" name="Isosceles Triangle 6" descr=""/>
            <p:cNvPicPr/>
            <p:nvPr/>
          </p:nvPicPr>
          <p:blipFill>
            <a:blip r:embed="rId1"/>
            <a:stretch/>
          </p:blipFill>
          <p:spPr>
            <a:xfrm>
              <a:off x="2925720" y="4565520"/>
              <a:ext cx="121284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5" name=""/>
            <p:cNvSpPr/>
            <p:nvPr/>
          </p:nvSpPr>
          <p:spPr>
            <a:xfrm>
              <a:off x="3268800" y="5108400"/>
              <a:ext cx="5349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écution d’un programm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de binai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« langage » compris par les machin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système d’exploitation interprète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 code bina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F9961-5845-4719-BFF5-DA4AE867BCA3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FBBC-02CC-466E-A502-EB23CD3F1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3" name="Group 23"/>
          <p:cNvGrpSpPr/>
          <p:nvPr/>
        </p:nvGrpSpPr>
        <p:grpSpPr>
          <a:xfrm>
            <a:off x="4572000" y="2714760"/>
            <a:ext cx="4197240" cy="3458520"/>
            <a:chOff x="4572000" y="2714760"/>
            <a:chExt cx="4197240" cy="3458520"/>
          </a:xfrm>
        </p:grpSpPr>
        <p:grpSp>
          <p:nvGrpSpPr>
            <p:cNvPr id="314" name="Group 13"/>
            <p:cNvGrpSpPr/>
            <p:nvPr/>
          </p:nvGrpSpPr>
          <p:grpSpPr>
            <a:xfrm>
              <a:off x="4572000" y="4140000"/>
              <a:ext cx="4197240" cy="2033280"/>
              <a:chOff x="4572000" y="4140000"/>
              <a:chExt cx="4197240" cy="2033280"/>
            </a:xfrm>
          </p:grpSpPr>
          <p:sp>
            <p:nvSpPr>
              <p:cNvPr id="315" name="Text Box 4"/>
              <p:cNvSpPr/>
              <p:nvPr/>
            </p:nvSpPr>
            <p:spPr>
              <a:xfrm>
                <a:off x="4572000" y="5652720"/>
                <a:ext cx="4197240" cy="520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ebf1de"/>
                    </a:solidFill>
                    <a:latin typeface="Calibri"/>
                  </a:rPr>
                  <a:t>Hardware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Text Box 6"/>
              <p:cNvSpPr/>
              <p:nvPr/>
            </p:nvSpPr>
            <p:spPr>
              <a:xfrm>
                <a:off x="4592520" y="5076360"/>
                <a:ext cx="4176360" cy="5205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ebf1de"/>
                    </a:solidFill>
                    <a:latin typeface="Calibri"/>
                  </a:rPr>
                  <a:t>Système d’exploitation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317" name="Group 12"/>
              <p:cNvGrpSpPr/>
              <p:nvPr/>
            </p:nvGrpSpPr>
            <p:grpSpPr>
              <a:xfrm>
                <a:off x="4592520" y="4140000"/>
                <a:ext cx="4176360" cy="865080"/>
                <a:chOff x="4592520" y="4140000"/>
                <a:chExt cx="4176360" cy="865080"/>
              </a:xfrm>
            </p:grpSpPr>
            <p:sp>
              <p:nvSpPr>
                <p:cNvPr id="318" name="Text Box 7"/>
                <p:cNvSpPr/>
                <p:nvPr/>
              </p:nvSpPr>
              <p:spPr>
                <a:xfrm>
                  <a:off x="4592520" y="4140000"/>
                  <a:ext cx="4176360" cy="5205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0000"/>
                      </a:solidFill>
                      <a:latin typeface="Calibri"/>
                    </a:rPr>
                    <a:t>Applications</a:t>
                  </a:r>
                  <a:endParaRPr b="0" lang="en-US" sz="2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19" name="Rectangle 8"/>
                <p:cNvSpPr/>
                <p:nvPr/>
              </p:nvSpPr>
              <p:spPr>
                <a:xfrm>
                  <a:off x="4592520" y="4644720"/>
                  <a:ext cx="1223280" cy="3585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0" name="Rectangle 9"/>
                <p:cNvSpPr/>
                <p:nvPr/>
              </p:nvSpPr>
              <p:spPr>
                <a:xfrm>
                  <a:off x="5888880" y="4644720"/>
                  <a:ext cx="115056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1" name="Rectangle 10"/>
                <p:cNvSpPr/>
                <p:nvPr/>
              </p:nvSpPr>
              <p:spPr>
                <a:xfrm>
                  <a:off x="7112880" y="4644720"/>
                  <a:ext cx="115056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322" name="Rectangle 11"/>
                <p:cNvSpPr/>
                <p:nvPr/>
              </p:nvSpPr>
              <p:spPr>
                <a:xfrm>
                  <a:off x="8336880" y="4644720"/>
                  <a:ext cx="43164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  <p:pic>
          <p:nvPicPr>
            <p:cNvPr id="323" name="Picture 20" descr="H6"/>
            <p:cNvPicPr/>
            <p:nvPr/>
          </p:nvPicPr>
          <p:blipFill>
            <a:blip r:embed="rId1"/>
            <a:stretch/>
          </p:blipFill>
          <p:spPr>
            <a:xfrm>
              <a:off x="7429320" y="2714760"/>
              <a:ext cx="10789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4" name="AutoShape 22"/>
            <p:cNvSpPr/>
            <p:nvPr/>
          </p:nvSpPr>
          <p:spPr>
            <a:xfrm rot="3520200">
              <a:off x="6649920" y="2961360"/>
              <a:ext cx="504720" cy="136620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255240 h 1366200"/>
                <a:gd name="textAreaBottom" fmla="*/ 996120 h 13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72" stAng="-5400000" swAng="-5400000"/>
                  <a:lnTo>
                    <a:pt x="0" y="11709"/>
                  </a:lnTo>
                  <a:arcTo wR="21600" hR="8072" stAng="10800000" swAng="-2795226"/>
                  <a:lnTo>
                    <a:pt x="14400" y="21138"/>
                  </a:lnTo>
                  <a:lnTo>
                    <a:pt x="21600" y="17963"/>
                  </a:lnTo>
                  <a:lnTo>
                    <a:pt x="14400" y="13863"/>
                  </a:lnTo>
                  <a:lnTo>
                    <a:pt x="14400" y="15682"/>
                  </a:lnTo>
                  <a:arcTo wR="21600" hR="8072" stAng="8004774" swAng="2498903"/>
                  <a:lnTo>
                    <a:pt x="555" y="9891"/>
                  </a:lnTo>
                  <a:arcTo wR="21600" hR="8072" stAng="-10503676" swAng="5103676"/>
                  <a:close/>
                </a:path>
                <a:path fill="darkenLess" w="21600" h="21600">
                  <a:moveTo>
                    <a:pt x="21600" y="0"/>
                  </a:moveTo>
                  <a:arcTo wR="21600" hR="8072" stAng="-5400000" swAng="-5400000"/>
                  <a:lnTo>
                    <a:pt x="0" y="8072"/>
                  </a:lnTo>
                  <a:arcTo wR="21600" hR="8072" stAng="10800000" swAng="-296324"/>
                  <a:lnTo>
                    <a:pt x="555" y="9891"/>
                  </a:lnTo>
                  <a:arcTo wR="21600" hR="8072" stAng="-10503676" swAng="5103676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5" name="TextBox 18"/>
          <p:cNvSpPr/>
          <p:nvPr/>
        </p:nvSpPr>
        <p:spPr>
          <a:xfrm>
            <a:off x="2007720" y="421488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6" name="Elbow Connector 20"/>
          <p:cNvCxnSpPr>
            <a:stCxn id="325" idx="3"/>
            <a:endCxn id="318" idx="1"/>
          </p:cNvCxnSpPr>
          <p:nvPr/>
        </p:nvCxnSpPr>
        <p:spPr>
          <a:xfrm>
            <a:off x="3382920" y="4398480"/>
            <a:ext cx="1210320" cy="1080"/>
          </a:xfrm>
          <a:prstGeom prst="bentConnector3">
            <a:avLst>
              <a:gd name="adj1" fmla="val 49985"/>
            </a:avLst>
          </a:prstGeom>
          <a:ln w="19080">
            <a:solidFill>
              <a:srgbClr val="be4b48"/>
            </a:solidFill>
            <a:miter/>
            <a:tailEnd len="med" type="arrow" w="med"/>
          </a:ln>
        </p:spPr>
      </p:cxnSp>
      <p:sp>
        <p:nvSpPr>
          <p:cNvPr id="327" name="TextBox 21"/>
          <p:cNvSpPr/>
          <p:nvPr/>
        </p:nvSpPr>
        <p:spPr>
          <a:xfrm>
            <a:off x="2118960" y="4857840"/>
            <a:ext cx="107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22"/>
          <p:cNvSpPr/>
          <p:nvPr/>
        </p:nvSpPr>
        <p:spPr>
          <a:xfrm>
            <a:off x="2314800" y="557208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29" name="Elbow Connector 24"/>
          <p:cNvCxnSpPr>
            <a:stCxn id="327" idx="3"/>
            <a:endCxn id="316" idx="1"/>
          </p:cNvCxnSpPr>
          <p:nvPr/>
        </p:nvCxnSpPr>
        <p:spPr>
          <a:xfrm>
            <a:off x="3254040" y="5041800"/>
            <a:ext cx="133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be4b48"/>
            </a:solidFill>
            <a:miter/>
            <a:tailEnd len="med" type="arrow" w="med"/>
          </a:ln>
        </p:spPr>
      </p:cxnSp>
      <p:cxnSp>
        <p:nvCxnSpPr>
          <p:cNvPr id="330" name="Elbow Connector 26"/>
          <p:cNvCxnSpPr>
            <a:stCxn id="328" idx="3"/>
            <a:endCxn id="316" idx="1"/>
          </p:cNvCxnSpPr>
          <p:nvPr/>
        </p:nvCxnSpPr>
        <p:spPr>
          <a:xfrm flipV="1">
            <a:off x="3056040" y="5334840"/>
            <a:ext cx="1537200" cy="421560"/>
          </a:xfrm>
          <a:prstGeom prst="bentConnector3">
            <a:avLst>
              <a:gd name="adj1" fmla="val 56711"/>
            </a:avLst>
          </a:prstGeom>
          <a:ln w="19080">
            <a:solidFill>
              <a:srgbClr val="be4b48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dage bin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4009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Toutes communications à l'intérieur de l'ordinateur sont faites avec des signaux électriqu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Pour simplicité et fiabilité, </a:t>
            </a:r>
            <a:r>
              <a:rPr b="0" lang="fr-FR" sz="3000" spc="-1" strike="noStrike">
                <a:solidFill>
                  <a:srgbClr val="1f497d"/>
                </a:solidFill>
                <a:latin typeface="Calibri"/>
              </a:rPr>
              <a:t>ces signaux ont deux états seulement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0 – éteint (absence de signal électrique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861840" indent="-28548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1 – allumé (présence de signal électrique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ne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unité d'information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ou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1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) est appelée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bi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(de l'anglais </a:t>
            </a:r>
            <a:r>
              <a:rPr b="0" i="1" lang="fr-FR" sz="3000" spc="-1" strike="noStrike">
                <a:solidFill>
                  <a:srgbClr val="000000"/>
                </a:solidFill>
                <a:latin typeface="Calibri"/>
              </a:rPr>
              <a:t>binary digit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imal X Bin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Le </a:t>
            </a:r>
            <a:r>
              <a:rPr b="0" lang="fr-FR" sz="3600" spc="-1" strike="noStrike">
                <a:solidFill>
                  <a:srgbClr val="1f497d"/>
                </a:solidFill>
                <a:latin typeface="Calibri"/>
              </a:rPr>
              <a:t>système décima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présentation : 10 symboles différ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0, 1, 2, 3, 4, 5, 6, 7, 8, 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Représentation d'un numéro (580)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centaines,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izaines,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un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quivalent mathématiqu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5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x10</a:t>
            </a:r>
            <a:r>
              <a:rPr b="0" lang="fr-FR" sz="2800" spc="-1" strike="noStrike" baseline="33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x10</a:t>
            </a:r>
            <a:r>
              <a:rPr b="0" lang="fr-FR" sz="2800" spc="-1" strike="noStrike" baseline="33000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x10</a:t>
            </a:r>
            <a:r>
              <a:rPr b="0" lang="fr-FR" sz="2800" spc="-1" strike="noStrike" baseline="33000">
                <a:solidFill>
                  <a:srgbClr val="000000"/>
                </a:solidFill>
                <a:latin typeface="Calibri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imal X Binai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1f497d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1f497d"/>
                </a:solidFill>
                <a:latin typeface="Calibri"/>
              </a:rPr>
              <a:t>Système binaire :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Calibri"/>
              </a:rPr>
              <a:t>Représentation  : 2 symboles  différents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0 (faux)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et 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1 (vrai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Calibri"/>
              </a:rPr>
              <a:t>Représentation  d'un numéro (</a:t>
            </a:r>
            <a:r>
              <a:rPr b="0" lang="fr-FR" sz="3300" spc="-1" strike="noStrike">
                <a:solidFill>
                  <a:srgbClr val="1f497d"/>
                </a:solidFill>
                <a:latin typeface="Calibri"/>
              </a:rPr>
              <a:t>6</a:t>
            </a:r>
            <a:r>
              <a:rPr b="0" lang="fr-FR" sz="3300" spc="-1" strike="noStrike">
                <a:solidFill>
                  <a:srgbClr val="000000"/>
                </a:solidFill>
                <a:latin typeface="Calibri"/>
              </a:rPr>
              <a:t>) 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110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4 +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2 +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0" lang="fr-FR" sz="3300" spc="-1" strike="noStrike">
                <a:solidFill>
                  <a:srgbClr val="000000"/>
                </a:solidFill>
                <a:latin typeface="Calibri"/>
              </a:rPr>
              <a:t>Équivalent mathématique 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2</a:t>
            </a:r>
            <a:r>
              <a:rPr b="0" lang="fr-FR" sz="3000" spc="-1" strike="noStrike" baseline="33000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2</a:t>
            </a:r>
            <a:r>
              <a:rPr b="0" lang="fr-FR" sz="3000" spc="-1" strike="noStrike" baseline="33000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+ </a:t>
            </a:r>
            <a:r>
              <a:rPr b="1" lang="fr-FR" sz="3000" spc="-1" strike="noStrike">
                <a:solidFill>
                  <a:srgbClr val="000000"/>
                </a:solidFill>
                <a:latin typeface="Calibri"/>
              </a:rPr>
              <a:t>0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x2</a:t>
            </a:r>
            <a:r>
              <a:rPr b="0" lang="fr-FR" sz="3000" spc="-1" strike="noStrike" baseline="33000">
                <a:solidFill>
                  <a:srgbClr val="000000"/>
                </a:solidFill>
                <a:latin typeface="Calibri"/>
              </a:rPr>
              <a:t>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Bits, Bytes, octets, etc..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bit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– une unité binaire (0 ou 1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octet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(ou </a:t>
            </a: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Byte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) – groupe de 8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Kilo-octets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(Ko) – 1024 octe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Méga-octets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 (Mo) – 1024Ko - 1048576 oct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Giga-octets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(Go) – 1024 Mo - 1073741824 octe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Pourquoi 1Ko ≠ 1000 octet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Calibri"/>
              </a:rPr>
              <a:t>Encore, à cause de la base binair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5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i="1" lang="fr-FR" sz="2500" spc="-1" strike="noStrike" baseline="30000">
                <a:solidFill>
                  <a:srgbClr val="000000"/>
                </a:solidFill>
                <a:latin typeface="Calibri"/>
              </a:rPr>
              <a:t>10</a:t>
            </a:r>
            <a:r>
              <a:rPr b="0" i="1" lang="fr-FR" sz="2500" spc="-1" strike="noStrike">
                <a:solidFill>
                  <a:srgbClr val="000000"/>
                </a:solidFill>
                <a:latin typeface="Calibri"/>
              </a:rPr>
              <a:t> = 1024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aille des types des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285840" y="1689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16bit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alibri"/>
              </a:rPr>
              <a:t>16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possibilité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-32768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 +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3276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short   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8bit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alibri"/>
              </a:rPr>
              <a:t>8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possibilit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-128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  +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12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long   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2bits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2</a:t>
            </a:r>
            <a:r>
              <a:rPr b="0" lang="fr-FR" sz="2800" spc="-1" strike="noStrike" baseline="30000">
                <a:solidFill>
                  <a:srgbClr val="000000"/>
                </a:solidFill>
                <a:latin typeface="Calibri"/>
              </a:rPr>
              <a:t>32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possibilité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e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-2147483648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 +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214748364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TextBox 4"/>
          <p:cNvSpPr/>
          <p:nvPr/>
        </p:nvSpPr>
        <p:spPr>
          <a:xfrm>
            <a:off x="5876640" y="2428920"/>
            <a:ext cx="2868840" cy="2043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unsign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(sans signal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unsigned sho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e 0 à 25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aille des types des donn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549360" y="1599840"/>
            <a:ext cx="8045280" cy="26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lo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2 bit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Jusqu’à 3.4e+38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dou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64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14440" y="4500360"/>
            <a:ext cx="8115120" cy="1625400"/>
          </a:xfrm>
          <a:prstGeom prst="rect">
            <a:avLst/>
          </a:prstGeom>
          <a:solidFill>
            <a:srgbClr val="dce6f2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ha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8 b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256 caractèr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Représentation du type cha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"/>
          <p:cNvSpPr txBox="1"/>
          <p:nvPr/>
        </p:nvSpPr>
        <p:spPr>
          <a:xfrm>
            <a:off x="457200" y="1356840"/>
            <a:ext cx="8229600" cy="476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a représentation des caractères par une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séquence de bits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mme pour les numéros entier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’est l’indication du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type des donné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qui permet de faire la différence entre eux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l faut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code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les caractères (chiffres, lettres et autres symboles) sous un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orma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qui peut être reconnu par tous les ordinat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ASCII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655560"/>
                <a:tab algn="l" pos="1312920"/>
                <a:tab algn="l" pos="1968480"/>
                <a:tab algn="l" pos="2625840"/>
                <a:tab algn="l" pos="3282840"/>
                <a:tab algn="l" pos="3938760"/>
                <a:tab algn="l" pos="4594320"/>
                <a:tab algn="l" pos="5253120"/>
                <a:tab algn="l" pos="5908680"/>
                <a:tab algn="l" pos="6562800"/>
                <a:tab algn="l" pos="7219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UNICOD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3T15:31:12Z</dcterms:created>
  <dc:creator>kirsch</dc:creator>
  <dc:description/>
  <dc:language>en-US</dc:language>
  <cp:lastModifiedBy>kirsch</cp:lastModifiedBy>
  <dcterms:modified xsi:type="dcterms:W3CDTF">2008-11-23T17:40:13Z</dcterms:modified>
  <cp:revision>15</cp:revision>
  <dc:subject/>
  <dc:title>Informatique S1 Programmation C</dc:title>
</cp:coreProperties>
</file>