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AD2F-B3E4-4A54-BB74-2DE7E890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00DAA-6793-4F1E-869B-83F3274A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2FAFF-AE76-43F2-8E98-10358A171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5E1B-1BD2-4420-ADB6-E30D31A57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2D437-80DE-4F52-853C-3AD1BA1F5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5C35-AB35-47C6-9AC5-5D60D060D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783DF-0850-461F-83F0-C214A4954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DE020-78A3-4FC1-8ABD-A4C9D025E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0BEE-D3F2-424E-9CE0-7505E9E9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51827-C3D1-41AC-990A-BD1AA0267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42667-6062-490B-B9F6-266E8D190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8C2C-78CB-4E90-A06D-3B1958109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43F2F-E0EF-4D1E-A527-FED2B7C64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ACB26-61B1-4F47-B4EB-3F7C3146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6709D-FE17-47D5-9B49-7DD62A83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310C8-6EE0-4370-8ED6-B2A09001B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44109-619F-4670-AF37-C4CD5DB5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99841-8E24-46D2-9E17-0C43E5B1B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704020-C41F-4733-A9E6-DF13171D3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17057-20E7-4A8A-9578-F364ED1C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E3D02D-1E5B-422D-B476-DA91B3645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D1DCEE-0A59-4FCF-A802-8F078942D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24602-ADAD-4ADA-A891-1FA8E380C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C44E2-28D6-44A3-8084-F3DFF3066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9389C4-770C-42E7-A348-20C3F92F3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91BD3B-69D9-4217-98B5-D4C74DAC6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BF71D-FA9F-42AA-849D-922F11326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5133E-0291-4EC1-8DE1-F017786B9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663E0A-5376-49F3-A7C0-F820E41A0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F78A77-0375-48A4-B152-D0FAF9BDF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3BF03-A93C-4CE0-A356-C88673537F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DCB01-9CBC-4249-8735-6A0895D5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F65483-3810-4B15-862C-FE0AD8ADD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DDB05-D833-4E1C-8B21-45DE37A2BE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89A9F1-935E-4DC5-82B7-757FF1705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852177-1029-4B97-8373-183E42366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3776E2-870C-43FF-A227-9FBBC117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C7934F-3D65-4A20-8103-E2ADAD20F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0D2F38-A2B6-4530-9B8A-52B456EC5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C0840F-0F6D-4F5F-87E2-AA5901F86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93DFAA-9254-4B6A-9E81-AD7357372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85033F-9005-4EE3-AA4B-833975EAD6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69A67-1F99-4283-89F9-52869E0BA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BA030C-48F9-4EF8-A65D-A76B4248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E83E-5995-4E0F-9AA1-B9A5E781B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FB057-4DF6-493A-BF00-1B70D561D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562D43-0662-4B7A-92FA-DFCFDC5D0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C0CF0-638E-4DF3-8689-8D084F0D7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556AE4-3B29-49DC-91C6-00FA42CF9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07C863-D747-44F1-B412-D551A8EE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DD8923-46AF-40CD-82A0-DC2A6FFC4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C488DB-FEC7-40D8-BE93-F1661F822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F3AFA-EAB3-4936-9C58-9CB4422E7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AA88FD-133D-42EF-B1DE-CB57F3AF0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8B36A5-E332-4605-B637-21FE4EEF1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582C-B606-4FDB-AEBD-C6873E2C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FE52CC-7173-48D1-903E-B357236CDF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972FE4-AF59-44C7-9B48-2739C2EED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6B44AD3-9246-412A-AD9A-4D2F14B78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CA965-C489-42D4-9C92-73B95C3D2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A609A-E378-4ECC-BADA-E292F4C1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45BCBE-995F-4F8A-B70F-7D8FBDFF8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1357200" y="274320"/>
            <a:ext cx="73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41067C-21D9-4C2E-AA35-328BE1DEA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A7D060-E201-4298-9879-EF9E67310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7F5A5-D211-47D0-9A4D-E6D3176D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6CDCA5-2CED-4308-A51D-CD4199B27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273B-131D-4491-B706-31DDE978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63F2AF-6B94-4A54-A6C6-0B15EA776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762617B-6F44-4C56-95B4-460F7005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6F27AF-1EB7-46D6-802F-79777F1BB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B9CD9-ECCE-4490-958F-B2A646E3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992C-C8F3-4A9D-B39A-2942D4F5B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B11E-2CF2-4A46-9E3B-2F9C8DAC7D70}" type="datetime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Informatique (Programmation C) - Manuele Kirsch Pinhei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F11B0-435C-458F-9B49-0836B62BFBA8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logo_paris1.png"/>
          <p:cNvPicPr/>
          <p:nvPr/>
        </p:nvPicPr>
        <p:blipFill>
          <a:blip r:embed="rId3"/>
          <a:stretch/>
        </p:blipFill>
        <p:spPr>
          <a:xfrm>
            <a:off x="142920" y="214200"/>
            <a:ext cx="2143080" cy="14288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47735-8D8F-468B-9EDE-7127C4CFF32B}" type="datetime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Informatique (Programmation C) - Manuele Kirsch Pinhei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E4902-08F2-461D-BA61-BFEB27D2F63C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D4528-9DE5-4874-BF6C-CC417BCFAC04}" type="datetime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Informatique (Programmation C) - Manuele Kirsch Pinhei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DB230-FE2D-44B2-B314-2E2D10EB6FFB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39DE9-37F1-4C9E-A3F3-F8AB6D5676DD}" type="datetime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Informatique (Programmation C) - Manuele Kirsch Pinhei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79B00-8E1F-42BA-943E-BA4C4F1C52F7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C5BFC-BBCC-4AAD-BBE5-7414F8AF1F58}" type="datetime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Informatique (Programmation C) - Manuele Kirsch Pinhei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4B0A7-5450-42AD-914B-7D33FDEAFCEC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Picture 6" descr="logo_paris1.png"/>
          <p:cNvPicPr/>
          <p:nvPr/>
        </p:nvPicPr>
        <p:blipFill>
          <a:blip r:embed="rId2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7" descr="logo_paris1.png"/>
          <p:cNvPicPr/>
          <p:nvPr/>
        </p:nvPicPr>
        <p:blipFill>
          <a:blip r:embed="rId3"/>
          <a:stretch/>
        </p:blipFill>
        <p:spPr>
          <a:xfrm>
            <a:off x="0" y="71280"/>
            <a:ext cx="1285920" cy="85752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C6F95-FA04-46C7-ADA3-AA08F51F110C}" type="datetime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Informatique (Programmation C) - Manuele Kirsch Pinhei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C2F13-44CF-41B7-9C0D-8AFB5AC203CD}" type="slidenum">
              <a:rPr b="0" lang="fr-FR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357200" y="27432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1f497d"/>
                </a:solidFill>
                <a:latin typeface="Arial"/>
              </a:rPr>
              <a:t>Informatique S1</a:t>
            </a:r>
            <a:br>
              <a:rPr sz="4000"/>
            </a:br>
            <a:r>
              <a:rPr b="0" lang="fr-FR" sz="4000" spc="-1" strike="noStrike">
                <a:solidFill>
                  <a:srgbClr val="1f497d"/>
                </a:solidFill>
                <a:latin typeface="Arial"/>
              </a:rPr>
              <a:t>Programmation 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1f497d"/>
                </a:solidFill>
                <a:latin typeface="Arial"/>
              </a:rPr>
              <a:t>Objectif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roduction à l’algorithmi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Introduction au langage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1f497d"/>
                </a:solidFill>
                <a:latin typeface="Arial"/>
              </a:rPr>
              <a:t>Organis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M : 12 séances de 1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TD : 12 séances de 2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Arial"/>
              </a:rPr>
              <a:t>Présence obligatoire sur les T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1f497d"/>
                </a:solidFill>
                <a:latin typeface="Arial"/>
              </a:rPr>
              <a:t>Évaluation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50% examen, 50% contrôle contin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Contrôle continu (T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Interrogations surprises (QC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Devoir l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Particip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A72DA-C974-40BE-9B3E-7D6BEDB1ED86}" type="datetime">
              <a:rPr b="0" lang="fr-FR" sz="1200" spc="-1" strike="noStrike">
                <a:solidFill>
                  <a:srgbClr val="898989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8F869-1D08-442B-BCBE-301AA596E9D1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Informatique (Programmation C) - Manuele Kirsch Pinhe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" name="TextBox 6"/>
          <p:cNvGrpSpPr/>
          <p:nvPr/>
        </p:nvGrpSpPr>
        <p:grpSpPr>
          <a:xfrm>
            <a:off x="4701960" y="1457280"/>
            <a:ext cx="4471920" cy="2333520"/>
            <a:chOff x="4701960" y="1457280"/>
            <a:chExt cx="4471920" cy="2333520"/>
          </a:xfrm>
        </p:grpSpPr>
        <p:pic>
          <p:nvPicPr>
            <p:cNvPr id="263" name="TextBox 6" descr=""/>
            <p:cNvPicPr/>
            <p:nvPr/>
          </p:nvPicPr>
          <p:blipFill>
            <a:blip r:embed="rId1"/>
            <a:stretch/>
          </p:blipFill>
          <p:spPr>
            <a:xfrm>
              <a:off x="4701960" y="1457280"/>
              <a:ext cx="4471920" cy="2333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" name=""/>
            <p:cNvSpPr/>
            <p:nvPr/>
          </p:nvSpPr>
          <p:spPr>
            <a:xfrm rot="20286600">
              <a:off x="4668120" y="2250720"/>
              <a:ext cx="4223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ffffff"/>
                  </a:solidFill>
                  <a:latin typeface="Arial"/>
                </a:rPr>
                <a:t>http://epi.univ-paris1.fr/masslic1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1f497d"/>
                </a:solidFill>
                <a:latin typeface="Arial"/>
              </a:rPr>
              <a:t>Algorithmiqu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f497d"/>
                </a:solidFill>
                <a:latin typeface="Arial"/>
              </a:rPr>
              <a:t>Algorith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Suite finie des pas à effectuer, dans un ordre donnée, afin de parvenir à un résult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ctions pour résoudre un problè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Exemple : Changer une ampou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Quels sont les pas à effectuer pour changer une ampoule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4C79-983E-43FB-92C8-3F5A4C25D730}" type="datetime">
              <a:rPr b="0" lang="fr-FR" sz="1200" spc="-1" strike="noStrike">
                <a:solidFill>
                  <a:srgbClr val="898989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Informatique (Programmation C) - Manuele Kirsch Pinhe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B54F-34FB-4117-950D-B9972D0C936C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1f497d"/>
                </a:solidFill>
                <a:latin typeface="Arial"/>
              </a:rPr>
              <a:t>Algorith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f497d"/>
                </a:solidFill>
                <a:latin typeface="Arial"/>
              </a:rPr>
              <a:t>Program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Implémentation d’un algorithme à l’aide d’un langage de program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’algorithme est la « recette » du programm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E1EC-E804-415D-89A0-5A39DDBACE66}" type="datetime">
              <a:rPr b="0" lang="fr-FR" sz="1200" spc="-1" strike="noStrike">
                <a:solidFill>
                  <a:srgbClr val="898989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Informatique (Programmation C) - Manuele Kirsch Pinhe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0E09-26C0-4E37-BA02-847C9776892F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1f497d"/>
                </a:solidFill>
                <a:latin typeface="Arial"/>
              </a:rPr>
              <a:t>Langage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f497d"/>
                </a:solidFill>
                <a:latin typeface="Arial"/>
              </a:rPr>
              <a:t>Historiq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réation en 1972 par Denis Ritchie (entre autres) avec l’objectif d’écrire un système d’exploitation (Unix, le « grand-père » de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Résultat : un langage performant et versatile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E7AE9-CADC-489B-9BED-24B7FB2A7002}" type="datetime">
              <a:rPr b="0" lang="fr-FR" sz="1200" spc="-1" strike="noStrike">
                <a:solidFill>
                  <a:srgbClr val="898989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Informatique (Programmation C) - Manuele Kirsch Pinhe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2BA5-B634-4256-89BC-64137919B7AA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1f497d"/>
                </a:solidFill>
                <a:latin typeface="Arial"/>
              </a:rPr>
              <a:t>Langage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1f497d"/>
                </a:solidFill>
                <a:latin typeface="Arial"/>
              </a:rPr>
              <a:t>Évolu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langage C a bien évolué dans le tem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78 : Kernighan &amp; Ritchi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Années 80 : standardisation ANSI 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B10732-27DE-4F8D-AA7E-48C2A58AB042}" type="datetime">
              <a:rPr b="0" lang="fr-FR" sz="1200" spc="-1" strike="noStrike">
                <a:solidFill>
                  <a:srgbClr val="898989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Informatique (Programmation C) - Manuele Kirsch Pinhe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1931F-7BD5-4EA8-832E-49C7C189153D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1f497d"/>
                </a:solidFill>
                <a:latin typeface="Arial"/>
              </a:rPr>
              <a:t>Langage C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00040" y="1356840"/>
            <a:ext cx="8229600" cy="26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Comment ça marche ?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Le C est un langage compil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écrit le programme (</a:t>
            </a:r>
            <a:r>
              <a:rPr b="0" lang="fr-FR" sz="2000" spc="-1" strike="noStrike">
                <a:solidFill>
                  <a:srgbClr val="1f497d"/>
                </a:solidFill>
                <a:latin typeface="Arial"/>
              </a:rPr>
              <a:t>code source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) avec un éditer de texte non-formaté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passe le code source au </a:t>
            </a:r>
            <a:r>
              <a:rPr b="0" lang="fr-FR" sz="2000" spc="-1" strike="noStrike">
                <a:solidFill>
                  <a:srgbClr val="1f497d"/>
                </a:solidFill>
                <a:latin typeface="Arial"/>
              </a:rPr>
              <a:t>compilateu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On exécute le </a:t>
            </a:r>
            <a:r>
              <a:rPr b="0" lang="fr-FR" sz="2000" spc="-1" strike="noStrike">
                <a:solidFill>
                  <a:srgbClr val="1f497d"/>
                </a:solidFill>
                <a:latin typeface="Arial"/>
              </a:rPr>
              <a:t>code binaire </a:t>
            </a: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(le programm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9C0E8-F3C9-4F51-8FEA-5790B58C6289}" type="datetime">
              <a:rPr b="0" lang="fr-FR" sz="1200" spc="-1" strike="noStrike">
                <a:solidFill>
                  <a:srgbClr val="898989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Informatique (Programmation C) - Manuele Kirsch Pinhe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BD3E-90AF-468B-B448-CD825EB28504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0" name="TextBox 6"/>
          <p:cNvGrpSpPr/>
          <p:nvPr/>
        </p:nvGrpSpPr>
        <p:grpSpPr>
          <a:xfrm>
            <a:off x="828720" y="4359240"/>
            <a:ext cx="963720" cy="998640"/>
            <a:chOff x="828720" y="4359240"/>
            <a:chExt cx="963720" cy="998640"/>
          </a:xfrm>
        </p:grpSpPr>
        <p:pic>
          <p:nvPicPr>
            <p:cNvPr id="291" name="TextBox 6" descr=""/>
            <p:cNvPicPr/>
            <p:nvPr/>
          </p:nvPicPr>
          <p:blipFill>
            <a:blip r:embed="rId1"/>
            <a:stretch/>
          </p:blipFill>
          <p:spPr>
            <a:xfrm>
              <a:off x="828720" y="4359240"/>
              <a:ext cx="96372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904680" y="4429080"/>
              <a:ext cx="66852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nclude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Main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{ print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  …</a:t>
              </a:r>
              <a:r>
                <a:rPr b="0" lang="fr-FR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. … 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}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3" name="TextBox 7"/>
          <p:cNvSpPr/>
          <p:nvPr/>
        </p:nvSpPr>
        <p:spPr>
          <a:xfrm>
            <a:off x="622800" y="5259240"/>
            <a:ext cx="1354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ramme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de sour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4" name="Cloud 8"/>
          <p:cNvGrpSpPr/>
          <p:nvPr/>
        </p:nvGrpSpPr>
        <p:grpSpPr>
          <a:xfrm>
            <a:off x="2712960" y="4352760"/>
            <a:ext cx="1292400" cy="1005120"/>
            <a:chOff x="2712960" y="4352760"/>
            <a:chExt cx="1292400" cy="1005120"/>
          </a:xfrm>
        </p:grpSpPr>
        <p:pic>
          <p:nvPicPr>
            <p:cNvPr id="295" name="Cloud 8" descr=""/>
            <p:cNvPicPr/>
            <p:nvPr/>
          </p:nvPicPr>
          <p:blipFill>
            <a:blip r:embed="rId2"/>
            <a:stretch/>
          </p:blipFill>
          <p:spPr>
            <a:xfrm>
              <a:off x="2712960" y="4352760"/>
              <a:ext cx="1292400" cy="100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6" name=""/>
            <p:cNvSpPr/>
            <p:nvPr/>
          </p:nvSpPr>
          <p:spPr>
            <a:xfrm>
              <a:off x="2924280" y="4533840"/>
              <a:ext cx="652320" cy="46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7" name="TextBox 9"/>
          <p:cNvSpPr/>
          <p:nvPr/>
        </p:nvSpPr>
        <p:spPr>
          <a:xfrm>
            <a:off x="2478240" y="5354640"/>
            <a:ext cx="1780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gcc Programme.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mpilateu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8" name="TextBox 10"/>
          <p:cNvGrpSpPr/>
          <p:nvPr/>
        </p:nvGrpSpPr>
        <p:grpSpPr>
          <a:xfrm>
            <a:off x="4925880" y="4359240"/>
            <a:ext cx="1030320" cy="998640"/>
            <a:chOff x="4925880" y="4359240"/>
            <a:chExt cx="1030320" cy="998640"/>
          </a:xfrm>
        </p:grpSpPr>
        <p:pic>
          <p:nvPicPr>
            <p:cNvPr id="299" name="TextBox 10" descr=""/>
            <p:cNvPicPr/>
            <p:nvPr/>
          </p:nvPicPr>
          <p:blipFill>
            <a:blip r:embed="rId3"/>
            <a:stretch/>
          </p:blipFill>
          <p:spPr>
            <a:xfrm>
              <a:off x="4925880" y="4359240"/>
              <a:ext cx="1030320" cy="998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0" name=""/>
            <p:cNvSpPr/>
            <p:nvPr/>
          </p:nvSpPr>
          <p:spPr>
            <a:xfrm>
              <a:off x="5002560" y="4429080"/>
              <a:ext cx="72936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10110101</a:t>
              </a:r>
              <a:br>
                <a:rPr sz="800"/>
              </a:br>
              <a:r>
                <a:rPr b="0" lang="fr-FR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1011100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011010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00110110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8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110110111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TextBox 11"/>
          <p:cNvSpPr/>
          <p:nvPr/>
        </p:nvSpPr>
        <p:spPr>
          <a:xfrm>
            <a:off x="4553280" y="5354640"/>
            <a:ext cx="156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ramme.ex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de binai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2" descr="laptop1.jpeg"/>
          <p:cNvPicPr/>
          <p:nvPr/>
        </p:nvPicPr>
        <p:blipFill>
          <a:blip r:embed="rId4"/>
          <a:stretch/>
        </p:blipFill>
        <p:spPr>
          <a:xfrm>
            <a:off x="6823080" y="4330800"/>
            <a:ext cx="1171440" cy="904680"/>
          </a:xfrm>
          <a:prstGeom prst="rect">
            <a:avLst/>
          </a:prstGeom>
          <a:ln w="0">
            <a:noFill/>
          </a:ln>
        </p:spPr>
      </p:pic>
      <p:sp>
        <p:nvSpPr>
          <p:cNvPr id="303" name="TextBox 13"/>
          <p:cNvSpPr/>
          <p:nvPr/>
        </p:nvSpPr>
        <p:spPr>
          <a:xfrm>
            <a:off x="6625080" y="5354640"/>
            <a:ext cx="1567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écution du </a:t>
            </a:r>
            <a:br>
              <a:rPr sz="1400"/>
            </a:br>
            <a:r>
              <a:rPr b="0" lang="fr-FR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gramm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Curved Down Arrow 14"/>
          <p:cNvGrpSpPr/>
          <p:nvPr/>
        </p:nvGrpSpPr>
        <p:grpSpPr>
          <a:xfrm>
            <a:off x="1712880" y="4286160"/>
            <a:ext cx="1206360" cy="577800"/>
            <a:chOff x="1712880" y="4286160"/>
            <a:chExt cx="1206360" cy="577800"/>
          </a:xfrm>
        </p:grpSpPr>
        <p:pic>
          <p:nvPicPr>
            <p:cNvPr id="305" name="Curved Down Arrow 14" descr=""/>
            <p:cNvPicPr/>
            <p:nvPr/>
          </p:nvPicPr>
          <p:blipFill>
            <a:blip r:embed="rId5"/>
            <a:stretch/>
          </p:blipFill>
          <p:spPr>
            <a:xfrm>
              <a:off x="1712880" y="4286160"/>
              <a:ext cx="120636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6" name=""/>
            <p:cNvSpPr/>
            <p:nvPr/>
          </p:nvSpPr>
          <p:spPr>
            <a:xfrm>
              <a:off x="1785960" y="4357800"/>
              <a:ext cx="9288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Curved Down Arrow 15"/>
          <p:cNvGrpSpPr/>
          <p:nvPr/>
        </p:nvGrpSpPr>
        <p:grpSpPr>
          <a:xfrm>
            <a:off x="3859200" y="4286160"/>
            <a:ext cx="1206360" cy="577800"/>
            <a:chOff x="3859200" y="4286160"/>
            <a:chExt cx="1206360" cy="577800"/>
          </a:xfrm>
        </p:grpSpPr>
        <p:pic>
          <p:nvPicPr>
            <p:cNvPr id="308" name="Curved Down Arrow 15" descr=""/>
            <p:cNvPicPr/>
            <p:nvPr/>
          </p:nvPicPr>
          <p:blipFill>
            <a:blip r:embed="rId6"/>
            <a:stretch/>
          </p:blipFill>
          <p:spPr>
            <a:xfrm>
              <a:off x="3859200" y="4286160"/>
              <a:ext cx="1206360" cy="57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9" name=""/>
            <p:cNvSpPr/>
            <p:nvPr/>
          </p:nvSpPr>
          <p:spPr>
            <a:xfrm>
              <a:off x="3929040" y="4357800"/>
              <a:ext cx="928800" cy="28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Striped Right Arrow 16"/>
          <p:cNvGrpSpPr/>
          <p:nvPr/>
        </p:nvGrpSpPr>
        <p:grpSpPr>
          <a:xfrm>
            <a:off x="5924520" y="4559400"/>
            <a:ext cx="939960" cy="664920"/>
            <a:chOff x="5924520" y="4559400"/>
            <a:chExt cx="939960" cy="664920"/>
          </a:xfrm>
        </p:grpSpPr>
        <p:pic>
          <p:nvPicPr>
            <p:cNvPr id="311" name="Striped Right Arrow 16" descr=""/>
            <p:cNvPicPr/>
            <p:nvPr/>
          </p:nvPicPr>
          <p:blipFill>
            <a:blip r:embed="rId7"/>
            <a:stretch/>
          </p:blipFill>
          <p:spPr>
            <a:xfrm>
              <a:off x="5924520" y="4559400"/>
              <a:ext cx="939960" cy="66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12" name=""/>
            <p:cNvSpPr/>
            <p:nvPr/>
          </p:nvSpPr>
          <p:spPr>
            <a:xfrm>
              <a:off x="6056280" y="4732200"/>
              <a:ext cx="498600" cy="179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1357200" y="142560"/>
            <a:ext cx="73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1f497d"/>
                </a:solidFill>
                <a:latin typeface="Arial"/>
              </a:rPr>
              <a:t>Exécution d’un programm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7200" y="1600200"/>
            <a:ext cx="8229600" cy="24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de binai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« langage » compris par les mach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système d’exploitation interprète </a:t>
            </a:r>
            <a:br>
              <a:rPr sz="2800"/>
            </a:b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le code binai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Unité : </a:t>
            </a:r>
            <a:r>
              <a:rPr b="0" lang="fr-FR" sz="2800" spc="-1" strike="noStrike" u="sng">
                <a:solidFill>
                  <a:srgbClr val="000000"/>
                </a:solidFill>
                <a:uFillTx/>
                <a:latin typeface="Arial"/>
              </a:rPr>
              <a:t>b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4D281-FF39-45EB-9DE7-61993734B957}" type="datetime">
              <a:rPr b="0" lang="fr-FR" sz="1200" spc="-1" strike="noStrike">
                <a:solidFill>
                  <a:srgbClr val="898989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Arial"/>
              </a:rPr>
              <a:t>Informatique (Programmation C) - Manuele Kirsch Pinheir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3D2B-84F3-4295-ACD2-3740396B2E53}" type="slidenum">
              <a:rPr b="0" lang="fr-F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8" name="Group 23"/>
          <p:cNvGrpSpPr/>
          <p:nvPr/>
        </p:nvGrpSpPr>
        <p:grpSpPr>
          <a:xfrm>
            <a:off x="4572000" y="2714760"/>
            <a:ext cx="4197240" cy="3458520"/>
            <a:chOff x="4572000" y="2714760"/>
            <a:chExt cx="4197240" cy="3458520"/>
          </a:xfrm>
        </p:grpSpPr>
        <p:grpSp>
          <p:nvGrpSpPr>
            <p:cNvPr id="319" name="Group 13"/>
            <p:cNvGrpSpPr/>
            <p:nvPr/>
          </p:nvGrpSpPr>
          <p:grpSpPr>
            <a:xfrm>
              <a:off x="4572000" y="4140000"/>
              <a:ext cx="4197240" cy="2033280"/>
              <a:chOff x="4572000" y="4140000"/>
              <a:chExt cx="4197240" cy="2033280"/>
            </a:xfrm>
          </p:grpSpPr>
          <p:sp>
            <p:nvSpPr>
              <p:cNvPr id="320" name="Text Box 4"/>
              <p:cNvSpPr/>
              <p:nvPr/>
            </p:nvSpPr>
            <p:spPr>
              <a:xfrm>
                <a:off x="4572000" y="5652720"/>
                <a:ext cx="4197240" cy="520560"/>
              </a:xfrm>
              <a:prstGeom prst="rect">
                <a:avLst/>
              </a:prstGeom>
              <a:solidFill>
                <a:srgbClr val="0000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ebf1de"/>
                    </a:solidFill>
                    <a:latin typeface="Arial"/>
                  </a:rPr>
                  <a:t>Hardware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" name="Text Box 6"/>
              <p:cNvSpPr/>
              <p:nvPr/>
            </p:nvSpPr>
            <p:spPr>
              <a:xfrm>
                <a:off x="4592520" y="5076360"/>
                <a:ext cx="4176360" cy="520560"/>
              </a:xfrm>
              <a:prstGeom prst="rect">
                <a:avLst/>
              </a:prstGeom>
              <a:solidFill>
                <a:srgbClr val="9933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800" spc="-1" strike="noStrike">
                    <a:solidFill>
                      <a:srgbClr val="ebf1de"/>
                    </a:solidFill>
                    <a:latin typeface="Arial"/>
                  </a:rPr>
                  <a:t>Système d’exploitation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22" name="Group 12"/>
              <p:cNvGrpSpPr/>
              <p:nvPr/>
            </p:nvGrpSpPr>
            <p:grpSpPr>
              <a:xfrm>
                <a:off x="4592520" y="4140000"/>
                <a:ext cx="4176360" cy="865080"/>
                <a:chOff x="4592520" y="4140000"/>
                <a:chExt cx="4176360" cy="865080"/>
              </a:xfrm>
            </p:grpSpPr>
            <p:sp>
              <p:nvSpPr>
                <p:cNvPr id="323" name="Text Box 7"/>
                <p:cNvSpPr/>
                <p:nvPr/>
              </p:nvSpPr>
              <p:spPr>
                <a:xfrm>
                  <a:off x="4592520" y="4140000"/>
                  <a:ext cx="4176360" cy="520560"/>
                </a:xfrm>
                <a:prstGeom prst="rect">
                  <a:avLst/>
                </a:prstGeom>
                <a:solidFill>
                  <a:srgbClr val="cccc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800" spc="-1" strike="noStrike">
                      <a:solidFill>
                        <a:srgbClr val="000000"/>
                      </a:solidFill>
                      <a:latin typeface="Arial"/>
                    </a:rPr>
                    <a:t>Applications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Rectangle 8"/>
                <p:cNvSpPr/>
                <p:nvPr/>
              </p:nvSpPr>
              <p:spPr>
                <a:xfrm>
                  <a:off x="4592520" y="4644720"/>
                  <a:ext cx="1223280" cy="3585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Rectangle 9"/>
                <p:cNvSpPr/>
                <p:nvPr/>
              </p:nvSpPr>
              <p:spPr>
                <a:xfrm>
                  <a:off x="5888880" y="4644720"/>
                  <a:ext cx="1150560" cy="3603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Rectangle 10"/>
                <p:cNvSpPr/>
                <p:nvPr/>
              </p:nvSpPr>
              <p:spPr>
                <a:xfrm>
                  <a:off x="7112880" y="4644720"/>
                  <a:ext cx="1150560" cy="3603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Rectangle 11"/>
                <p:cNvSpPr/>
                <p:nvPr/>
              </p:nvSpPr>
              <p:spPr>
                <a:xfrm>
                  <a:off x="8336880" y="4644720"/>
                  <a:ext cx="431640" cy="360360"/>
                </a:xfrm>
                <a:prstGeom prst="rect">
                  <a:avLst/>
                </a:prstGeom>
                <a:solidFill>
                  <a:srgbClr val="9999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pic>
          <p:nvPicPr>
            <p:cNvPr id="328" name="Picture 20" descr="H6"/>
            <p:cNvPicPr/>
            <p:nvPr/>
          </p:nvPicPr>
          <p:blipFill>
            <a:blip r:embed="rId1"/>
            <a:stretch/>
          </p:blipFill>
          <p:spPr>
            <a:xfrm>
              <a:off x="7429320" y="2714760"/>
              <a:ext cx="1078920" cy="1357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9" name="AutoShape 22"/>
            <p:cNvSpPr/>
            <p:nvPr/>
          </p:nvSpPr>
          <p:spPr>
            <a:xfrm rot="3520200">
              <a:off x="6649920" y="2961360"/>
              <a:ext cx="504720" cy="1366200"/>
            </a:xfrm>
            <a:custGeom>
              <a:avLst/>
              <a:gdLst>
                <a:gd name="textAreaLeft" fmla="*/ 67320 w 504720"/>
                <a:gd name="textAreaRight" fmla="*/ 437400 w 504720"/>
                <a:gd name="textAreaTop" fmla="*/ 255240 h 1366200"/>
                <a:gd name="textAreaBottom" fmla="*/ 996120 h 136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arcTo wR="21600" hR="8072" stAng="-5400000" swAng="-5400000"/>
                  <a:lnTo>
                    <a:pt x="0" y="11709"/>
                  </a:lnTo>
                  <a:arcTo wR="21600" hR="8072" stAng="10800000" swAng="-2795226"/>
                  <a:lnTo>
                    <a:pt x="14400" y="21138"/>
                  </a:lnTo>
                  <a:lnTo>
                    <a:pt x="21600" y="17963"/>
                  </a:lnTo>
                  <a:lnTo>
                    <a:pt x="14400" y="13863"/>
                  </a:lnTo>
                  <a:lnTo>
                    <a:pt x="14400" y="15682"/>
                  </a:lnTo>
                  <a:arcTo wR="21600" hR="8072" stAng="8004774" swAng="2498903"/>
                  <a:lnTo>
                    <a:pt x="555" y="9891"/>
                  </a:lnTo>
                  <a:arcTo wR="21600" hR="8072" stAng="-10503676" swAng="5103676"/>
                  <a:close/>
                </a:path>
                <a:path fill="darkenLess" w="21600" h="21600">
                  <a:moveTo>
                    <a:pt x="21600" y="0"/>
                  </a:moveTo>
                  <a:arcTo wR="21600" hR="8072" stAng="-5400000" swAng="-5400000"/>
                  <a:lnTo>
                    <a:pt x="0" y="8072"/>
                  </a:lnTo>
                  <a:arcTo wR="21600" hR="8072" stAng="10800000" swAng="-296324"/>
                  <a:lnTo>
                    <a:pt x="555" y="9891"/>
                  </a:lnTo>
                  <a:arcTo wR="21600" hR="8072" stAng="-10503676" swAng="5103676"/>
                  <a:close/>
                </a:path>
              </a:pathLst>
            </a:cu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0" name="TextBox 18"/>
          <p:cNvSpPr/>
          <p:nvPr/>
        </p:nvSpPr>
        <p:spPr>
          <a:xfrm>
            <a:off x="1937520" y="4214880"/>
            <a:ext cx="143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Arial"/>
              </a:rPr>
              <a:t>program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Elbow Connector 20"/>
          <p:cNvCxnSpPr>
            <a:stCxn id="330" idx="3"/>
            <a:endCxn id="323" idx="1"/>
          </p:cNvCxnSpPr>
          <p:nvPr/>
        </p:nvCxnSpPr>
        <p:spPr>
          <a:xfrm>
            <a:off x="3382920" y="4398480"/>
            <a:ext cx="1210320" cy="1080"/>
          </a:xfrm>
          <a:prstGeom prst="bentConnector3">
            <a:avLst>
              <a:gd name="adj1" fmla="val 49985"/>
            </a:avLst>
          </a:prstGeom>
          <a:ln w="19080">
            <a:solidFill>
              <a:srgbClr val="8e3331"/>
            </a:solidFill>
            <a:miter/>
            <a:tailEnd len="med" type="arrow" w="med"/>
          </a:ln>
        </p:spPr>
      </p:cxnSp>
      <p:sp>
        <p:nvSpPr>
          <p:cNvPr id="332" name="TextBox 21"/>
          <p:cNvSpPr/>
          <p:nvPr/>
        </p:nvSpPr>
        <p:spPr>
          <a:xfrm>
            <a:off x="2062440" y="4857840"/>
            <a:ext cx="118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Arial"/>
              </a:rPr>
              <a:t>Window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TextBox 22"/>
          <p:cNvSpPr/>
          <p:nvPr/>
        </p:nvSpPr>
        <p:spPr>
          <a:xfrm>
            <a:off x="2259720" y="5572080"/>
            <a:ext cx="79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1f497d"/>
                </a:solidFill>
                <a:latin typeface="Arial"/>
              </a:rPr>
              <a:t>Lin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Elbow Connector 24"/>
          <p:cNvCxnSpPr>
            <a:stCxn id="332" idx="3"/>
            <a:endCxn id="321" idx="1"/>
          </p:cNvCxnSpPr>
          <p:nvPr/>
        </p:nvCxnSpPr>
        <p:spPr>
          <a:xfrm>
            <a:off x="3254040" y="5041800"/>
            <a:ext cx="1338840" cy="294480"/>
          </a:xfrm>
          <a:prstGeom prst="bentConnector3">
            <a:avLst>
              <a:gd name="adj1" fmla="val 50000"/>
            </a:avLst>
          </a:prstGeom>
          <a:ln w="19080">
            <a:solidFill>
              <a:srgbClr val="8e3331"/>
            </a:solidFill>
            <a:miter/>
            <a:tailEnd len="med" type="arrow" w="med"/>
          </a:ln>
        </p:spPr>
      </p:cxnSp>
      <p:cxnSp>
        <p:nvCxnSpPr>
          <p:cNvPr id="335" name="Elbow Connector 26"/>
          <p:cNvCxnSpPr>
            <a:stCxn id="333" idx="3"/>
            <a:endCxn id="321" idx="1"/>
          </p:cNvCxnSpPr>
          <p:nvPr/>
        </p:nvCxnSpPr>
        <p:spPr>
          <a:xfrm flipV="1">
            <a:off x="3056040" y="5334840"/>
            <a:ext cx="1537200" cy="421560"/>
          </a:xfrm>
          <a:prstGeom prst="bentConnector3">
            <a:avLst>
              <a:gd name="adj1" fmla="val 56711"/>
            </a:avLst>
          </a:prstGeom>
          <a:ln w="19080">
            <a:solidFill>
              <a:srgbClr val="8e3331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0T17:24:56Z</dcterms:created>
  <dc:creator>manuele kirsch pinheiro</dc:creator>
  <dc:description/>
  <dc:language>en-US</dc:language>
  <cp:lastModifiedBy>manuele kirsch pinheiro</cp:lastModifiedBy>
  <dcterms:modified xsi:type="dcterms:W3CDTF">2008-10-05T10:30:46Z</dcterms:modified>
  <cp:revision>16</cp:revision>
  <dc:subject/>
  <dc:title>Informatique S1 Programmation C</dc:title>
</cp:coreProperties>
</file>