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 type="dt" idx="1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 type="ftr" idx="2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 type="sldNum" idx="2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1B27A-4AE3-4EEE-88C2-A316C4FBF1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9CA03-1AEB-48EE-8569-FB1E7182D00C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4CACB-19DF-477D-8EF8-3BFB3089E82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Liste de mots-clé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345F-BBEC-4EB9-80E6-9EF8B0A8967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D27B1-BCEF-41B3-B1C0-BCF6BD5DA71D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10E-784F-4569-BFE2-A25DCDAD4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807B-93AF-4CB7-B50C-289149DA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2D3D-6CFA-45CB-874E-4B2DEC624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D50E-7619-4DDA-893E-063369F96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D3EB9-F398-4686-9CE7-A4BF4C7062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5850D-58F6-46AF-BBFD-B6C5EAB8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6F162-3F61-48C6-A374-67CB5634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B839A-B5E0-4B6E-A5C1-69B0407F4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432BB-8458-46D7-BC97-E5EF224BC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6F610-F2DF-48A9-AA52-089138FFE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81E25-90D1-44BE-9EE8-E85661892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41B2-C4FF-4FBE-9899-4135C05D5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463ED-5B69-4453-9F56-793DB0BC5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2F17D-799D-4F9D-882C-B56F0B04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2AC3-BD93-48F4-B508-D9D8E5FD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50C6F-48E6-4A22-95A5-5FE74B6F7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D70EB-1F72-4506-9C2D-2AF7F68DFE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EA4C12-28AF-4742-8145-738D1F1C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CBE31F-04FC-490C-8B91-4817263CE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F0E1E2-090A-4213-A99E-381E0570A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612AC4-4D63-4D87-B01D-BF04D29D6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2AC26C-FB4B-4BC3-8011-A66228EFB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F843-71EC-4468-9204-5530E7600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85A07-2FA6-4947-A5E5-63D58D260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4FE5D0-46D8-44F0-9BA4-704047B6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A4AE4E-5EE6-4734-9B52-1FDADD9F6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680D00-C95A-4BD9-87C8-07114A167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379085-9CF7-43BD-952D-0F9E1112B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283BD6-F778-4D7C-90A2-5A81E31FF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64C4B2-9DD2-494A-A711-C0704308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230E4-3633-445B-914E-DFC0ABE24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5A5B00-5897-4764-852D-C16B8DA3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2561EB-B8A3-41AE-A181-D62D5FA47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24B4-EDC2-4963-A4DD-DC74E98E3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181C2E-E534-40BF-B8E4-481E373F4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F6363-0347-45F6-9CDC-8358619FD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97633A-67DB-486D-B08F-691426AA6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281D7-F67B-4B10-839A-82180B6E2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7F214F-68F7-4B86-919C-15D1140B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F7D451-D867-43FA-8B99-31A047624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63357B-2B52-4865-B2FA-8AABA54D0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8577A3-42FA-424F-B372-4B76271B4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9B624D-98B5-421B-BDA8-51A6CA0E7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E5D61-BE65-4AD1-9639-CE0FD96E2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5623-96C5-4217-B123-5B82B8AFD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D440A-014D-4786-A21C-5CAE186336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66F9CC-2613-4110-A9AC-72575347D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E5671D-383A-4E4F-8449-51BE73758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54AD2-6552-4DB1-9AFB-629872C95D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B38F22-312C-48AE-8C2E-233A38E05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05E4F-385D-4DA2-8FED-9E59B4A26C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60B8A2-D78F-49BE-AA96-837105112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1B02AA-CE6C-4F02-8A51-C22A8B2D8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A5C8AF-0239-449C-B533-28A94F9D1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662778-8396-4A80-9286-44145CFE2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F0A86-E57F-4355-9CE9-AE99AD75F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D10A1F-77DD-4856-9EB0-CB5623BA7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9E24A1-1D97-463C-928F-377451138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EC1D2C-B0F5-4B0D-9E83-14256049D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80B6E7-82CC-4A1B-BF8B-B5B0E6DDA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56CD50-F81E-4D29-80D6-441076B7B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80DA4-E5B1-4AE0-9077-EDFDF63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A86154-BC11-4CA1-8167-59B1B179D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C2A4D0-AAA1-4DC5-AB4B-74066347E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760FB7-04A9-41AD-A7B2-80A9531A2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47A08-4043-4EBA-B60A-4F8A1240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27B5-4616-451B-965A-EDD04B2AF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46866-88CF-4C65-BF94-1908D2D42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A4B3E-576C-470C-8B8F-5025E11DC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6060C5-2061-44C9-A3B5-AB425D02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8CBF-8262-4F9A-A7C0-997A358D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3D458-EFBE-4CE2-A961-B728BCE04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DAF82-F3E1-41F0-B878-A367E096EB7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C92D-62F2-4E48-A56C-C50035D7C9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46C6D-9082-4712-87E4-D899C4C88E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9BF6A-75AC-43B0-8F3B-02142394E4A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BA70E-90A7-4187-8C60-6A615F8751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911C9-EB1B-4911-99AC-D16CE0F220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1f497d"/>
                </a:solidFill>
                <a:latin typeface="Calibri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1f497d"/>
                </a:solidFill>
                <a:latin typeface="Calibri"/>
              </a:rPr>
              <a:t>Programmation C</a:t>
            </a:r>
            <a:endParaRPr b="0" lang="en-US" sz="40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28760" y="15717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Objectifs de la séanc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tructure générale d’un programme en C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Concep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tructure général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Mots-clé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pérateurs arithmétiq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ommentaires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avec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printf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et </a:t>
            </a:r>
            <a:r>
              <a:rPr b="0" i="1" lang="fr-FR" sz="3200" spc="-1" strike="noStrike">
                <a:solidFill>
                  <a:srgbClr val="000000"/>
                </a:solidFill>
                <a:latin typeface="Calibri"/>
              </a:rPr>
              <a:t>scan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357200" y="-3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Exempl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319" name="Content Placeholder 3" descr="ProgC-CM2-lignes.png"/>
          <p:cNvPicPr/>
          <p:nvPr/>
        </p:nvPicPr>
        <p:blipFill>
          <a:blip r:embed="rId1"/>
          <a:stretch/>
        </p:blipFill>
        <p:spPr>
          <a:xfrm>
            <a:off x="428760" y="1285920"/>
            <a:ext cx="6953040" cy="5000760"/>
          </a:xfrm>
          <a:prstGeom prst="rect">
            <a:avLst/>
          </a:prstGeom>
          <a:ln w="0">
            <a:noFill/>
          </a:ln>
        </p:spPr>
      </p:pic>
      <p:sp>
        <p:nvSpPr>
          <p:cNvPr id="320" name="Oval 4"/>
          <p:cNvSpPr/>
          <p:nvPr/>
        </p:nvSpPr>
        <p:spPr>
          <a:xfrm>
            <a:off x="1500120" y="5000760"/>
            <a:ext cx="3000600" cy="428400"/>
          </a:xfrm>
          <a:prstGeom prst="ellipse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5"/>
          <p:cNvSpPr/>
          <p:nvPr/>
        </p:nvSpPr>
        <p:spPr>
          <a:xfrm>
            <a:off x="5357880" y="3786120"/>
            <a:ext cx="357192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 ("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%d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, 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&amp;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annee);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6"/>
          <p:cNvSpPr/>
          <p:nvPr/>
        </p:nvSpPr>
        <p:spPr>
          <a:xfrm>
            <a:off x="4286160" y="6143760"/>
            <a:ext cx="4643640" cy="3682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 ("Votre age </a:t>
            </a:r>
            <a:r>
              <a:rPr b="1" lang="fr-FR" sz="1800" spc="-1" strike="noStrike">
                <a:solidFill>
                  <a:srgbClr val="ff0000"/>
                </a:solidFill>
                <a:latin typeface="Courier New"/>
                <a:ea typeface="Courier New"/>
              </a:rPr>
              <a:t>%d \n</a:t>
            </a:r>
            <a:r>
              <a:rPr b="1" lang="fr-FR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, age);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7"/>
          <p:cNvSpPr/>
          <p:nvPr/>
        </p:nvSpPr>
        <p:spPr>
          <a:xfrm>
            <a:off x="6643800" y="5000760"/>
            <a:ext cx="178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t </a:t>
            </a:r>
            <a:r>
              <a:rPr b="0" lang="fr-FR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%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4" name="Straight Arrow Connector 9"/>
          <p:cNvCxnSpPr>
            <a:stCxn id="323" idx="0"/>
          </p:cNvCxnSpPr>
          <p:nvPr/>
        </p:nvCxnSpPr>
        <p:spPr>
          <a:xfrm flipH="1" flipV="1">
            <a:off x="7000920" y="4142880"/>
            <a:ext cx="536760" cy="858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325" name="Straight Arrow Connector 10"/>
          <p:cNvCxnSpPr>
            <a:stCxn id="323" idx="0"/>
          </p:cNvCxnSpPr>
          <p:nvPr/>
        </p:nvCxnSpPr>
        <p:spPr>
          <a:xfrm flipV="1">
            <a:off x="7537320" y="4142880"/>
            <a:ext cx="393120" cy="8582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326" name="Straight Arrow Connector 15"/>
          <p:cNvCxnSpPr>
            <a:stCxn id="323" idx="2"/>
          </p:cNvCxnSpPr>
          <p:nvPr/>
        </p:nvCxnSpPr>
        <p:spPr>
          <a:xfrm flipH="1">
            <a:off x="7143120" y="5370480"/>
            <a:ext cx="394200" cy="845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cxnSp>
        <p:nvCxnSpPr>
          <p:cNvPr id="327" name="Straight Arrow Connector 16"/>
          <p:cNvCxnSpPr>
            <a:stCxn id="323" idx="2"/>
          </p:cNvCxnSpPr>
          <p:nvPr/>
        </p:nvCxnSpPr>
        <p:spPr>
          <a:xfrm>
            <a:off x="7537320" y="5370480"/>
            <a:ext cx="535680" cy="8452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Entrée &amp; Sorti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214200" y="1285920"/>
            <a:ext cx="5114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Entrée formatée :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can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rtie formatée : </a:t>
            </a:r>
            <a:r>
              <a:rPr b="0" lang="fr-FR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f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Forma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d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i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f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c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785840" y="3714480"/>
            <a:ext cx="4038840" cy="291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Caractères spéciaux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n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uvelle lign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t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\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« \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"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« "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%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« %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TextBox 3"/>
          <p:cNvSpPr/>
          <p:nvPr/>
        </p:nvSpPr>
        <p:spPr>
          <a:xfrm>
            <a:off x="5021280" y="2643120"/>
            <a:ext cx="3451320" cy="3682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intf ("%d %f", var_int, var_float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20"/>
          <p:cNvGrpSpPr/>
          <p:nvPr/>
        </p:nvGrpSpPr>
        <p:grpSpPr>
          <a:xfrm>
            <a:off x="6000840" y="2928600"/>
            <a:ext cx="1001880" cy="357480"/>
            <a:chOff x="6000840" y="2928600"/>
            <a:chExt cx="1001880" cy="357480"/>
          </a:xfrm>
        </p:grpSpPr>
        <p:sp>
          <p:nvSpPr>
            <p:cNvPr id="333" name="Straight Connector 14"/>
            <p:cNvSpPr/>
            <p:nvPr/>
          </p:nvSpPr>
          <p:spPr>
            <a:xfrm>
              <a:off x="6002280" y="3284640"/>
              <a:ext cx="998640" cy="144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4" name="Straight Arrow Connector 16"/>
            <p:cNvCxnSpPr/>
            <p:nvPr/>
          </p:nvCxnSpPr>
          <p:spPr>
            <a:xfrm flipV="1">
              <a:off x="6000840" y="2928600"/>
              <a:ext cx="2160" cy="35784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335" name="Straight Arrow Connector 17"/>
            <p:cNvCxnSpPr/>
            <p:nvPr/>
          </p:nvCxnSpPr>
          <p:spPr>
            <a:xfrm flipV="1">
              <a:off x="7000920" y="2928600"/>
              <a:ext cx="2160" cy="35640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grpSp>
        <p:nvGrpSpPr>
          <p:cNvPr id="336" name="Group 21"/>
          <p:cNvGrpSpPr/>
          <p:nvPr/>
        </p:nvGrpSpPr>
        <p:grpSpPr>
          <a:xfrm>
            <a:off x="6286680" y="2928240"/>
            <a:ext cx="1643400" cy="500760"/>
            <a:chOff x="6286680" y="2928240"/>
            <a:chExt cx="1643400" cy="500760"/>
          </a:xfrm>
        </p:grpSpPr>
        <p:sp>
          <p:nvSpPr>
            <p:cNvPr id="337" name="Straight Connector 22"/>
            <p:cNvSpPr/>
            <p:nvPr/>
          </p:nvSpPr>
          <p:spPr>
            <a:xfrm>
              <a:off x="6288120" y="3427560"/>
              <a:ext cx="1640160" cy="1440"/>
            </a:xfrm>
            <a:prstGeom prst="line">
              <a:avLst/>
            </a:prstGeom>
            <a:ln w="255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338" name="Straight Arrow Connector 23"/>
            <p:cNvCxnSpPr/>
            <p:nvPr/>
          </p:nvCxnSpPr>
          <p:spPr>
            <a:xfrm flipV="1">
              <a:off x="6286680" y="2928240"/>
              <a:ext cx="3600" cy="50076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  <p:cxnSp>
          <p:nvCxnSpPr>
            <p:cNvPr id="339" name="Straight Arrow Connector 24"/>
            <p:cNvCxnSpPr/>
            <p:nvPr/>
          </p:nvCxnSpPr>
          <p:spPr>
            <a:xfrm flipV="1">
              <a:off x="7928280" y="2928240"/>
              <a:ext cx="2160" cy="499320"/>
            </a:xfrm>
            <a:prstGeom prst="straightConnector1">
              <a:avLst/>
            </a:prstGeom>
            <a:ln w="25560">
              <a:solidFill>
                <a:srgbClr val="c0504d"/>
              </a:solidFill>
              <a:miter/>
              <a:tailEnd len="med" type="arrow" w="med"/>
            </a:ln>
          </p:spPr>
        </p:cxnSp>
      </p:grpSp>
      <p:sp>
        <p:nvSpPr>
          <p:cNvPr id="340" name="TextBox 13"/>
          <p:cNvSpPr/>
          <p:nvPr/>
        </p:nvSpPr>
        <p:spPr>
          <a:xfrm>
            <a:off x="4929120" y="1285920"/>
            <a:ext cx="414360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printf ("Texte - format ", variabl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TextBox 15"/>
          <p:cNvSpPr/>
          <p:nvPr/>
        </p:nvSpPr>
        <p:spPr>
          <a:xfrm>
            <a:off x="4929120" y="1785960"/>
            <a:ext cx="4143600" cy="39888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scanf ("format", </a:t>
            </a:r>
            <a:r>
              <a:rPr b="1" lang="fr-FR" sz="2000" spc="-1" strike="noStrike">
                <a:solidFill>
                  <a:srgbClr val="ff0000"/>
                </a:solidFill>
                <a:latin typeface="Calibri"/>
              </a:rPr>
              <a:t>&amp;</a:t>
            </a:r>
            <a:r>
              <a:rPr b="1" lang="fr-FR" sz="2000" spc="-1" strike="noStrike">
                <a:solidFill>
                  <a:srgbClr val="000000"/>
                </a:solidFill>
                <a:latin typeface="Calibri"/>
              </a:rPr>
              <a:t>variables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85920" y="-36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Structure général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267" name="Picture 2" descr="ProgC-CM2-lignes.png"/>
          <p:cNvPicPr/>
          <p:nvPr/>
        </p:nvPicPr>
        <p:blipFill>
          <a:blip r:embed="rId1"/>
          <a:stretch/>
        </p:blipFill>
        <p:spPr>
          <a:xfrm>
            <a:off x="357120" y="1357200"/>
            <a:ext cx="6854760" cy="4929480"/>
          </a:xfrm>
          <a:prstGeom prst="rect">
            <a:avLst/>
          </a:prstGeom>
          <a:ln w="0">
            <a:noFill/>
          </a:ln>
        </p:spPr>
      </p:pic>
      <p:sp>
        <p:nvSpPr>
          <p:cNvPr id="268" name="TextBox 3"/>
          <p:cNvSpPr/>
          <p:nvPr/>
        </p:nvSpPr>
        <p:spPr>
          <a:xfrm>
            <a:off x="4975200" y="1000080"/>
            <a:ext cx="36511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irectives (import de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bibliothèque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9" name="Straight Arrow Connector 5"/>
          <p:cNvCxnSpPr>
            <a:stCxn id="268" idx="1"/>
          </p:cNvCxnSpPr>
          <p:nvPr/>
        </p:nvCxnSpPr>
        <p:spPr>
          <a:xfrm flipH="1">
            <a:off x="3428280" y="1183320"/>
            <a:ext cx="1531080" cy="31644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70" name="TextBox 6"/>
          <p:cNvSpPr/>
          <p:nvPr/>
        </p:nvSpPr>
        <p:spPr>
          <a:xfrm>
            <a:off x="7035840" y="1785960"/>
            <a:ext cx="160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mentai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1" name="Straight Arrow Connector 7"/>
          <p:cNvCxnSpPr>
            <a:stCxn id="270" idx="1"/>
          </p:cNvCxnSpPr>
          <p:nvPr/>
        </p:nvCxnSpPr>
        <p:spPr>
          <a:xfrm flipH="1">
            <a:off x="5143320" y="1969920"/>
            <a:ext cx="1892880" cy="306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72" name="TextBox 9"/>
          <p:cNvSpPr/>
          <p:nvPr/>
        </p:nvSpPr>
        <p:spPr>
          <a:xfrm>
            <a:off x="6073920" y="2857680"/>
            <a:ext cx="264132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clarations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des variab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3" name="Straight Arrow Connector 10"/>
          <p:cNvCxnSpPr>
            <a:stCxn id="272" idx="1"/>
          </p:cNvCxnSpPr>
          <p:nvPr/>
        </p:nvCxnSpPr>
        <p:spPr>
          <a:xfrm flipH="1" flipV="1">
            <a:off x="2857320" y="2999880"/>
            <a:ext cx="3216960" cy="4176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74" name="TextBox 21"/>
          <p:cNvSpPr/>
          <p:nvPr/>
        </p:nvSpPr>
        <p:spPr>
          <a:xfrm rot="16200000">
            <a:off x="-458640" y="4030560"/>
            <a:ext cx="32860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gramme princip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ounded Rectangle 22"/>
          <p:cNvSpPr/>
          <p:nvPr/>
        </p:nvSpPr>
        <p:spPr>
          <a:xfrm>
            <a:off x="1785960" y="2286000"/>
            <a:ext cx="571320" cy="285840"/>
          </a:xfrm>
          <a:prstGeom prst="roundRect">
            <a:avLst>
              <a:gd name="adj" fmla="val 16667"/>
            </a:avLst>
          </a:prstGeom>
          <a:noFill/>
          <a:ln cap="rnd" w="316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Box 25"/>
          <p:cNvSpPr/>
          <p:nvPr/>
        </p:nvSpPr>
        <p:spPr>
          <a:xfrm>
            <a:off x="6087960" y="3857760"/>
            <a:ext cx="258264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ructions d’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attribu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77" name="Straight Arrow Connector 26"/>
          <p:cNvCxnSpPr>
            <a:stCxn id="276" idx="1"/>
          </p:cNvCxnSpPr>
          <p:nvPr/>
        </p:nvCxnSpPr>
        <p:spPr>
          <a:xfrm flipH="1" flipV="1">
            <a:off x="2642400" y="3928320"/>
            <a:ext cx="3429720" cy="11340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78" name="Oval 30"/>
          <p:cNvSpPr/>
          <p:nvPr/>
        </p:nvSpPr>
        <p:spPr>
          <a:xfrm>
            <a:off x="5072040" y="2214720"/>
            <a:ext cx="357120" cy="428400"/>
          </a:xfrm>
          <a:prstGeom prst="ellipse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Oval 31"/>
          <p:cNvSpPr/>
          <p:nvPr/>
        </p:nvSpPr>
        <p:spPr>
          <a:xfrm>
            <a:off x="1214280" y="5929200"/>
            <a:ext cx="357480" cy="428760"/>
          </a:xfrm>
          <a:prstGeom prst="ellipse">
            <a:avLst/>
          </a:prstGeom>
          <a:noFill/>
          <a:ln w="28440">
            <a:solidFill>
              <a:srgbClr val="1f49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Oval 32"/>
          <p:cNvSpPr/>
          <p:nvPr/>
        </p:nvSpPr>
        <p:spPr>
          <a:xfrm>
            <a:off x="5572080" y="5500800"/>
            <a:ext cx="357120" cy="428400"/>
          </a:xfrm>
          <a:prstGeom prst="ellipse">
            <a:avLst/>
          </a:prstGeom>
          <a:noFill/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Oval 33"/>
          <p:cNvSpPr/>
          <p:nvPr/>
        </p:nvSpPr>
        <p:spPr>
          <a:xfrm>
            <a:off x="3857760" y="4572000"/>
            <a:ext cx="285480" cy="357120"/>
          </a:xfrm>
          <a:prstGeom prst="ellipse">
            <a:avLst/>
          </a:prstGeom>
          <a:noFill/>
          <a:ln w="28440">
            <a:solidFill>
              <a:srgbClr val="604a7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TextBox 34"/>
          <p:cNvSpPr/>
          <p:nvPr/>
        </p:nvSpPr>
        <p:spPr>
          <a:xfrm>
            <a:off x="3000240" y="6215040"/>
            <a:ext cx="160668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Fonc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3" name="Straight Arrow Connector 35"/>
          <p:cNvCxnSpPr>
            <a:stCxn id="282" idx="0"/>
          </p:cNvCxnSpPr>
          <p:nvPr/>
        </p:nvCxnSpPr>
        <p:spPr>
          <a:xfrm flipH="1" flipV="1">
            <a:off x="2142360" y="5785560"/>
            <a:ext cx="1661400" cy="429480"/>
          </a:xfrm>
          <a:prstGeom prst="straightConnector1">
            <a:avLst/>
          </a:prstGeom>
          <a:ln w="25560">
            <a:solidFill>
              <a:srgbClr val="c0504d"/>
            </a:solidFill>
            <a:miter/>
            <a:tailEnd len="med" type="arrow" w="med"/>
          </a:ln>
        </p:spPr>
      </p:cxnSp>
      <p:sp>
        <p:nvSpPr>
          <p:cNvPr id="284" name="Straight Connector 40"/>
          <p:cNvSpPr/>
          <p:nvPr/>
        </p:nvSpPr>
        <p:spPr>
          <a:xfrm>
            <a:off x="2357280" y="5357880"/>
            <a:ext cx="1571760" cy="1440"/>
          </a:xfrm>
          <a:prstGeom prst="line">
            <a:avLst/>
          </a:prstGeom>
          <a:ln w="381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Mots-clé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1600200"/>
            <a:ext cx="8229600" cy="190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s réservé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ts reconnues par le compilateu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Chacune a une signification particulièr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7" name="Picture 3" descr="mots-cles.png"/>
          <p:cNvPicPr/>
          <p:nvPr/>
        </p:nvPicPr>
        <p:blipFill>
          <a:blip r:embed="rId1"/>
          <a:stretch/>
        </p:blipFill>
        <p:spPr>
          <a:xfrm>
            <a:off x="579600" y="3724200"/>
            <a:ext cx="762624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28480" y="213840"/>
            <a:ext cx="7329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457200" y="1428480"/>
            <a:ext cx="822960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Définition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Une entité qui contient une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Les variables sont stockées dans la mémoi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Caractéristiqu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m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identifia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valeu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e type indique l’ensemble des valeurs que peut prendre la variab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0" name="Picture 3" descr="MeubleRangement.png"/>
          <p:cNvPicPr/>
          <p:nvPr/>
        </p:nvPicPr>
        <p:blipFill>
          <a:blip r:embed="rId1"/>
          <a:stretch/>
        </p:blipFill>
        <p:spPr>
          <a:xfrm>
            <a:off x="7354800" y="142920"/>
            <a:ext cx="164628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Les types des donnée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Les principaux types acceptés en langage C 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Entiers  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in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(± 16 bi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hort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(±  8 bi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ong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(± 32bit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Réel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dou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Caractèr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</a:t>
            </a: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Signed / unsigned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</a:t>
            </a:r>
            <a:r>
              <a:rPr b="0" lang="fr-FR" sz="2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4572000" y="3825720"/>
          <a:ext cx="4048200" cy="1108080"/>
        </p:xfrm>
        <a:graphic>
          <a:graphicData uri="http://schemas.openxmlformats.org/drawingml/2006/table">
            <a:tbl>
              <a:tblPr/>
              <a:tblGrid>
                <a:gridCol w="1349280"/>
                <a:gridCol w="1349640"/>
                <a:gridCol w="1349280"/>
              </a:tblGrid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ha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floa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i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ho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sig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4f81bd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unsign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voi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3d669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Actions sur les variable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6840" y="1600200"/>
            <a:ext cx="825804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50880" indent="-6508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Que peut-on faire avec une variabl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1050840" indent="-650880">
              <a:lnSpc>
                <a:spcPct val="12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Déclaration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définir  la variab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50840" indent="-650880">
              <a:lnSpc>
                <a:spcPct val="12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Lire (obtenir)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 valeur 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regarder son conten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50840" indent="-650880">
              <a:lnSpc>
                <a:spcPct val="12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Affecte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une (nouvelle) valeur </a:t>
            </a:r>
            <a:r>
              <a:rPr b="0" lang="fr-FR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mettre une (nouvelle) inform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393920" indent="-479520">
              <a:lnSpc>
                <a:spcPct val="12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pérateur d’attribution  : « = 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1050840" indent="-650880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Déclaration d’une variable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Format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type identifiant 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[, identifiant…]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[ = valeur initial ]  </a:t>
            </a:r>
            <a:r>
              <a:rPr b="0" lang="fr-FR" sz="2800" spc="-1" strike="noStrike">
                <a:solidFill>
                  <a:srgbClr val="c0504d"/>
                </a:solidFill>
                <a:latin typeface="Calibri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 i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j</a:t>
            </a:r>
            <a:r>
              <a:rPr b="1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k</a:t>
            </a:r>
            <a:r>
              <a:rPr b="1" lang="fr-FR" sz="2400" spc="-1" strike="noStrike">
                <a:solidFill>
                  <a:srgbClr val="c0504d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har  lettre</a:t>
            </a:r>
            <a:r>
              <a:rPr b="1" lang="fr-FR" sz="2400" spc="-1" strike="noStrike">
                <a:solidFill>
                  <a:srgbClr val="c0504d"/>
                </a:solidFill>
                <a:latin typeface="Courier New"/>
                <a:ea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loat  reel01 = 1.25</a:t>
            </a:r>
            <a:r>
              <a:rPr b="1" lang="fr-FR" sz="2800" spc="-1" strike="noStrike">
                <a:solidFill>
                  <a:srgbClr val="c0504d"/>
                </a:solidFill>
                <a:latin typeface="Courier New"/>
                <a:ea typeface="Courier New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c0504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TextBox 3"/>
          <p:cNvSpPr/>
          <p:nvPr/>
        </p:nvSpPr>
        <p:spPr>
          <a:xfrm>
            <a:off x="5072040" y="3286080"/>
            <a:ext cx="3357720" cy="70380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n sépare les identifiants </a:t>
            </a:r>
            <a:br>
              <a:rPr sz="2000"/>
            </a:b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 les « , 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Box 4"/>
          <p:cNvSpPr/>
          <p:nvPr/>
        </p:nvSpPr>
        <p:spPr>
          <a:xfrm>
            <a:off x="1071720" y="4929120"/>
            <a:ext cx="1000080" cy="398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5"/>
          <p:cNvSpPr/>
          <p:nvPr/>
        </p:nvSpPr>
        <p:spPr>
          <a:xfrm>
            <a:off x="2500200" y="5500800"/>
            <a:ext cx="1571760" cy="39888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dentifia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01" name="Straight Arrow Connector 7"/>
          <p:cNvCxnSpPr>
            <a:stCxn id="298" idx="1"/>
          </p:cNvCxnSpPr>
          <p:nvPr/>
        </p:nvCxnSpPr>
        <p:spPr>
          <a:xfrm flipH="1">
            <a:off x="3357360" y="3638880"/>
            <a:ext cx="1715040" cy="39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2" name="Straight Arrow Connector 10"/>
          <p:cNvCxnSpPr>
            <a:stCxn id="299" idx="0"/>
          </p:cNvCxnSpPr>
          <p:nvPr/>
        </p:nvCxnSpPr>
        <p:spPr>
          <a:xfrm flipV="1">
            <a:off x="1570680" y="4571640"/>
            <a:ext cx="286200" cy="357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303" name="Straight Arrow Connector 12"/>
          <p:cNvCxnSpPr>
            <a:stCxn id="300" idx="0"/>
          </p:cNvCxnSpPr>
          <p:nvPr/>
        </p:nvCxnSpPr>
        <p:spPr>
          <a:xfrm flipH="1" flipV="1">
            <a:off x="3214440" y="4642920"/>
            <a:ext cx="72000" cy="858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304" name="Left Brace 13"/>
          <p:cNvSpPr/>
          <p:nvPr/>
        </p:nvSpPr>
        <p:spPr>
          <a:xfrm rot="5400000">
            <a:off x="5678640" y="-178560"/>
            <a:ext cx="571680" cy="4643640"/>
          </a:xfrm>
          <a:custGeom>
            <a:avLst/>
            <a:gdLst>
              <a:gd name="textAreaLeft" fmla="*/ 365400 w 571680"/>
              <a:gd name="textAreaRight" fmla="*/ 572040 w 571680"/>
              <a:gd name="textAreaTop" fmla="*/ 14760 h 4643640"/>
              <a:gd name="textAreaBottom" fmla="*/ 4628880 h 464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1"/>
                  <a:pt x="10800" y="222"/>
                </a:cubicBezTo>
                <a:lnTo>
                  <a:pt x="10800" y="10578"/>
                </a:lnTo>
                <a:cubicBezTo>
                  <a:pt x="10800" y="10689"/>
                  <a:pt x="5400" y="10800"/>
                  <a:pt x="0" y="10800"/>
                </a:cubicBezTo>
                <a:cubicBezTo>
                  <a:pt x="5400" y="10800"/>
                  <a:pt x="10800" y="10911"/>
                  <a:pt x="10800" y="11022"/>
                </a:cubicBezTo>
                <a:lnTo>
                  <a:pt x="10800" y="21378"/>
                </a:lnTo>
                <a:cubicBezTo>
                  <a:pt x="10800" y="2148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4"/>
          <p:cNvSpPr/>
          <p:nvPr/>
        </p:nvSpPr>
        <p:spPr>
          <a:xfrm>
            <a:off x="5214960" y="1357200"/>
            <a:ext cx="1571760" cy="3988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ti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TextBox 11" descr=""/>
          <p:cNvPicPr/>
          <p:nvPr/>
        </p:nvPicPr>
        <p:blipFill>
          <a:blip r:embed="rId1"/>
          <a:stretch/>
        </p:blipFill>
        <p:spPr>
          <a:xfrm>
            <a:off x="5389560" y="4943520"/>
            <a:ext cx="3370320" cy="1450800"/>
          </a:xfrm>
          <a:prstGeom prst="rect">
            <a:avLst/>
          </a:prstGeom>
          <a:ln w="0">
            <a:noFill/>
          </a:ln>
        </p:spPr>
      </p:pic>
      <p:sp>
        <p:nvSpPr>
          <p:cNvPr id="307" name="Right Arrow 15"/>
          <p:cNvSpPr/>
          <p:nvPr/>
        </p:nvSpPr>
        <p:spPr>
          <a:xfrm>
            <a:off x="4214880" y="5643720"/>
            <a:ext cx="1143000" cy="142560"/>
          </a:xfrm>
          <a:prstGeom prst="rightArrow">
            <a:avLst>
              <a:gd name="adj1" fmla="val 50000"/>
              <a:gd name="adj2" fmla="val 5011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Attribution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 d’attribution  : « 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=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 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 = a + b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Évaluation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prend la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val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tenue dans la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variable 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prend la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valeur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contenue dans la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variable 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additionne (opérateur « + ») ces deux vale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n met ce résultat dans la </a:t>
            </a:r>
            <a:r>
              <a:rPr b="0" lang="fr-FR" sz="2400" spc="-1" strike="noStrike">
                <a:solidFill>
                  <a:srgbClr val="1f497d"/>
                </a:solidFill>
                <a:latin typeface="Calibri"/>
              </a:rPr>
              <a:t>variable 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i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c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avait auparavant une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valeur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, cette dernière est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perdue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Calibri"/>
              </a:rPr>
              <a:t>Opérateurs</a:t>
            </a:r>
            <a:endParaRPr b="0" lang="en-US" sz="4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pérateurs arithmétiqu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*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/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+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 a, b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 = 2 + 3 * 5;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fr-FR" sz="2800" spc="-1" strike="noStrike">
                <a:solidFill>
                  <a:srgbClr val="000000"/>
                </a:solidFill>
                <a:latin typeface="Calibri"/>
              </a:rPr>
              <a:t>25  ou   17 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2 * 5 + 5 % 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 = 5 / 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Group 5"/>
          <p:cNvGrpSpPr/>
          <p:nvPr/>
        </p:nvGrpSpPr>
        <p:grpSpPr>
          <a:xfrm>
            <a:off x="3500280" y="2214720"/>
            <a:ext cx="1490040" cy="1285560"/>
            <a:chOff x="3500280" y="2214720"/>
            <a:chExt cx="1490040" cy="1285560"/>
          </a:xfrm>
        </p:grpSpPr>
        <p:sp>
          <p:nvSpPr>
            <p:cNvPr id="313" name="Down Arrow 3"/>
            <p:cNvSpPr/>
            <p:nvPr/>
          </p:nvSpPr>
          <p:spPr>
            <a:xfrm>
              <a:off x="3500280" y="2214720"/>
              <a:ext cx="357120" cy="1285560"/>
            </a:xfrm>
            <a:prstGeom prst="downArrow">
              <a:avLst>
                <a:gd name="adj1" fmla="val 50000"/>
                <a:gd name="adj2" fmla="val 49964"/>
              </a:avLst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TextBox 4"/>
            <p:cNvSpPr/>
            <p:nvPr/>
          </p:nvSpPr>
          <p:spPr>
            <a:xfrm>
              <a:off x="3792960" y="2534400"/>
              <a:ext cx="1197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1f497d"/>
                  </a:solidFill>
                  <a:latin typeface="Arial"/>
                </a:rPr>
                <a:t>Ordre de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1f497d"/>
                  </a:solidFill>
                  <a:latin typeface="Arial"/>
                </a:rPr>
                <a:t>priorit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5" name="TextBox 6"/>
          <p:cNvGrpSpPr/>
          <p:nvPr/>
        </p:nvGrpSpPr>
        <p:grpSpPr>
          <a:xfrm>
            <a:off x="5010120" y="2597040"/>
            <a:ext cx="3743280" cy="1944720"/>
            <a:chOff x="5010120" y="2597040"/>
            <a:chExt cx="3743280" cy="1944720"/>
          </a:xfrm>
        </p:grpSpPr>
        <p:pic>
          <p:nvPicPr>
            <p:cNvPr id="316" name="TextBox 6" descr=""/>
            <p:cNvPicPr/>
            <p:nvPr/>
          </p:nvPicPr>
          <p:blipFill>
            <a:blip r:embed="rId1"/>
            <a:stretch/>
          </p:blipFill>
          <p:spPr>
            <a:xfrm>
              <a:off x="5010120" y="2597040"/>
              <a:ext cx="374328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7" name=""/>
            <p:cNvSpPr/>
            <p:nvPr/>
          </p:nvSpPr>
          <p:spPr>
            <a:xfrm rot="20422200">
              <a:off x="5074560" y="3231720"/>
              <a:ext cx="3622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ffffff"/>
                  </a:solidFill>
                  <a:latin typeface="Calibri"/>
                </a:rPr>
                <a:t>Le résultat d’un opérateur dépend des types des variables !!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30T08:24:03Z</dcterms:created>
  <dc:creator>manuele kirsch pinheiro</dc:creator>
  <dc:description/>
  <dc:language>en-US</dc:language>
  <cp:lastModifiedBy>manuele kirsch pinheiro</cp:lastModifiedBy>
  <dcterms:modified xsi:type="dcterms:W3CDTF">2008-10-15T10:50:23Z</dcterms:modified>
  <cp:revision>39</cp:revision>
  <dc:subject/>
  <dc:title>Informatique S1 Programmation C</dc:title>
</cp:coreProperties>
</file>