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C2EC2-CAAF-4B22-813A-8A5BE5D6F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2302-D2E4-476A-961B-0A61212CA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68FF-AEE7-4FFF-80F0-DE2202A80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38F5-B1C1-4D8D-B12A-46E500ED9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7637C9-B251-4EFF-ADCE-77E7E7CC7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71733-3ED6-4382-89F8-9C6DA180B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A8CAD-C977-473C-9F7F-A22801BD9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663C-7F43-4B3B-81EA-78A029C8B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6E3D-1474-49C4-BAB4-35309FDAC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57200" y="14256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89451-F668-4B90-BD96-8C625C6A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8E9D8C-941C-4CCB-82DD-A177D9758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AC80-8700-48AE-85DA-9419FB07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447F29-C69A-480B-9803-7CD48991B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F60C9-6CCC-4EA5-9029-65E365AE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64C4-A0C1-45C0-A07E-84719605E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D64F0-D5DE-4C6B-A964-64563F346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52040-EFC0-44E5-AB7F-AC6BDEFA6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0FD75B-CE46-41EF-88DC-4F36C691B9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F15C10-540B-4E7D-9D84-709282F76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DDA9B-D9F3-40B4-910C-7B8149FC8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FBDD2B-12A6-4E57-954E-A5AB8F9D3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8940EE-0DB3-4C29-991F-6630030A2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96B2-3588-442A-84E2-38FB2EF8EF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57200" y="14256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0C32FF-4E55-4BF4-8CBF-CA039C2E1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A8B2C-AC0A-48B7-A750-EBBEBCEB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AFA8D9-9B0A-40E4-AB13-068286EB8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6A21AE-D68B-4871-830A-6D0DCE939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BBE5DA-86AE-4D60-A2C9-AA8608A16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D852EC-28B2-4E9C-8DC1-72BC99753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C7ECF-7C38-4E6F-B2F1-E7197DC4D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C8456-1C61-423A-94AE-ADB1BF04D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5EDED6-51E5-4DF0-ACF5-E6F9BEF9C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6BD293-541D-4D3E-A3E3-340E4E2BC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D980-8BE8-49D0-98F2-437B7236B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454AB1-67DD-4A05-AAD8-E779774A5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AAF841-5724-4500-BC6D-93F8D2332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57200" y="14256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6D089-668A-408F-9113-587C91E1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214E83-732D-4FAC-B088-41F85E909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9238D6-7494-4F4C-8C85-4D17353DC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1A1475-E528-49CF-B41A-EC3212D66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1EDE2-6023-469A-96FF-1F73D5F42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91272F-D8C6-48EB-A69C-F696229B3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0C2886-CB61-4DA7-8AC8-4CA3736C7A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931FAD-83AA-421D-9A50-B070A6DBA9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3685-980E-432D-96BB-A1DB3AA48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A51C8B-CDB2-4EBA-BEC2-E48957195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E9EC1A-C28D-4842-BA2A-77B62D116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801AA-F463-4B7E-ADB8-D7EC64777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6CDE4E-95D6-4BB7-88AA-F46989CA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57200" y="14256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DA0D0-A604-4707-938B-AC5F785C5D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AED048-BE20-43F2-86BB-314134E1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099103-1F66-4097-AD99-6CF0CC3CF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AC973B-F95F-4ED0-AE8B-C1D91DE11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D1425D-A00B-4AE0-82FB-961C0CD9B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7E2CCF-57E1-4B82-9CB9-6813949DE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57200" y="14256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4010-B685-482B-9BD4-3DB84C6A5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0C0677-2BDA-40CF-BD7E-551E75864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2FC4BE-2B03-4D58-BF6A-0B2AAC34A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F7ACA7-AE93-4ADE-99B8-5F5BDB513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1AE25F2-334B-4DD1-B438-3BE5163F0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FAF4B-9DAB-4ACF-9249-38ED78DE5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270C7-2567-4BA7-8FDB-418DE3DA1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357200" y="14256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3EF2BC-9718-41D9-A80E-719CDCB691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A2A1FF-AE69-43A5-92F8-B78AAE942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382DF9-DC27-4B87-BAA3-9AD594E1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800120F-BAF2-4581-B6EC-582B4FCE8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4D16-8F93-4B70-BDD9-9F441136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3659F6-F224-45E7-84BE-1EA8D18F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C807EB-9E53-4F83-878F-87D18912F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E64DD3-F497-47D7-BB8E-4915029AB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FFAF-8A42-420E-80FF-33DA04611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D580-84A7-4B0D-B6D1-F3BD0240A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5BEC-13ED-43A2-8DA9-06BBDEFC8E88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logo_paris1.png"/>
          <p:cNvPicPr/>
          <p:nvPr/>
        </p:nvPicPr>
        <p:blipFill>
          <a:blip r:embed="rId3"/>
          <a:stretch/>
        </p:blipFill>
        <p:spPr>
          <a:xfrm>
            <a:off x="142920" y="214200"/>
            <a:ext cx="2143080" cy="1428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EB516-44B8-46C3-80A0-1334A0A85536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logo_paris1.png"/>
          <p:cNvPicPr/>
          <p:nvPr/>
        </p:nvPicPr>
        <p:blipFill>
          <a:blip r:embed="rId3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BD8F7-93CE-4064-9575-750223D3F3C2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logo_paris1.png"/>
          <p:cNvPicPr/>
          <p:nvPr/>
        </p:nvPicPr>
        <p:blipFill>
          <a:blip r:embed="rId3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E2DD1-677B-46AA-BE63-1D5717CAD5F5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logo_paris1.png"/>
          <p:cNvPicPr/>
          <p:nvPr/>
        </p:nvPicPr>
        <p:blipFill>
          <a:blip r:embed="rId3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BB84F-5393-44A8-975F-83AE3FCC907E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logo_paris1.png"/>
          <p:cNvPicPr/>
          <p:nvPr/>
        </p:nvPicPr>
        <p:blipFill>
          <a:blip r:embed="rId3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FFCAA-57D8-48DD-9571-CBB78831F158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Informatique S1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Programmation 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bjectif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sage des fon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éfinition des constant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éfinition d’une consta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Les bibliothèques peuvent contenir la définition des constant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1f497d"/>
                </a:solidFill>
                <a:latin typeface="Calibri"/>
              </a:rPr>
              <a:t>constante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fr-F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fr-FR" sz="3000" spc="-1" strike="noStrike">
                <a:solidFill>
                  <a:srgbClr val="1f497d"/>
                </a:solidFill>
                <a:latin typeface="Calibri"/>
              </a:rPr>
              <a:t>valeur ne change pa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M_PI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x = pow (M_PI, 2); 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NULL  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srand (time(NULL)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FLT_MAX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DBL_MA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SHRT_MAX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INT_MIN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…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éfinition d’une constan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457200" y="1357200"/>
            <a:ext cx="8229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éfin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emp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#define    MAX     1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#define    FAUX     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#define    VRAI      1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Box 3"/>
          <p:cNvSpPr/>
          <p:nvPr/>
        </p:nvSpPr>
        <p:spPr>
          <a:xfrm>
            <a:off x="3429000" y="1785960"/>
            <a:ext cx="4006800" cy="581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#</a:t>
            </a: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defin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  CTE   val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Box 4"/>
          <p:cNvSpPr/>
          <p:nvPr/>
        </p:nvSpPr>
        <p:spPr>
          <a:xfrm>
            <a:off x="229680" y="3000240"/>
            <a:ext cx="393264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irective pré-compil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Box 5"/>
          <p:cNvSpPr/>
          <p:nvPr/>
        </p:nvSpPr>
        <p:spPr>
          <a:xfrm>
            <a:off x="4643280" y="3357720"/>
            <a:ext cx="3714840" cy="9471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gcc  remplace touts les « CTE » par « valeur 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0" name="Straight Arrow Connector 7"/>
          <p:cNvCxnSpPr>
            <a:stCxn id="318" idx="0"/>
          </p:cNvCxnSpPr>
          <p:nvPr/>
        </p:nvCxnSpPr>
        <p:spPr>
          <a:xfrm flipV="1">
            <a:off x="2197080" y="2285640"/>
            <a:ext cx="1946880" cy="71496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321" name="Straight Arrow Connector 8"/>
          <p:cNvCxnSpPr>
            <a:stCxn id="319" idx="0"/>
          </p:cNvCxnSpPr>
          <p:nvPr/>
        </p:nvCxnSpPr>
        <p:spPr>
          <a:xfrm flipH="1" flipV="1">
            <a:off x="6000120" y="2214000"/>
            <a:ext cx="500760" cy="114372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triangle" w="med"/>
          </a:ln>
        </p:spPr>
      </p:cxnSp>
      <p:grpSp>
        <p:nvGrpSpPr>
          <p:cNvPr id="322" name="TextBox 12"/>
          <p:cNvGrpSpPr/>
          <p:nvPr/>
        </p:nvGrpSpPr>
        <p:grpSpPr>
          <a:xfrm>
            <a:off x="4705200" y="5291280"/>
            <a:ext cx="4353120" cy="1353960"/>
            <a:chOff x="4705200" y="5291280"/>
            <a:chExt cx="4353120" cy="1353960"/>
          </a:xfrm>
        </p:grpSpPr>
        <p:pic>
          <p:nvPicPr>
            <p:cNvPr id="323" name="TextBox 12" descr=""/>
            <p:cNvPicPr/>
            <p:nvPr/>
          </p:nvPicPr>
          <p:blipFill>
            <a:blip r:embed="rId1"/>
            <a:stretch/>
          </p:blipFill>
          <p:spPr>
            <a:xfrm>
              <a:off x="4705200" y="5291280"/>
              <a:ext cx="4353120" cy="135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"/>
            <p:cNvSpPr/>
            <p:nvPr/>
          </p:nvSpPr>
          <p:spPr>
            <a:xfrm>
              <a:off x="4857840" y="5372280"/>
              <a:ext cx="41432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	</a:t>
              </a: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Habituellement, on utilise des MAJUSCULES  pour les noms des constantes 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5" name="Isosceles Triangle 13"/>
          <p:cNvGrpSpPr/>
          <p:nvPr/>
        </p:nvGrpSpPr>
        <p:grpSpPr>
          <a:xfrm>
            <a:off x="4711680" y="4998960"/>
            <a:ext cx="1000080" cy="762120"/>
            <a:chOff x="4711680" y="4998960"/>
            <a:chExt cx="1000080" cy="762120"/>
          </a:xfrm>
        </p:grpSpPr>
        <p:pic>
          <p:nvPicPr>
            <p:cNvPr id="326" name="Isosceles Triangle 13" descr=""/>
            <p:cNvPicPr/>
            <p:nvPr/>
          </p:nvPicPr>
          <p:blipFill>
            <a:blip r:embed="rId2"/>
            <a:stretch/>
          </p:blipFill>
          <p:spPr>
            <a:xfrm>
              <a:off x="4711680" y="4998960"/>
              <a:ext cx="10000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7" name=""/>
            <p:cNvSpPr/>
            <p:nvPr/>
          </p:nvSpPr>
          <p:spPr>
            <a:xfrm>
              <a:off x="5000760" y="5394240"/>
              <a:ext cx="428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0000"/>
                  </a:solidFill>
                  <a:latin typeface="Comic Sans MS"/>
                </a:rPr>
                <a:t>!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Exempl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9" name="Content Placeholder 3" descr="cm9-define.png"/>
          <p:cNvPicPr/>
          <p:nvPr/>
        </p:nvPicPr>
        <p:blipFill>
          <a:blip r:embed="rId1"/>
          <a:stretch/>
        </p:blipFill>
        <p:spPr>
          <a:xfrm>
            <a:off x="149400" y="1319040"/>
            <a:ext cx="6565680" cy="4672080"/>
          </a:xfrm>
          <a:prstGeom prst="rect">
            <a:avLst/>
          </a:prstGeom>
          <a:ln w="0">
            <a:noFill/>
          </a:ln>
        </p:spPr>
      </p:pic>
      <p:sp>
        <p:nvSpPr>
          <p:cNvPr id="330" name="TextBox 4"/>
          <p:cNvSpPr/>
          <p:nvPr/>
        </p:nvSpPr>
        <p:spPr>
          <a:xfrm>
            <a:off x="5650920" y="1270080"/>
            <a:ext cx="2009520" cy="1008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Défini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#define  MIN  -15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#define  MAX  45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1" name="Straight Arrow Connector 6"/>
          <p:cNvCxnSpPr>
            <a:stCxn id="330" idx="1"/>
            <a:endCxn id="332" idx="3"/>
          </p:cNvCxnSpPr>
          <p:nvPr/>
        </p:nvCxnSpPr>
        <p:spPr>
          <a:xfrm flipH="1">
            <a:off x="3571200" y="1778040"/>
            <a:ext cx="2072520" cy="8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32" name="Rectangle 7"/>
          <p:cNvSpPr/>
          <p:nvPr/>
        </p:nvSpPr>
        <p:spPr>
          <a:xfrm>
            <a:off x="1071720" y="1500120"/>
            <a:ext cx="2500200" cy="57168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Straight Connector 11"/>
          <p:cNvSpPr/>
          <p:nvPr/>
        </p:nvSpPr>
        <p:spPr>
          <a:xfrm>
            <a:off x="2000160" y="4714920"/>
            <a:ext cx="2643120" cy="1440"/>
          </a:xfrm>
          <a:prstGeom prst="line">
            <a:avLst/>
          </a:prstGeom>
          <a:ln w="5724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14"/>
          <p:cNvSpPr/>
          <p:nvPr/>
        </p:nvSpPr>
        <p:spPr>
          <a:xfrm>
            <a:off x="5936760" y="3056040"/>
            <a:ext cx="1575360" cy="1008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Usag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elc = MIN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celc &lt;= MAX;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5" name="Straight Arrow Connector 15"/>
          <p:cNvCxnSpPr>
            <a:stCxn id="334" idx="1"/>
          </p:cNvCxnSpPr>
          <p:nvPr/>
        </p:nvCxnSpPr>
        <p:spPr>
          <a:xfrm flipH="1">
            <a:off x="3785400" y="3564000"/>
            <a:ext cx="2143800" cy="9374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Fon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éfini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ne fonction est un module  constitué d’une </a:t>
            </a:r>
            <a:r>
              <a:rPr b="0" lang="fr-FR" sz="2800" spc="-1" strike="noStrike">
                <a:solidFill>
                  <a:srgbClr val="1f497d"/>
                </a:solidFill>
                <a:latin typeface="Calibri"/>
              </a:rPr>
              <a:t>suite d’instruc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ne fonction est un morceau de code réutilis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empl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97d"/>
                </a:solidFill>
                <a:latin typeface="Calibri"/>
                <a:ea typeface="Courier New"/>
              </a:rPr>
              <a:t>main (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97d"/>
                </a:solidFill>
                <a:latin typeface="Calibri"/>
                <a:ea typeface="Courier New"/>
              </a:rPr>
              <a:t>printf ("Hello world !"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97d"/>
                </a:solidFill>
                <a:latin typeface="Calibri"/>
                <a:ea typeface="Courier New"/>
              </a:rPr>
              <a:t>c = getchar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85920" y="14256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Fonction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2" name="TextBox 3"/>
          <p:cNvGrpSpPr/>
          <p:nvPr/>
        </p:nvGrpSpPr>
        <p:grpSpPr>
          <a:xfrm>
            <a:off x="1225440" y="4937040"/>
            <a:ext cx="6870960" cy="854280"/>
            <a:chOff x="1225440" y="4937040"/>
            <a:chExt cx="6870960" cy="854280"/>
          </a:xfrm>
        </p:grpSpPr>
        <p:pic>
          <p:nvPicPr>
            <p:cNvPr id="263" name="TextBox 3" descr=""/>
            <p:cNvPicPr/>
            <p:nvPr/>
          </p:nvPicPr>
          <p:blipFill>
            <a:blip r:embed="rId1"/>
            <a:stretch/>
          </p:blipFill>
          <p:spPr>
            <a:xfrm>
              <a:off x="1225440" y="4937040"/>
              <a:ext cx="6870960" cy="85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>
              <a:off x="1285920" y="4976640"/>
              <a:ext cx="6756480" cy="73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50000"/>
                </a:lnSpc>
                <a:spcAft>
                  <a:spcPts val="601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800" spc="-1" strike="noStrike">
                  <a:solidFill>
                    <a:srgbClr val="ffffff"/>
                  </a:solidFill>
                  <a:latin typeface="Calibri"/>
                </a:rPr>
                <a:t>return_type</a:t>
              </a:r>
              <a:r>
                <a:rPr b="0" lang="fr-FR" sz="2800" spc="-1" strike="noStrike">
                  <a:solidFill>
                    <a:srgbClr val="ffffff"/>
                  </a:solidFill>
                  <a:latin typeface="Calibri"/>
                </a:rPr>
                <a:t>  =  fonction  ( arg_</a:t>
              </a:r>
              <a:r>
                <a:rPr b="0" i="1" lang="fr-FR" sz="28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r>
                <a:rPr b="0" lang="fr-FR" sz="2800" spc="-1" strike="noStrike">
                  <a:solidFill>
                    <a:srgbClr val="ffffff"/>
                  </a:solidFill>
                  <a:latin typeface="Calibri"/>
                </a:rPr>
                <a:t>, …, arg_</a:t>
              </a:r>
              <a:r>
                <a:rPr b="0" i="1" lang="fr-FR" sz="2800" spc="-1" strike="noStrike">
                  <a:solidFill>
                    <a:srgbClr val="ffffff"/>
                  </a:solidFill>
                  <a:latin typeface="Calibri"/>
                </a:rPr>
                <a:t>n </a:t>
              </a:r>
              <a:r>
                <a:rPr b="0" lang="fr-FR" sz="2800" spc="-1" strike="noStrike">
                  <a:solidFill>
                    <a:srgbClr val="ffffff"/>
                  </a:solidFill>
                  <a:latin typeface="Calibri"/>
                </a:rPr>
                <a:t>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5" name="TextBox 5"/>
          <p:cNvGrpSpPr/>
          <p:nvPr/>
        </p:nvGrpSpPr>
        <p:grpSpPr>
          <a:xfrm>
            <a:off x="2011320" y="1487520"/>
            <a:ext cx="5018040" cy="682560"/>
            <a:chOff x="2011320" y="1487520"/>
            <a:chExt cx="5018040" cy="682560"/>
          </a:xfrm>
        </p:grpSpPr>
        <p:pic>
          <p:nvPicPr>
            <p:cNvPr id="266" name="TextBox 5" descr=""/>
            <p:cNvPicPr/>
            <p:nvPr/>
          </p:nvPicPr>
          <p:blipFill>
            <a:blip r:embed="rId2"/>
            <a:stretch/>
          </p:blipFill>
          <p:spPr>
            <a:xfrm>
              <a:off x="2011320" y="1487520"/>
              <a:ext cx="5018040" cy="6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2071800" y="1571760"/>
              <a:ext cx="4898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800" spc="-1" strike="noStrike">
                  <a:solidFill>
                    <a:srgbClr val="ffffff"/>
                  </a:solidFill>
                  <a:latin typeface="Calibri"/>
                </a:rPr>
                <a:t>y   =   f  ( x )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68" name="TextBox 6"/>
          <p:cNvSpPr/>
          <p:nvPr/>
        </p:nvSpPr>
        <p:spPr>
          <a:xfrm>
            <a:off x="1143000" y="2787480"/>
            <a:ext cx="2000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Retour de la fo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return_ty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TextBox 7"/>
          <p:cNvSpPr/>
          <p:nvPr/>
        </p:nvSpPr>
        <p:spPr>
          <a:xfrm>
            <a:off x="3143160" y="2787480"/>
            <a:ext cx="2786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c00000"/>
                </a:solidFill>
                <a:latin typeface="Calibri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identificat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(nom de la fonction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fonctio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TextBox 8"/>
          <p:cNvSpPr/>
          <p:nvPr/>
        </p:nvSpPr>
        <p:spPr>
          <a:xfrm>
            <a:off x="6143760" y="297324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argumen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arg_1, … , arg_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1" name="Straight Arrow Connector 10"/>
          <p:cNvCxnSpPr>
            <a:stCxn id="268" idx="2"/>
          </p:cNvCxnSpPr>
          <p:nvPr/>
        </p:nvCxnSpPr>
        <p:spPr>
          <a:xfrm>
            <a:off x="2142000" y="4357440"/>
            <a:ext cx="143640" cy="68148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272" name="Straight Arrow Connector 11"/>
          <p:cNvCxnSpPr>
            <a:stCxn id="268" idx="0"/>
          </p:cNvCxnSpPr>
          <p:nvPr/>
        </p:nvCxnSpPr>
        <p:spPr>
          <a:xfrm flipV="1">
            <a:off x="2143080" y="2037600"/>
            <a:ext cx="1572480" cy="74988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273" name="Straight Arrow Connector 19"/>
          <p:cNvCxnSpPr>
            <a:stCxn id="269" idx="2"/>
          </p:cNvCxnSpPr>
          <p:nvPr/>
        </p:nvCxnSpPr>
        <p:spPr>
          <a:xfrm>
            <a:off x="4536000" y="4357440"/>
            <a:ext cx="35640" cy="89604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274" name="Straight Arrow Connector 25"/>
          <p:cNvCxnSpPr>
            <a:stCxn id="269" idx="0"/>
            <a:endCxn id="266" idx="2"/>
          </p:cNvCxnSpPr>
          <p:nvPr/>
        </p:nvCxnSpPr>
        <p:spPr>
          <a:xfrm flipH="1" flipV="1">
            <a:off x="4520880" y="2095200"/>
            <a:ext cx="15120" cy="69264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275" name="Straight Arrow Connector 31"/>
          <p:cNvCxnSpPr>
            <a:stCxn id="270" idx="2"/>
          </p:cNvCxnSpPr>
          <p:nvPr/>
        </p:nvCxnSpPr>
        <p:spPr>
          <a:xfrm flipH="1">
            <a:off x="6786000" y="4173120"/>
            <a:ext cx="500760" cy="97092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276" name="Straight Arrow Connector 34"/>
          <p:cNvCxnSpPr>
            <a:stCxn id="270" idx="0"/>
          </p:cNvCxnSpPr>
          <p:nvPr/>
        </p:nvCxnSpPr>
        <p:spPr>
          <a:xfrm flipH="1" flipV="1">
            <a:off x="5357520" y="2071440"/>
            <a:ext cx="1929600" cy="90216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Usage des fonc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128556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n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appell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une fonction par son nom, en indiquant les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arguments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approprié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empl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Calibri"/>
              </a:rPr>
              <a:t>racine</a:t>
            </a:r>
            <a:r>
              <a:rPr b="1" lang="fr-FR" sz="2800" spc="-1" strike="noStrike">
                <a:solidFill>
                  <a:srgbClr val="1f497d"/>
                </a:solidFill>
                <a:latin typeface="Calibri"/>
              </a:rPr>
              <a:t> = sqrt </a:t>
            </a:r>
            <a:r>
              <a:rPr b="0" lang="fr-FR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( </a:t>
            </a:r>
            <a:r>
              <a:rPr b="0" lang="fr-FR" sz="2800" spc="-1" strike="noStrike">
                <a:solidFill>
                  <a:srgbClr val="c00000"/>
                </a:solidFill>
                <a:latin typeface="Calibri"/>
              </a:rPr>
              <a:t>x</a:t>
            </a:r>
            <a:r>
              <a:rPr b="0" lang="fr-FR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f497d"/>
                </a:solidFill>
                <a:latin typeface="Calibri"/>
              </a:rPr>
              <a:t>printf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(</a:t>
            </a:r>
            <a:r>
              <a:rPr b="0" lang="fr-FR" sz="2800" spc="-1" strike="noStrike">
                <a:solidFill>
                  <a:srgbClr val="c00000"/>
                </a:solidFill>
                <a:latin typeface="Calibri"/>
              </a:rPr>
              <a:t>"x = %f ", x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);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Calibri"/>
              </a:rPr>
              <a:t>c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= </a:t>
            </a:r>
            <a:r>
              <a:rPr b="1" lang="fr-FR" sz="2800" spc="-1" strike="noStrike">
                <a:solidFill>
                  <a:srgbClr val="1f497d"/>
                </a:solidFill>
                <a:latin typeface="Calibri"/>
              </a:rPr>
              <a:t>getchar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(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Rectangular Callout 3"/>
          <p:cNvSpPr/>
          <p:nvPr/>
        </p:nvSpPr>
        <p:spPr>
          <a:xfrm>
            <a:off x="4643280" y="2357280"/>
            <a:ext cx="3929400" cy="1428840"/>
          </a:xfrm>
          <a:prstGeom prst="wedgeRectCallout">
            <a:avLst>
              <a:gd name="adj1" fmla="val -74800"/>
              <a:gd name="adj2" fmla="val 12296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Fonction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: « </a:t>
            </a: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sqrt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 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Argument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 : « </a:t>
            </a: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 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Retour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 sur la variable « </a:t>
            </a: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racine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 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Rectangular Callout 4"/>
          <p:cNvSpPr/>
          <p:nvPr/>
        </p:nvSpPr>
        <p:spPr>
          <a:xfrm>
            <a:off x="4929120" y="4143240"/>
            <a:ext cx="3929040" cy="1143000"/>
          </a:xfrm>
          <a:prstGeom prst="wedgeRectCallout">
            <a:avLst>
              <a:gd name="adj1" fmla="val -76842"/>
              <a:gd name="adj2" fmla="val -37208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Fonction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«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rintf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rguments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 : «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x = %f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 » et «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Retour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 ignor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ular Callout 5"/>
          <p:cNvSpPr/>
          <p:nvPr/>
        </p:nvSpPr>
        <p:spPr>
          <a:xfrm>
            <a:off x="3071880" y="5643720"/>
            <a:ext cx="3929040" cy="1071360"/>
          </a:xfrm>
          <a:prstGeom prst="wedgeRectCallout">
            <a:avLst>
              <a:gd name="adj1" fmla="val -65407"/>
              <a:gd name="adj2" fmla="val -6306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Fonction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: «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getchar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Argument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 : pas d’argu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Retour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 sur la variable «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 »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357200" y="-3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Exe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3" name="Content Placeholder 6" descr="fonctionspng.png"/>
          <p:cNvPicPr/>
          <p:nvPr/>
        </p:nvPicPr>
        <p:blipFill>
          <a:blip r:embed="rId1"/>
          <a:stretch/>
        </p:blipFill>
        <p:spPr>
          <a:xfrm>
            <a:off x="285840" y="1214280"/>
            <a:ext cx="6845040" cy="2214720"/>
          </a:xfrm>
          <a:prstGeom prst="rect">
            <a:avLst/>
          </a:prstGeom>
          <a:ln w="0">
            <a:noFill/>
          </a:ln>
        </p:spPr>
      </p:pic>
      <p:sp>
        <p:nvSpPr>
          <p:cNvPr id="284" name="TextBox 11"/>
          <p:cNvSpPr/>
          <p:nvPr/>
        </p:nvSpPr>
        <p:spPr>
          <a:xfrm>
            <a:off x="6367680" y="3357720"/>
            <a:ext cx="171684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ime (NULL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TextBox 12"/>
          <p:cNvSpPr/>
          <p:nvPr/>
        </p:nvSpPr>
        <p:spPr>
          <a:xfrm>
            <a:off x="6504840" y="4643280"/>
            <a:ext cx="14745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rand ( … 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TextBox 13"/>
          <p:cNvSpPr/>
          <p:nvPr/>
        </p:nvSpPr>
        <p:spPr>
          <a:xfrm>
            <a:off x="3792240" y="3857760"/>
            <a:ext cx="22305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x  = rand () % 11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87" name="Straight Arrow Connector 15"/>
          <p:cNvCxnSpPr>
            <a:stCxn id="284" idx="0"/>
          </p:cNvCxnSpPr>
          <p:nvPr/>
        </p:nvCxnSpPr>
        <p:spPr>
          <a:xfrm flipH="1" flipV="1">
            <a:off x="3642480" y="2142720"/>
            <a:ext cx="3583800" cy="1215360"/>
          </a:xfrm>
          <a:prstGeom prst="straightConnector1">
            <a:avLst/>
          </a:prstGeom>
          <a:ln w="5724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8" name="Straight Arrow Connector 20"/>
          <p:cNvCxnSpPr>
            <a:stCxn id="284" idx="2"/>
            <a:endCxn id="285" idx="0"/>
          </p:cNvCxnSpPr>
          <p:nvPr/>
        </p:nvCxnSpPr>
        <p:spPr>
          <a:xfrm>
            <a:off x="7226280" y="3819600"/>
            <a:ext cx="16560" cy="8244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9" name="Straight Arrow Connector 24"/>
          <p:cNvCxnSpPr>
            <a:stCxn id="286" idx="0"/>
          </p:cNvCxnSpPr>
          <p:nvPr/>
        </p:nvCxnSpPr>
        <p:spPr>
          <a:xfrm flipH="1" flipV="1">
            <a:off x="2928600" y="2356920"/>
            <a:ext cx="1978560" cy="1501200"/>
          </a:xfrm>
          <a:prstGeom prst="straightConnector1">
            <a:avLst/>
          </a:prstGeom>
          <a:ln w="5724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290" name="TextBox 26"/>
          <p:cNvSpPr/>
          <p:nvPr/>
        </p:nvSpPr>
        <p:spPr>
          <a:xfrm>
            <a:off x="794520" y="4286160"/>
            <a:ext cx="219528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4bacc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rintf ("… "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anf ("%d", &amp;i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1" name="Straight Arrow Connector 28"/>
          <p:cNvCxnSpPr>
            <a:stCxn id="290" idx="0"/>
          </p:cNvCxnSpPr>
          <p:nvPr/>
        </p:nvCxnSpPr>
        <p:spPr>
          <a:xfrm flipV="1">
            <a:off x="1892160" y="3142440"/>
            <a:ext cx="37440" cy="1143720"/>
          </a:xfrm>
          <a:prstGeom prst="straightConnector1">
            <a:avLst/>
          </a:prstGeom>
          <a:ln w="57240">
            <a:solidFill>
              <a:srgbClr val="4bacc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Fonction ma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1859c"/>
                </a:solidFill>
                <a:latin typeface="Calibri"/>
              </a:rPr>
              <a:t>int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main ( </a:t>
            </a:r>
            <a:r>
              <a:rPr b="1" lang="fr-FR" sz="3200" spc="-1" strike="noStrike">
                <a:solidFill>
                  <a:srgbClr val="1f497d"/>
                </a:solidFill>
                <a:latin typeface="Calibri"/>
              </a:rPr>
              <a:t>int argc, char argv[]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)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Rectangular Callout 4"/>
          <p:cNvSpPr/>
          <p:nvPr/>
        </p:nvSpPr>
        <p:spPr>
          <a:xfrm>
            <a:off x="3714840" y="2786040"/>
            <a:ext cx="3071880" cy="1143000"/>
          </a:xfrm>
          <a:prstGeom prst="wedgeRectCallout">
            <a:avLst>
              <a:gd name="adj1" fmla="val -22055"/>
              <a:gd name="adj2" fmla="val -105597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Argumen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t arg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har argv[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Rectangular Callout 5"/>
          <p:cNvSpPr/>
          <p:nvPr/>
        </p:nvSpPr>
        <p:spPr>
          <a:xfrm>
            <a:off x="1143000" y="2928960"/>
            <a:ext cx="1643040" cy="928800"/>
          </a:xfrm>
          <a:prstGeom prst="wedgeRectCallout">
            <a:avLst>
              <a:gd name="adj1" fmla="val -64166"/>
              <a:gd name="adj2" fmla="val -140634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Retou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Bibliothèqu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es fonctions peuvent être organisées dans les bibliothèq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ibliothèques </a:t>
            </a: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 ensemble de fonction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f497d"/>
                </a:solidFill>
                <a:latin typeface="Calibri"/>
              </a:rPr>
              <a:t>Bibliothèques standar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stdio.h 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stdlib.h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math.h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time.h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ctype.h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limits.h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string.h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errno.h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float.h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locale.h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stdarg.h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stddef.h   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. . 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Bibliothèque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9" name="Content Placeholder 3" descr="include.png"/>
          <p:cNvPicPr/>
          <p:nvPr/>
        </p:nvPicPr>
        <p:blipFill>
          <a:blip r:embed="rId1"/>
          <a:stretch/>
        </p:blipFill>
        <p:spPr>
          <a:xfrm>
            <a:off x="0" y="1081080"/>
            <a:ext cx="7537320" cy="3490920"/>
          </a:xfrm>
          <a:prstGeom prst="rect">
            <a:avLst/>
          </a:prstGeom>
          <a:ln w="0">
            <a:noFill/>
          </a:ln>
        </p:spPr>
      </p:pic>
      <p:pic>
        <p:nvPicPr>
          <p:cNvPr id="300" name="Group 6" descr=""/>
          <p:cNvPicPr/>
          <p:nvPr/>
        </p:nvPicPr>
        <p:blipFill>
          <a:blip r:embed="rId2"/>
          <a:stretch/>
        </p:blipFill>
        <p:spPr>
          <a:xfrm>
            <a:off x="3687840" y="3376440"/>
            <a:ext cx="5114880" cy="903600"/>
          </a:xfrm>
          <a:prstGeom prst="rect">
            <a:avLst/>
          </a:prstGeom>
          <a:ln w="0">
            <a:noFill/>
          </a:ln>
        </p:spPr>
      </p:pic>
      <p:sp>
        <p:nvSpPr>
          <p:cNvPr id="301" name="TextBox 7"/>
          <p:cNvSpPr/>
          <p:nvPr/>
        </p:nvSpPr>
        <p:spPr>
          <a:xfrm>
            <a:off x="357120" y="4500720"/>
            <a:ext cx="392904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s fonctions de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stdlib.h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ont disponibles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srand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…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rand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ab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…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Rectangle 8"/>
          <p:cNvSpPr/>
          <p:nvPr/>
        </p:nvSpPr>
        <p:spPr>
          <a:xfrm>
            <a:off x="928800" y="1000080"/>
            <a:ext cx="2714400" cy="92880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03" name="Shape 10"/>
          <p:cNvCxnSpPr>
            <a:stCxn id="302" idx="3"/>
          </p:cNvCxnSpPr>
          <p:nvPr/>
        </p:nvCxnSpPr>
        <p:spPr>
          <a:xfrm>
            <a:off x="3643200" y="1463400"/>
            <a:ext cx="2633040" cy="196596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04" name="Shape 13"/>
          <p:cNvCxnSpPr/>
          <p:nvPr/>
        </p:nvCxnSpPr>
        <p:spPr>
          <a:xfrm rot="5400000">
            <a:off x="4676040" y="3868560"/>
            <a:ext cx="1208880" cy="1990080"/>
          </a:xfrm>
          <a:prstGeom prst="bentConnector2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05" name="TextBox 14"/>
          <p:cNvSpPr/>
          <p:nvPr/>
        </p:nvSpPr>
        <p:spPr>
          <a:xfrm>
            <a:off x="6062760" y="6027840"/>
            <a:ext cx="3078000" cy="825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our  compile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gcc 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-lm 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-o prog prog.c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Isosceles Triangle 15"/>
          <p:cNvGrpSpPr/>
          <p:nvPr/>
        </p:nvGrpSpPr>
        <p:grpSpPr>
          <a:xfrm>
            <a:off x="5711760" y="5638680"/>
            <a:ext cx="1000080" cy="768600"/>
            <a:chOff x="5711760" y="5638680"/>
            <a:chExt cx="1000080" cy="768600"/>
          </a:xfrm>
        </p:grpSpPr>
        <p:pic>
          <p:nvPicPr>
            <p:cNvPr id="307" name="Isosceles Triangle 15" descr=""/>
            <p:cNvPicPr/>
            <p:nvPr/>
          </p:nvPicPr>
          <p:blipFill>
            <a:blip r:embed="rId3"/>
            <a:stretch/>
          </p:blipFill>
          <p:spPr>
            <a:xfrm>
              <a:off x="5711760" y="5638680"/>
              <a:ext cx="100008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6000840" y="6037200"/>
              <a:ext cx="428400" cy="32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0000"/>
                  </a:solidFill>
                  <a:latin typeface="Comic Sans MS"/>
                </a:rPr>
                <a:t>!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Quelques fonctions utiles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213840" y="1356840"/>
            <a:ext cx="428148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tdio.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nt printf (char* format, ..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nt scanf (char* format, ..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nt getchar (voi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nt putchar (int c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tdlib.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nt abs (int 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ong labs (long n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nt rand (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void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void srand (unsigned int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seed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285800" y="1357200"/>
            <a:ext cx="464364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type.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 isalpha (int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 isupper(int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 islower(int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 iscntrl (int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 isdigit (int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t isalnum (int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nt tolower(int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nt toupper(int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c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ath.h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ouble pow(double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, double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y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ouble sqrt(double 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ouble log10(double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ouble fabs(double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double sin(double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TextBox 11"/>
          <p:cNvSpPr/>
          <p:nvPr/>
        </p:nvSpPr>
        <p:spPr>
          <a:xfrm>
            <a:off x="500040" y="5072040"/>
            <a:ext cx="3643200" cy="1557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c00000"/>
                </a:solidFill>
                <a:latin typeface="Calibri"/>
              </a:rPr>
              <a:t>void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Type de donné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dique pas d’argument ou pas de reto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2T10:30:52Z</dcterms:created>
  <dc:creator>kirsch</dc:creator>
  <dc:description/>
  <dc:language>en-US</dc:language>
  <cp:lastModifiedBy>kirsch</cp:lastModifiedBy>
  <dcterms:modified xsi:type="dcterms:W3CDTF">2008-12-02T18:07:15Z</dcterms:modified>
  <cp:revision>44</cp:revision>
  <dc:subject/>
  <dc:title>Informatique S1 Programmation C</dc:title>
</cp:coreProperties>
</file>