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54245-9D69-4016-9A0C-94E7EF2C16F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22843-E3A9-4E60-972F-E2797F6E073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3739C-3404-426E-8C54-D1879956D12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87EE-6663-442F-A537-623FB69BF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D8A5C-5C97-40BD-B97D-E6331592B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FA3E-BD96-46BD-A4E2-7EE68AD390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6967-3601-453F-A221-2BDBB7345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5F274-6412-4490-800F-84017ADA1D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14F2A-72C4-432A-BB65-E97AA985A5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C0BD4-3663-43E7-A423-0A5CA5C39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2E6C4-7DC4-4909-9E41-0C4C1A577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2D3D3-A179-490A-80F8-FCACF1DB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B126D-1584-4D7C-885A-FD3EC10A6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07CBC-44C2-4C29-8FDC-578F5D938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6939-F25B-4847-A978-EB87EB672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C655-CF12-4540-98B9-A2968A1C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520A2-60B2-46C1-8241-97ACC678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93E5A-2DC1-4982-8B3A-65853603D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07DDF-90FB-4FF6-B761-74E1CDC05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046AD-5089-47BA-9A2F-145735051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FED00-41F2-4892-88F2-E59570249B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BE6A3E-9EDB-4E9B-9484-7F1B46E2F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F83AEB-DDEB-4CDF-A053-969822050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2C7A0C-A956-4F04-BA47-7C5E32FF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505EA-C421-4FAE-9635-82AC9F999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55621-DCEC-4B09-AFD8-6811EB35D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1907AF-9CAB-4AC3-A604-4136030D6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7F6C0-BFF6-44D3-8E3E-E4643E4D1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921652-EE7C-4878-8481-14739232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141A99-A548-45A6-9D71-1D535BFAC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34C380-86B2-4FAB-9707-B0A02C29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F7580-FAC5-478D-BE04-3DCE86174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F99A4-7905-463B-B531-FD9981C21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EDCCC0-E93A-4D27-AAC9-556051B07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AA3C24-1775-46C8-9B14-8EA773045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8DC75-E6B6-41A5-A540-DA707B877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BCB64-52F6-44C2-A590-E6411EFE4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D412D1-647F-4162-9989-5DC8320B4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20F34-3AC5-4263-AECB-666E1A5BE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0CD46-B084-45B9-BD61-0D7AC21BD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10DFA5-783A-4FF7-9348-AAFF278BE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89E707-945A-46A9-B544-EFC38238E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E9996E-6F17-46C8-A339-4671C9B8A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27F2B4-AE13-4E8F-A9F7-45FA17C30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71AC4-0068-4CAA-86CD-F62FC0FBB3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7A105B-D77B-4B97-9344-279B52F9A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377271-65C1-4204-A4C4-9C14851D41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EDC41-B828-4622-9E25-155B417FC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D576F1-6B29-43ED-9187-55279BB9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50ED80-3BB5-4440-B855-7C9FA4AED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89DAB6-F722-4BFA-B879-3D0EC254D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548745-B240-4073-97BB-9A6FE4B24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C4B31-C25E-47AF-9337-4A71D6590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17B5AE-E042-4A9C-8796-3A5ADB211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09C17C-9900-4695-BE96-136296729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CB6AE-0156-4B2E-BD19-87F2B2B98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21C02B-9493-4C20-B532-CCA1DA878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C42A6D-FE17-455D-8BFA-B8EEFB386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5D81A-493E-4674-BD99-B639787435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F34FD7-3AAB-4B0A-BE69-BBD70160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212822-5548-4936-8D62-930623E22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46E6CA-F954-48C0-8D02-080D2D2AD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F8FADF-E87C-43E5-9C61-8EDFD09C6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8846BA-A694-442B-9817-9AFE9E166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164DB8-6EF3-40FB-8B6D-C28873D9B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88C76-719E-40B3-976C-27DF739B1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E4E698-5544-4EF7-834A-2C473EDC5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1493A4-74F3-4EE6-B08D-7F2B26E9F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A11A5F-C549-4EC4-B7E5-372BEE65D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40D-5460-4012-B631-242373047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218957-65D8-42B1-B67B-04DFAD571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3919F-1788-4C32-9CE1-A2E0B6CB2C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85E9D8-065F-42C2-B00A-DC5D558EF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B953-8099-4F4E-8E02-2EEABA031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76F6-ED24-451C-A6D5-1F49B9AC9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572A3-6892-4C3D-A0F1-AF37140302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logo_paris1.png"/>
          <p:cNvPicPr/>
          <p:nvPr/>
        </p:nvPicPr>
        <p:blipFill>
          <a:blip r:embed="rId3"/>
          <a:stretch/>
        </p:blipFill>
        <p:spPr>
          <a:xfrm>
            <a:off x="142920" y="21420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737A5-DAFD-4AEE-9596-08D5BB398A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315C3-F9A4-4926-9AE8-5993C15A8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13C99-BD05-4501-BB50-A905EA5545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F215A-C33D-4BA0-A0D3-00EA3E116E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00434-883E-4B3D-9675-8BC4EB7187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nformatique S1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rogrammation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Objectif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 instruction de contrôle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switch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e l’instruction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swit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sage de l’instruction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pérateur 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?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struction de contrôle </a:t>
            </a:r>
            <a:r>
              <a:rPr b="0" lang="fr-FR" sz="4400" spc="-1" strike="noStrike">
                <a:solidFill>
                  <a:srgbClr val="1f497d"/>
                </a:solidFill>
                <a:latin typeface="Calibri"/>
              </a:rPr>
              <a:t>switch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285840" y="1160640"/>
            <a:ext cx="500040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est multiples valeu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rmat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switch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expression_in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cas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valeur1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nstruction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2779560" indent="-228600"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break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case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valeur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nstruction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2779560" indent="-228600"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break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779560" indent="-228600">
              <a:spcBef>
                <a:spcPts val="499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. . 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default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nstruction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Rectangle 3"/>
          <p:cNvSpPr/>
          <p:nvPr/>
        </p:nvSpPr>
        <p:spPr>
          <a:xfrm>
            <a:off x="6286680" y="3071880"/>
            <a:ext cx="20714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Instructions  valeu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lowchart: Decision 4"/>
          <p:cNvSpPr/>
          <p:nvPr/>
        </p:nvSpPr>
        <p:spPr>
          <a:xfrm>
            <a:off x="4357800" y="2071800"/>
            <a:ext cx="1857240" cy="7142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expr in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Straight Arrow Connector 7"/>
          <p:cNvCxnSpPr>
            <a:endCxn id="269" idx="0"/>
          </p:cNvCxnSpPr>
          <p:nvPr/>
        </p:nvCxnSpPr>
        <p:spPr>
          <a:xfrm flipH="1">
            <a:off x="5285520" y="1571400"/>
            <a:ext cx="1080" cy="500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lg" type="stealth" w="lg"/>
          </a:ln>
        </p:spPr>
      </p:cxnSp>
      <p:cxnSp>
        <p:nvCxnSpPr>
          <p:cNvPr id="271" name="Shape 8"/>
          <p:cNvCxnSpPr>
            <a:stCxn id="269" idx="2"/>
            <a:endCxn id="272" idx="1"/>
          </p:cNvCxnSpPr>
          <p:nvPr/>
        </p:nvCxnSpPr>
        <p:spPr>
          <a:xfrm flipH="1" rot="16200000">
            <a:off x="4642560" y="3428640"/>
            <a:ext cx="2286720" cy="1001160"/>
          </a:xfrm>
          <a:prstGeom prst="bentConnector2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73" name="TextBox 67"/>
          <p:cNvSpPr/>
          <p:nvPr/>
        </p:nvSpPr>
        <p:spPr>
          <a:xfrm>
            <a:off x="5358600" y="300024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aleur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8"/>
          <p:cNvSpPr/>
          <p:nvPr/>
        </p:nvSpPr>
        <p:spPr>
          <a:xfrm>
            <a:off x="6286680" y="3714840"/>
            <a:ext cx="20714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Instructions  valeur 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6286680" y="4786200"/>
            <a:ext cx="228600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Instructions  par défa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5" name="Shape 13"/>
          <p:cNvCxnSpPr>
            <a:stCxn id="269" idx="2"/>
            <a:endCxn id="268" idx="1"/>
          </p:cNvCxnSpPr>
          <p:nvPr/>
        </p:nvCxnSpPr>
        <p:spPr>
          <a:xfrm flipH="1" rot="16200000">
            <a:off x="5499720" y="2571480"/>
            <a:ext cx="572400" cy="10011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76" name="Shape 14"/>
          <p:cNvCxnSpPr>
            <a:stCxn id="269" idx="2"/>
            <a:endCxn id="274" idx="1"/>
          </p:cNvCxnSpPr>
          <p:nvPr/>
        </p:nvCxnSpPr>
        <p:spPr>
          <a:xfrm flipH="1" rot="16200000">
            <a:off x="5178240" y="2892960"/>
            <a:ext cx="1215360" cy="10011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277" name="TextBox 17"/>
          <p:cNvSpPr/>
          <p:nvPr/>
        </p:nvSpPr>
        <p:spPr>
          <a:xfrm>
            <a:off x="6287040" y="42159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Box 67"/>
          <p:cNvSpPr/>
          <p:nvPr/>
        </p:nvSpPr>
        <p:spPr>
          <a:xfrm>
            <a:off x="5358600" y="3662280"/>
            <a:ext cx="86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aleur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26"/>
          <p:cNvSpPr/>
          <p:nvPr/>
        </p:nvSpPr>
        <p:spPr>
          <a:xfrm>
            <a:off x="5450400" y="42159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Shape 28"/>
          <p:cNvCxnSpPr>
            <a:stCxn id="268" idx="3"/>
          </p:cNvCxnSpPr>
          <p:nvPr/>
        </p:nvCxnSpPr>
        <p:spPr>
          <a:xfrm>
            <a:off x="8358120" y="3357360"/>
            <a:ext cx="572400" cy="2500920"/>
          </a:xfrm>
          <a:prstGeom prst="bentConnector2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81" name="Shape 32"/>
          <p:cNvCxnSpPr>
            <a:stCxn id="274" idx="3"/>
          </p:cNvCxnSpPr>
          <p:nvPr/>
        </p:nvCxnSpPr>
        <p:spPr>
          <a:xfrm>
            <a:off x="8358120" y="4000320"/>
            <a:ext cx="572400" cy="18579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82" name="Shape 40"/>
          <p:cNvCxnSpPr>
            <a:stCxn id="272" idx="3"/>
          </p:cNvCxnSpPr>
          <p:nvPr/>
        </p:nvCxnSpPr>
        <p:spPr>
          <a:xfrm>
            <a:off x="8572680" y="5071680"/>
            <a:ext cx="357840" cy="78660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213840" y="1428840"/>
            <a:ext cx="84726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switch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expr_in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cas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valeur1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instruction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779560" indent="-228600"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break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;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cas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valeur2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instruction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779560" indent="-228600">
              <a:spcBef>
                <a:spcPts val="700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break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779560" indent="-228600">
              <a:spcBef>
                <a:spcPts val="601"/>
              </a:spcBef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. . 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default :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instructions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TextBox 6"/>
          <p:cNvSpPr/>
          <p:nvPr/>
        </p:nvSpPr>
        <p:spPr>
          <a:xfrm>
            <a:off x="5429160" y="549360"/>
            <a:ext cx="3571920" cy="228852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expression résultant un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dd9c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dd9c3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ddd9c3"/>
                </a:solidFill>
                <a:latin typeface="Calibri"/>
              </a:rPr>
              <a:t>variable  </a:t>
            </a:r>
            <a:r>
              <a:rPr b="0" lang="fr-FR" sz="2400" spc="-1" strike="noStrike">
                <a:solidFill>
                  <a:srgbClr val="ddd9c3"/>
                </a:solidFill>
                <a:latin typeface="Calibri"/>
              </a:rPr>
              <a:t>de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dd9c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dd9c3"/>
                </a:solidFill>
                <a:latin typeface="Calibri"/>
                <a:ea typeface="Arial"/>
              </a:rPr>
              <a:t> </a:t>
            </a:r>
            <a:r>
              <a:rPr b="1" lang="fr-FR" sz="2400" spc="-1" strike="noStrike">
                <a:solidFill>
                  <a:srgbClr val="ddd9c3"/>
                </a:solidFill>
                <a:latin typeface="Calibri"/>
                <a:ea typeface="Arial"/>
              </a:rPr>
              <a:t>in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dd9c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dd9c3"/>
                </a:solidFill>
                <a:latin typeface="Calibri"/>
                <a:ea typeface="Arial"/>
              </a:rPr>
              <a:t> </a:t>
            </a:r>
            <a:r>
              <a:rPr b="1" lang="fr-FR" sz="2400" spc="-1" strike="noStrike">
                <a:solidFill>
                  <a:srgbClr val="ddd9c3"/>
                </a:solidFill>
                <a:latin typeface="Calibri"/>
                <a:ea typeface="Arial"/>
              </a:rPr>
              <a:t>char      (typecast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ddd9c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ddd9c3"/>
                </a:solidFill>
                <a:latin typeface="Calibri"/>
                <a:ea typeface="Arial"/>
              </a:rPr>
              <a:t> </a:t>
            </a:r>
            <a:r>
              <a:rPr b="0" lang="fr-FR" sz="2400" spc="-1" strike="noStrike">
                <a:solidFill>
                  <a:srgbClr val="ddd9c3"/>
                </a:solidFill>
                <a:latin typeface="Calibri"/>
                <a:ea typeface="Arial"/>
              </a:rPr>
              <a:t>long, short, unsig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ddd9c3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dd9c3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ddd9c3"/>
                </a:solidFill>
                <a:latin typeface="Calibri"/>
              </a:rPr>
              <a:t>express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Oval 7"/>
          <p:cNvSpPr/>
          <p:nvPr/>
        </p:nvSpPr>
        <p:spPr>
          <a:xfrm>
            <a:off x="1785960" y="1285920"/>
            <a:ext cx="1928880" cy="92880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6" name="Straight Arrow Connector 9"/>
          <p:cNvCxnSpPr>
            <a:stCxn id="285" idx="6"/>
            <a:endCxn id="284" idx="1"/>
          </p:cNvCxnSpPr>
          <p:nvPr/>
        </p:nvCxnSpPr>
        <p:spPr>
          <a:xfrm flipV="1">
            <a:off x="3714840" y="1703160"/>
            <a:ext cx="1715040" cy="468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287" name="TextBox 11"/>
          <p:cNvSpPr/>
          <p:nvPr/>
        </p:nvSpPr>
        <p:spPr>
          <a:xfrm>
            <a:off x="5429160" y="3143160"/>
            <a:ext cx="3571920" cy="459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i expr_int == valeur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8" name="Straight Arrow Connector 14"/>
          <p:cNvCxnSpPr>
            <a:endCxn id="287" idx="1"/>
          </p:cNvCxnSpPr>
          <p:nvPr/>
        </p:nvCxnSpPr>
        <p:spPr>
          <a:xfrm>
            <a:off x="4642920" y="2928600"/>
            <a:ext cx="786600" cy="4453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289" name="Straight Connector 16"/>
          <p:cNvSpPr/>
          <p:nvPr/>
        </p:nvSpPr>
        <p:spPr>
          <a:xfrm>
            <a:off x="1000080" y="2928960"/>
            <a:ext cx="371484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TextBox 20"/>
          <p:cNvSpPr/>
          <p:nvPr/>
        </p:nvSpPr>
        <p:spPr>
          <a:xfrm>
            <a:off x="5429160" y="4086360"/>
            <a:ext cx="3571920" cy="119124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break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</a:rPr>
              <a:t>termine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l’exécution d’un bloc d’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Oval 21"/>
          <p:cNvSpPr/>
          <p:nvPr/>
        </p:nvSpPr>
        <p:spPr>
          <a:xfrm>
            <a:off x="2357280" y="3929040"/>
            <a:ext cx="1714680" cy="7142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2" name="Straight Arrow Connector 22"/>
          <p:cNvCxnSpPr/>
          <p:nvPr/>
        </p:nvCxnSpPr>
        <p:spPr>
          <a:xfrm>
            <a:off x="7857720" y="4322520"/>
            <a:ext cx="1143720" cy="2782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293" name="TextBox 27"/>
          <p:cNvSpPr/>
          <p:nvPr/>
        </p:nvSpPr>
        <p:spPr>
          <a:xfrm>
            <a:off x="4286160" y="5643720"/>
            <a:ext cx="47149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faul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(optionnel)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cun des cas précédents n’est v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traight Connector 29"/>
          <p:cNvSpPr/>
          <p:nvPr/>
        </p:nvSpPr>
        <p:spPr>
          <a:xfrm>
            <a:off x="1071720" y="5429160"/>
            <a:ext cx="314316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5" name="Straight Arrow Connector 31"/>
          <p:cNvCxnSpPr>
            <a:endCxn id="293" idx="1"/>
          </p:cNvCxnSpPr>
          <p:nvPr/>
        </p:nvCxnSpPr>
        <p:spPr>
          <a:xfrm>
            <a:off x="3714480" y="5500800"/>
            <a:ext cx="572040" cy="5590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296" name="Straight Arrow Connector 34"/>
          <p:cNvCxnSpPr>
            <a:stCxn id="291" idx="6"/>
            <a:endCxn id="290" idx="1"/>
          </p:cNvCxnSpPr>
          <p:nvPr/>
        </p:nvCxnSpPr>
        <p:spPr>
          <a:xfrm>
            <a:off x="4071960" y="4286160"/>
            <a:ext cx="1357920" cy="4010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7" name="Content Placeholder 11" descr="switch1.png"/>
          <p:cNvPicPr/>
          <p:nvPr/>
        </p:nvPicPr>
        <p:blipFill>
          <a:blip r:embed="rId1"/>
          <a:stretch/>
        </p:blipFill>
        <p:spPr>
          <a:xfrm>
            <a:off x="52560" y="928800"/>
            <a:ext cx="6876720" cy="5857920"/>
          </a:xfrm>
          <a:prstGeom prst="rect">
            <a:avLst/>
          </a:prstGeom>
          <a:ln w="0">
            <a:noFill/>
          </a:ln>
        </p:spPr>
      </p:pic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emp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TextBox 3"/>
          <p:cNvSpPr/>
          <p:nvPr/>
        </p:nvSpPr>
        <p:spPr>
          <a:xfrm>
            <a:off x="5500800" y="3527280"/>
            <a:ext cx="35719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break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’il n’y a pas un break 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7"/>
          <p:cNvSpPr/>
          <p:nvPr/>
        </p:nvSpPr>
        <p:spPr>
          <a:xfrm>
            <a:off x="4929120" y="1143000"/>
            <a:ext cx="357192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632523"/>
                </a:solidFill>
                <a:latin typeface="Calibri"/>
              </a:rPr>
              <a:t>char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c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witch ( </a:t>
            </a:r>
            <a:r>
              <a:rPr b="1" lang="fr-FR" sz="2400" spc="-1" strike="noStrike">
                <a:solidFill>
                  <a:srgbClr val="632523"/>
                </a:solidFill>
                <a:latin typeface="Calibri"/>
              </a:rPr>
              <a:t>c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Straight Connector 9"/>
          <p:cNvSpPr/>
          <p:nvPr/>
        </p:nvSpPr>
        <p:spPr>
          <a:xfrm>
            <a:off x="1000080" y="2786040"/>
            <a:ext cx="164304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Box 12"/>
          <p:cNvSpPr/>
          <p:nvPr/>
        </p:nvSpPr>
        <p:spPr>
          <a:xfrm rot="20062200">
            <a:off x="6258960" y="1770120"/>
            <a:ext cx="266616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7736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ypecast char </a:t>
            </a:r>
            <a:r>
              <a:rPr b="0" lang="fr-FR" sz="24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traight Connector 13"/>
          <p:cNvSpPr/>
          <p:nvPr/>
        </p:nvSpPr>
        <p:spPr>
          <a:xfrm>
            <a:off x="2214720" y="4070520"/>
            <a:ext cx="164304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Rectangle 14"/>
          <p:cNvSpPr/>
          <p:nvPr/>
        </p:nvSpPr>
        <p:spPr>
          <a:xfrm>
            <a:off x="1428840" y="5929200"/>
            <a:ext cx="5715000" cy="571680"/>
          </a:xfrm>
          <a:prstGeom prst="rect">
            <a:avLst/>
          </a:prstGeom>
          <a:noFill/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5"/>
          <p:cNvSpPr/>
          <p:nvPr/>
        </p:nvSpPr>
        <p:spPr>
          <a:xfrm>
            <a:off x="5429160" y="5214960"/>
            <a:ext cx="35719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default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S’il n’y a pas un default?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e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7" name="Content Placeholder 7" descr="cm7-switch.png"/>
          <p:cNvPicPr/>
          <p:nvPr/>
        </p:nvPicPr>
        <p:blipFill>
          <a:blip r:embed="rId1"/>
          <a:stretch/>
        </p:blipFill>
        <p:spPr>
          <a:xfrm>
            <a:off x="28440" y="1000080"/>
            <a:ext cx="5757840" cy="5715000"/>
          </a:xfrm>
          <a:prstGeom prst="rect">
            <a:avLst/>
          </a:prstGeom>
          <a:ln w="0">
            <a:noFill/>
          </a:ln>
        </p:spPr>
      </p:pic>
      <p:sp>
        <p:nvSpPr>
          <p:cNvPr id="308" name="Rectangle 8"/>
          <p:cNvSpPr/>
          <p:nvPr/>
        </p:nvSpPr>
        <p:spPr>
          <a:xfrm>
            <a:off x="1285920" y="4143240"/>
            <a:ext cx="3643200" cy="7858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Box 9"/>
          <p:cNvSpPr/>
          <p:nvPr/>
        </p:nvSpPr>
        <p:spPr>
          <a:xfrm>
            <a:off x="5500800" y="3286080"/>
            <a:ext cx="3429000" cy="155700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struction </a:t>
            </a: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printf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réalisée dans les deux cas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x-i) == 1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x-i) =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pérateur « ? : »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6840" y="1535040"/>
            <a:ext cx="8258040" cy="110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4000"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pérateur de test « ?  :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2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test</a:t>
            </a: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?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i_vrai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: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si_faux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1f497d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456840" y="3071880"/>
            <a:ext cx="404028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À la place d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(a &lt; b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tit = a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tit = b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644720" y="3071520"/>
            <a:ext cx="4041720" cy="285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peut écrire 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tit = (a &lt; b) ? a : b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emp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5" name="Content Placeholder 8" descr="cm7-opTest.png"/>
          <p:cNvPicPr/>
          <p:nvPr/>
        </p:nvPicPr>
        <p:blipFill>
          <a:blip r:embed="rId1"/>
          <a:stretch/>
        </p:blipFill>
        <p:spPr>
          <a:xfrm>
            <a:off x="142920" y="1071720"/>
            <a:ext cx="6377040" cy="4071960"/>
          </a:xfrm>
          <a:prstGeom prst="rect">
            <a:avLst/>
          </a:prstGeom>
          <a:ln w="0">
            <a:noFill/>
          </a:ln>
        </p:spPr>
      </p:pic>
      <p:sp>
        <p:nvSpPr>
          <p:cNvPr id="316" name="TextBox 9"/>
          <p:cNvSpPr/>
          <p:nvPr/>
        </p:nvSpPr>
        <p:spPr>
          <a:xfrm>
            <a:off x="6000840" y="1928880"/>
            <a:ext cx="2714400" cy="1557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(a &lt;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tit =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etit = 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0"/>
          <p:cNvSpPr/>
          <p:nvPr/>
        </p:nvSpPr>
        <p:spPr>
          <a:xfrm>
            <a:off x="6000840" y="5000760"/>
            <a:ext cx="2714400" cy="1557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(a &gt; b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rand = 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grand = b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Straight Arrow Connector 12"/>
          <p:cNvCxnSpPr>
            <a:endCxn id="316" idx="1"/>
          </p:cNvCxnSpPr>
          <p:nvPr/>
        </p:nvCxnSpPr>
        <p:spPr>
          <a:xfrm flipV="1">
            <a:off x="4642920" y="2712600"/>
            <a:ext cx="1358280" cy="12168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319" name="Straight Arrow Connector 14"/>
          <p:cNvCxnSpPr/>
          <p:nvPr/>
        </p:nvCxnSpPr>
        <p:spPr>
          <a:xfrm>
            <a:off x="4643280" y="4216320"/>
            <a:ext cx="1286640" cy="12852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structions de contrô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Test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f … els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witch … case … defaul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Calibri"/>
              </a:rPr>
              <a:t>Boucles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whi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do … wh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r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7T08:27:54Z</dcterms:created>
  <dc:creator>kirsch</dc:creator>
  <dc:description/>
  <dc:language>en-US</dc:language>
  <cp:lastModifiedBy>kirsch</cp:lastModifiedBy>
  <dcterms:modified xsi:type="dcterms:W3CDTF">2008-11-18T10:46:10Z</dcterms:modified>
  <cp:revision>20</cp:revision>
  <dc:subject/>
  <dc:title>Informatique S1 Programmation C</dc:title>
</cp:coreProperties>
</file>