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77A-857C-447B-9FAB-D81E0B90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D9B1-122F-478F-848A-4B2A8819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AFB-6C94-4585-B3FC-B65B4DEF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D9E-0A3E-4163-9813-47674E9E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906F-EF96-4801-92E3-6EB474A2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207B-1E33-48D4-AC8B-2E2B53EC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A6C6-3DBF-4AA1-92EE-2802EE7E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83DD-14CB-451F-A2E0-59950053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4415-770A-444A-B90D-171B221C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920"/>
            <a:ext cx="7416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ECFF-3426-443C-A2B6-54787226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BEB8-7325-4730-935B-A0910F7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A13-2585-4D83-ABF8-0F297A91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25CA-372E-4123-AB71-C58457D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6CC8-89A0-4EAF-BDFD-63B2C44E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8136-3CEE-4225-8FF2-80FC6E69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5374-A326-42B8-9CF6-AD153B9D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E4BF-34AE-4807-A0D2-0329F47A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2FB-49BF-4FA9-B530-98C48338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0E5-1FA1-487C-9331-8B89E1AF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89C-3A1A-4F31-9863-09F9FD40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920"/>
            <a:ext cx="7416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500-4E55-40FA-95D9-98124558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3B7-F7EA-4688-96A6-29F5D5F7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B68-CBC9-4013-935E-D952B3DF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D91-6A0A-4320-A332-4DECB351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et Réseaux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251B-3615-4167-9D1E-99A1222C55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44B6-2D8D-48C9-A681-1EB22C10DAF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igsaw.w3.org/css-validator/" TargetMode="External"/><Relationship Id="rId2" Type="http://schemas.openxmlformats.org/officeDocument/2006/relationships/hyperlink" Target="http://mammouthland.free.fr/cours/css/index.php" TargetMode="External"/><Relationship Id="rId3" Type="http://schemas.openxmlformats.org/officeDocument/2006/relationships/hyperlink" Target="http://www.tuteurs.ens.fr/internet/web/html/css.html" TargetMode="External"/><Relationship Id="rId4" Type="http://schemas.openxmlformats.org/officeDocument/2006/relationships/hyperlink" Target="http://fr.selfhtml.org/css/" TargetMode="External"/><Relationship Id="rId5" Type="http://schemas.openxmlformats.org/officeDocument/2006/relationships/hyperlink" Target="http://web.developpez.com/tutoriel/xhtmlcss/#css" TargetMode="External"/><Relationship Id="rId6" Type="http://schemas.openxmlformats.org/officeDocument/2006/relationships/hyperlink" Target="http://openweb.eu.org/css/" TargetMode="External"/><Relationship Id="rId7" Type="http://schemas.openxmlformats.org/officeDocument/2006/relationships/hyperlink" Target="http://openweb.eu.org/css/" TargetMode="External"/><Relationship Id="rId8" Type="http://schemas.openxmlformats.org/officeDocument/2006/relationships/hyperlink" Target="http://openweb.eu.org/css/" TargetMode="External"/><Relationship Id="rId9" Type="http://schemas.openxmlformats.org/officeDocument/2006/relationships/hyperlink" Target="http://openweb.eu.org/css/" TargetMode="External"/><Relationship Id="rId10" Type="http://schemas.openxmlformats.org/officeDocument/2006/relationships/hyperlink" Target="http://openweb.eu.org/css/" TargetMode="External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632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nception des pages Web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tyles (CSS)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1341360"/>
            <a:ext cx="8461440" cy="5306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mlns="http://www.w3.org/1999/xhtml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!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bod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  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family: "Comic Sans MS", seri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  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size: 12p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  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color: rgb(153, 153, 15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  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text-align: justify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1, h2, h3 { color: viole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test styles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1&gt;les styles..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eci est un paragraphe avec un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m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m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02416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 : défini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103400"/>
            <a:ext cx="8137440" cy="5545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mlns="http://www.w3.org/1999/xhtml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style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body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  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family: "Comic Sans MS", seri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  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size: 12p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  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color: rgb(153, 153, 15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  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text-align: justif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1, h2, h3 { color: rgb(204, 102, 204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citations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 ce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tyle: itali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 rgb(204, 204, 2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rgb(0, 0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test styles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6520" y="5430960"/>
            <a:ext cx="19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fin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076720" y="5157720"/>
            <a:ext cx="93672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 : applic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1413000"/>
            <a:ext cx="7705800" cy="5031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1&gt;les styles...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 class="citations"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eci est un paragraphe avec le style "citations".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eci est un paragraphe sans le style "citations".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iv class="citation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un paragraphe dans la section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une liste :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&gt;item&lt;/li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&gt;item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3320" y="148428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284360" y="1844640"/>
            <a:ext cx="165564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644720" y="3284640"/>
            <a:ext cx="165564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 : résultat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533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opriété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6520" y="1268280"/>
            <a:ext cx="85662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lques exemples de propriétés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background-imag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(image de fond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adresse d'un fichier im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border-colo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(couleur de la bordure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nom ou valeur de la coule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colo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(couleur du texte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nom ou valeur de la coule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font-family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police de caractère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nom de la polic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font-siz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(taille de la police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smaller, xx-small, x-small, small, medium, large, x-large, xx-large, larger; ou taille spécifiée avec l'unité en pixel (px), point (pt), pourcentage (%)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font-sty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(style de la police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normal, italic, obliqu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font-weigh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(épaisseur des caractères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ighter, light, normal (par défaut), bord, bolde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text-alig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(alignement du texte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left, center, right, justif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text-inden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(retrait 1ère ligne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valeur en pixels (px) ou en pourcentage (%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text-transform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(casse du texte) : </a:t>
            </a: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valeur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apitalize, lowercase, none, upperca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rendre la page avec votre CV (voir séance précédente). Refaire la mise en forme en utilisant les feuilles de sty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finir de feuilles de style pou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corps du document (bod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définir une couleur de fond et du texte, une taille de police par défaut pour le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aragraphe (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définir une classe particulière de paragraphe pour les données personnell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390240"/>
            <a:ext cx="741996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 modèle des boît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69932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que élément dans une page est considéré comme une boîte rectangulaire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61840" indent="-2854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rge (</a:t>
            </a:r>
            <a:r>
              <a:rPr b="1" lang="fr-FR" sz="2000" spc="-1" strike="noStrike">
                <a:solidFill>
                  <a:srgbClr val="703dff"/>
                </a:solidFill>
                <a:latin typeface="Comic Sans MS"/>
              </a:rPr>
              <a:t>margi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61840" indent="-2854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ordure (</a:t>
            </a:r>
            <a:r>
              <a:rPr b="1" lang="fr-FR" sz="2000" spc="-1" strike="noStrike">
                <a:solidFill>
                  <a:srgbClr val="703dff"/>
                </a:solidFill>
                <a:latin typeface="Comic Sans MS"/>
              </a:rPr>
              <a:t>bord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61840" indent="-2854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spacemen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fr-FR" sz="2000" spc="-1" strike="noStrike">
                <a:solidFill>
                  <a:srgbClr val="703dff"/>
                </a:solidFill>
                <a:latin typeface="Comic Sans MS"/>
              </a:rPr>
              <a:t>padding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3500280"/>
            <a:ext cx="5693040" cy="2657520"/>
          </a:xfrm>
          <a:prstGeom prst="roundRect">
            <a:avLst>
              <a:gd name="adj" fmla="val 51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00160" y="3765600"/>
            <a:ext cx="3884760" cy="1960560"/>
          </a:xfrm>
          <a:prstGeom prst="roundRect">
            <a:avLst>
              <a:gd name="adj" fmla="val 74"/>
            </a:avLst>
          </a:prstGeom>
          <a:solidFill>
            <a:srgbClr val="99cc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360" y="4078440"/>
            <a:ext cx="2455920" cy="1203120"/>
          </a:xfrm>
          <a:prstGeom prst="roundRect">
            <a:avLst>
              <a:gd name="adj" fmla="val 120"/>
            </a:avLst>
          </a:prstGeom>
          <a:solidFill>
            <a:srgbClr val="28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003640" y="2852280"/>
            <a:ext cx="935280" cy="7765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57080" y="2781360"/>
            <a:ext cx="730080" cy="319320"/>
          </a:xfrm>
          <a:prstGeom prst="roundRect">
            <a:avLst>
              <a:gd name="adj" fmla="val 5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867280" y="3789000"/>
            <a:ext cx="1513080" cy="5763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41280" y="3540240"/>
            <a:ext cx="917280" cy="319320"/>
          </a:xfrm>
          <a:prstGeom prst="roundRect">
            <a:avLst>
              <a:gd name="adj" fmla="val 5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r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42000" y="4629240"/>
            <a:ext cx="1371600" cy="319320"/>
          </a:xfrm>
          <a:prstGeom prst="roundRect">
            <a:avLst>
              <a:gd name="adj" fmla="val 5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pac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24720" y="5950080"/>
            <a:ext cx="949320" cy="319320"/>
          </a:xfrm>
          <a:prstGeom prst="roundRect">
            <a:avLst>
              <a:gd name="adj" fmla="val 5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6920" y="4681440"/>
            <a:ext cx="1436760" cy="237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75280" y="4811760"/>
            <a:ext cx="3044520" cy="120312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 modèle des boît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es marge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margi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03dff"/>
                </a:solidFill>
                <a:latin typeface="Comic Sans MS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margin−top, margin−right, margin−bottom, margin−le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’espacemen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padding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03dff"/>
                </a:solidFill>
                <a:latin typeface="Comic Sans MS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padding−top, padding−right, padding−bottom, padding−le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a bordur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bord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03dff"/>
                </a:solidFill>
                <a:latin typeface="Comic Sans MS"/>
              </a:rPr>
              <a:t>border-width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valeur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703dff"/>
                </a:solidFill>
                <a:latin typeface="Comic Sans MS"/>
              </a:rPr>
              <a:t> thin, medium, thick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order−top−width, border−right−width, border−bottom−width, border−left−wid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03dff"/>
                </a:solidFill>
                <a:latin typeface="Comic Sans MS"/>
              </a:rPr>
              <a:t>border-col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order−top−color, border−right−color, border−bottom−color, border−left−col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03dff"/>
                </a:solidFill>
                <a:latin typeface="Comic Sans MS"/>
              </a:rPr>
              <a:t>border-styl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valeurs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1800" spc="-1" strike="noStrike">
                <a:solidFill>
                  <a:srgbClr val="703dff"/>
                </a:solidFill>
                <a:latin typeface="Comic Sans MS"/>
              </a:rPr>
              <a:t> none, dashed, solid, double, etc.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order−top−style, border−right−style, border−bottom−style, border−left−sty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unité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s unités de mes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px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’ : pix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p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’ : points (pour les polic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%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’ : pourcentag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em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’ : la valeur de ‘font-size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3640" y="390240"/>
            <a:ext cx="741996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703dff"/>
                </a:solidFill>
                <a:latin typeface="Comic Sans MS"/>
              </a:rPr>
              <a:t>L'imbrication des boît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69932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e boîte est créée par des bali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0200" indent="-3240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ypes de boîtes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61840" indent="-28548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Block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provoque un fin de lig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61840" indent="-285480"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Inlin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ne provoque pas un fin de lig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0200" indent="-32400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Bloc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créés par &lt;p&gt;, &lt;div&gt;, &lt;table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0200" indent="-32400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1000080"/>
                <a:tab algn="l" pos="1914480"/>
                <a:tab algn="l" pos="2828880"/>
                <a:tab algn="l" pos="3743280"/>
                <a:tab algn="l" pos="4657680"/>
                <a:tab algn="l" pos="5572080"/>
                <a:tab algn="l" pos="6486480"/>
                <a:tab algn="l" pos="7400880"/>
                <a:tab algn="l" pos="8315280"/>
                <a:tab algn="l" pos="9229680"/>
                <a:tab algn="l" pos="1014408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Inlin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créées par &lt;b&gt;, &lt;span&gt;, &lt;i&gt;, le texte et les im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 CS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07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CSS : </a:t>
            </a:r>
            <a:r>
              <a:rPr b="1" i="1" lang="fr-FR" sz="3200" spc="-1" strike="noStrike">
                <a:solidFill>
                  <a:srgbClr val="703dff"/>
                </a:solidFill>
                <a:latin typeface="Comic Sans MS"/>
              </a:rPr>
              <a:t>Cascading Style 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But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Séparer le contenu d’un document structuré et la mise en forme / mise en page du document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hérence de la mise en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iliter la mainten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lléger le poids des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108000" y="1084320"/>
            <a:ext cx="6464160" cy="58546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bod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family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Helvetica, Arial, sans-seri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12p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lac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ustif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.identifia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relativ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3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weight: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l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12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20% sup. au corps du do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.contenu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#ddddd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b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tyl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itali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90%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5080" y="3006720"/>
            <a:ext cx="4390920" cy="36601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.carr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relativ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color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black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style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dashed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width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1p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rgin-right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5p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dding 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2p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left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.text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block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eeeeee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72920" y="1989000"/>
            <a:ext cx="34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Feuilles d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(fichier monstyle.c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08000" y="981000"/>
            <a:ext cx="8424720" cy="5796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ead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 rel="stylesheet" type="text/css" href="monstyle.css" /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head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od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mg style="width: 98px;" </a:t>
            </a: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carre"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alt="Photo Manuele" src="PhotoKirschPinheiro.jpg" /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 </a:t>
            </a: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identifiant"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Nom,Pr&amp;eacute;nom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pan </a:t>
            </a: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contenu"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Kirsch Pinheiro, Manuele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pan&gt;&lt;/p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 </a:t>
            </a: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identifiant"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Email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pan </a:t>
            </a: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contenu"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Manuele &lt;em&gt;dot&lt;/em&gt; Kirsch-Pinheiro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m&gt;at&lt;/em&gt; univ-nancy2 &lt;em&gt;dot&lt;/em&gt; fr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pan&gt;&lt;/p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iv </a:t>
            </a: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texte"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Mon exp&amp;eacute;rience  ... en France.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</a:t>
            </a: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Actuellement, ... &amp;agrave; Nancy.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body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htm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25880" y="620640"/>
            <a:ext cx="4894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tilisation dans une page We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document 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3960" y="1477800"/>
            <a:ext cx="7934400" cy="5191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035320" y="1268280"/>
            <a:ext cx="37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(navigateur Firef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2000" y="10461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tyle « carr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8840" y="155736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tyle « identifiant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8760" y="342900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tyle « contenu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3280" y="328464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tyle « text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332000" y="1413000"/>
            <a:ext cx="57600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842920" y="1916280"/>
            <a:ext cx="649080" cy="577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435280" y="2637000"/>
            <a:ext cx="1152360" cy="86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724000" y="3141360"/>
            <a:ext cx="7938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427640" y="3645000"/>
            <a:ext cx="28872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ableaux ou sans tableaux ?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ise en forme des tableau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ropriétés des bordur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order, border-color, border-style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order-collapse: valeur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separate ou collapse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ise en page </a:t>
            </a:r>
            <a:r>
              <a:rPr b="0" i="1" lang="fr-FR" sz="3200" spc="-1" strike="noStrike">
                <a:solidFill>
                  <a:srgbClr val="ff0000"/>
                </a:solidFill>
                <a:latin typeface="Comic Sans MS"/>
              </a:rPr>
              <a:t>sans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es tableau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tilisation du modèle des boî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priétés de positionnement (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gin, padding, width, heigth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tilisation balis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iv&gt; &lt;/div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5688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758960"/>
            <a:ext cx="7632720" cy="4356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.type1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style: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olid;  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width: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2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color: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lack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image: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("Paris_20060924_0909.jpg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marg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5px;          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50%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.type2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style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groove; 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width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8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color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black;  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collapse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collap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image:url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"Paris_20060924_0909.jpg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positio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cent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marg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5px;           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5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.type3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top-style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dotted;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bottom-style:solid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top-width:thick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bottom-width:thick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left-width:0p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right-width:0p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color:black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5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;             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margin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5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997360"/>
            <a:ext cx="4572000" cy="37170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style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sol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width:1p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color:red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5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olor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bl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weigh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bol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d.type1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style:dashed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width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2px 0px 2px 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color:red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5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olor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bl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color:silver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weigh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bol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33720" y="134136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Feuilles d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(fichier tableaux.c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55640" y="981000"/>
            <a:ext cx="4000320" cy="2448000"/>
            <a:chOff x="755640" y="981000"/>
            <a:chExt cx="4000320" cy="2448000"/>
          </a:xfrm>
        </p:grpSpPr>
        <p:sp>
          <p:nvSpPr>
            <p:cNvPr id="235" name=""/>
            <p:cNvSpPr/>
            <p:nvPr/>
          </p:nvSpPr>
          <p:spPr>
            <a:xfrm>
              <a:off x="755640" y="1700280"/>
              <a:ext cx="1008000" cy="431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" y="2997360"/>
              <a:ext cx="1008000" cy="431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2120" y="981000"/>
              <a:ext cx="22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éfinition plusi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asses de tableau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" name=""/>
            <p:cNvCxnSpPr>
              <a:stCxn id="237" idx="1"/>
              <a:endCxn id="235" idx="6"/>
            </p:cNvCxnSpPr>
            <p:nvPr/>
          </p:nvCxnSpPr>
          <p:spPr>
            <a:xfrm flipH="1">
              <a:off x="1782000" y="1301400"/>
              <a:ext cx="702360" cy="615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37" idx="1"/>
              <a:endCxn id="236" idx="7"/>
            </p:cNvCxnSpPr>
            <p:nvPr/>
          </p:nvCxnSpPr>
          <p:spPr>
            <a:xfrm flipH="1">
              <a:off x="1615680" y="1301400"/>
              <a:ext cx="869040" cy="17406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280" y="549360"/>
            <a:ext cx="5329440" cy="5848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yle type="text/css"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@import url(tableaux.cs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 { font-family: "Comic Sans MS", ser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12p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rgb(153, 153, 15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 justify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1, h2, h3 { color: viole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2&gt;Tableaux&lt;/h2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ble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type1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cell1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cell2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69480" y="189000"/>
            <a:ext cx="66978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5601960" y="1125360"/>
            <a:ext cx="2887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Ut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(document 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1989000"/>
            <a:ext cx="4680000" cy="4782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ble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type2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cell1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cell2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ble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type3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type1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cell1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type1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cell2&lt;/t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5613120" cy="4533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999480" y="238428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bleau typ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05600" y="357336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bleau typ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65300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bleau typ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6840" y="57340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llule typ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227280" y="256536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227280" y="3789360"/>
            <a:ext cx="79236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300360" y="486900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227280" y="5516280"/>
            <a:ext cx="6462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70720" y="1258920"/>
            <a:ext cx="34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(navigateur Firef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73880" y="1484280"/>
            <a:ext cx="5088240" cy="456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v.bandeau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100%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height:2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style:solid;      border-width:2p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border-color:black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#22FF99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v.menu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float:left;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15%;              height:80%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#EEEEE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v.contenu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float:cent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75%;              height:80%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#FFFFF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v.pied_pag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ear:bo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100%;             height:2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#33FF99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 mise en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5270400" y="3147840"/>
            <a:ext cx="3189240" cy="3682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ied_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72200" y="1682640"/>
            <a:ext cx="884160" cy="1465560"/>
          </a:xfrm>
          <a:prstGeom prst="rect">
            <a:avLst/>
          </a:prstGeom>
          <a:solidFill>
            <a:srgbClr val="d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70400" y="1341360"/>
            <a:ext cx="3189240" cy="36828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56360" y="1708200"/>
            <a:ext cx="225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3645000"/>
            <a:ext cx="3276360" cy="286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Utilisati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iv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bandeau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1&gt;bandeau&lt;/h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iv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menu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 Menu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iv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contenu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 Contenu 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iv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class="pied_page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pied_page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756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er la page contenant votre CV pour qu’il respecte la mise en page suivant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ans utiliser les tableau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2987640" y="4013280"/>
            <a:ext cx="792360" cy="916920"/>
          </a:xfrm>
          <a:prstGeom prst="rect">
            <a:avLst/>
          </a:prstGeom>
          <a:solidFill>
            <a:srgbClr val="d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87640" y="3573360"/>
            <a:ext cx="3097080" cy="36828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tre (Résumé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52720" y="4019400"/>
            <a:ext cx="223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Données pers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4732200"/>
            <a:ext cx="3097080" cy="642600"/>
          </a:xfrm>
          <a:prstGeom prst="rect">
            <a:avLst/>
          </a:prstGeom>
          <a:solidFill>
            <a:srgbClr val="d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cours univers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 CS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 un style Word ?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éclare la mise en forme (couleur de fond, polices, leurs couleurs, etc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pplique aux élé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on modifie le style, cela se répercutera immédiatement sur les élémen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t les liens ?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96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tilisation des « pseudo-classes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:link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li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:visited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liens visit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:active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liens actif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:hover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passage de la sour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828720" y="3935520"/>
            <a:ext cx="3311640" cy="15858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a:link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rgb(0,0,25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: transpar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shadow: #FFFF5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: 1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style: dash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21080" y="3933720"/>
            <a:ext cx="3922920" cy="1647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a:visited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rgb(255, 0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: transpar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: 1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style: dash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color: rgb(250,0,5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5726160"/>
            <a:ext cx="3168720" cy="946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a:hover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#BBDDF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: #55555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1198440"/>
            <a:ext cx="4968720" cy="54478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style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@import url("monstyle.css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@import url("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uton.css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iv class="text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 ... (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target="_blank" href="http://www.ufsm.br/"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FSM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 ... 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&lt;a href="http://www.iuta.univ-nancy2.fr"&gt;I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lemagne &lt;/a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219640" y="2197080"/>
            <a:ext cx="3851280" cy="4114800"/>
            <a:chOff x="5219640" y="2197080"/>
            <a:chExt cx="3851280" cy="4114800"/>
          </a:xfrm>
        </p:grpSpPr>
        <p:sp>
          <p:nvSpPr>
            <p:cNvPr id="278" name=""/>
            <p:cNvSpPr/>
            <p:nvPr/>
          </p:nvSpPr>
          <p:spPr>
            <a:xfrm>
              <a:off x="5219640" y="2197080"/>
              <a:ext cx="3851280" cy="158580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703dff"/>
                  </a:solidFill>
                  <a:latin typeface="Courier New"/>
                  <a:ea typeface="Courier New"/>
                </a:rPr>
                <a:t>a:link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{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lor: rgb(0,0,255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ckground: transparen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ext-shadow: #FFFF55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order: 1px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order-style: dashed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19640" y="3781080"/>
              <a:ext cx="3851280" cy="164700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703dff"/>
                  </a:solidFill>
                  <a:latin typeface="Courier New"/>
                  <a:ea typeface="Courier New"/>
                </a:rPr>
                <a:t>a:visited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lor: rgb(255, 0, 0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ckground: transparen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order: 1px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order-style: dahed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order-color: rgb(250,0,50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5365440"/>
              <a:ext cx="3851280" cy="946440"/>
            </a:xfrm>
            <a:prstGeom prst="rect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703dff"/>
                  </a:solidFill>
                  <a:latin typeface="Courier New"/>
                  <a:ea typeface="Courier New"/>
                </a:rPr>
                <a:t>a:hover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lor: #BBDDFF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ckground: #555555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275520" y="148428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uton.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2565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68360" y="1268280"/>
            <a:ext cx="6893640" cy="4689720"/>
            <a:chOff x="468360" y="1268280"/>
            <a:chExt cx="6893640" cy="468972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468360" y="1268280"/>
              <a:ext cx="595800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798600" y="141300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867280" y="1700280"/>
              <a:ext cx="865440" cy="72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83520" y="55897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visi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835280" y="4941720"/>
              <a:ext cx="100800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411280" y="2349360"/>
            <a:ext cx="6293160" cy="4292640"/>
            <a:chOff x="2411280" y="2349360"/>
            <a:chExt cx="6293160" cy="4292640"/>
          </a:xfrm>
        </p:grpSpPr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2411280" y="2492280"/>
              <a:ext cx="6293160" cy="41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525440" y="234936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h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96000" y="2708280"/>
              <a:ext cx="215640" cy="72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er la page contenant votre CV de manière à ce que les liens soient soulignés, ombrés en gris (ou bleue) au passage de la souris, et dont la couleur change une fois le lien visité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st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028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anger le marqueur de list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list-style-type : none, square, circle, upper-roman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etc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xemple : </a:t>
            </a: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list-style-type: squar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mplacer le marqueur par une image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list-style-image: url(image.gif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056360" cy="2376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.c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03dff"/>
                </a:solidFill>
                <a:latin typeface="Courier New"/>
                <a:ea typeface="Courier New"/>
              </a:rPr>
              <a:t>li {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22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style: italic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-style-image: url("mont.png"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645000"/>
            <a:ext cx="4321080" cy="25048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ul&gt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it-IT" sz="22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li&gt;Le Jura&lt;/li&gt;  &lt;li&gt;Les Alpes&lt;/li&gt;  &lt;li&gt;Les Vosges&lt;/li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u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2664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Arrière plan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0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uleur :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color: rgb (255,255,255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 : </a:t>
            </a: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image: url(logo.gif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épetition : </a:t>
            </a: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repeat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repeat-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repeat-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no-repe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sition : </a:t>
            </a: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position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lef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bott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urier New"/>
              </a:rPr>
              <a:t>Valeurs x,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71280" y="3284640"/>
            <a:ext cx="6661440" cy="3500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.c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body {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family: serif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size: 12pt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color: black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text-align: center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image: url("montvert.png"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repeat: repeat-y;  background-position: le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0720" y="1773360"/>
            <a:ext cx="4535280" cy="23749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1&gt;Les massifs en France &lt;/h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579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lus sur les sélecteurs…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78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nouvelle clas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finition CSS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.nom { propriété : valeur;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sage 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alise class="nom"&gt; … &lt;/balise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nouvelle classe d’une balise en particul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finition CSS 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Balise.nom {propriété : valeur;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sage 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alise class="nom"&gt; … &lt;/bal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nouveau style pour une partie précise du docu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finition CSS 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#identifiant {propriété : valuer}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sage 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alise id="identifiant"&gt; … &lt;/balise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définition d’un style dans un contexte spécifi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finition CSS 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selecteur1 selecteur2 {propriété : valuer}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sage :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selecteur1&gt; … &lt;selecteur2&gt; … </a:t>
            </a:r>
            <a:br>
              <a:rPr sz="1800"/>
            </a:b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      &lt;/selecteur2&gt; …  &lt;/selecteur1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052640"/>
            <a:ext cx="7993080" cy="1098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.C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urier New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1, h2, h3 {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1&gt; Les massifs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x-large;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France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weight: bold;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205000"/>
            <a:ext cx="7993080" cy="140364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.C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urier New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.alignlef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lass="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lignleft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: relative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a France contient plusi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: 60px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ssifs...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 left;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3670200"/>
            <a:ext cx="7993080" cy="3045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.C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urier New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#conte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position:absolute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div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d="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p: 150px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Les principales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: 180px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...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nce :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: 400px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 silver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 lef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bla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style:sol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width:1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color:bla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dding:10px;  margin:14px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ens uti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lider une feuille de style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jigsaw.w3.org/css-validator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utoriaux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mammouthland.free.fr/cours/css/index.ph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tuteurs.ens.fr/internet/web/html/css.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fr.selfhtml.org/css/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http://web.developpez.com/tutoriel/xhtmlcss/#c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http:/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openweb.eu.org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css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3357720"/>
            <a:ext cx="7993080" cy="15850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.C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urier New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 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iv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d="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tyle: italic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Les principales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nce :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4360" y="1341360"/>
            <a:ext cx="7993080" cy="1890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.C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urier New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underlin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p class="underline"&gt;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decoration: underline;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pes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pan class="underli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'est de la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pa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sultat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26920" y="1189080"/>
            <a:ext cx="7248600" cy="51195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663320" y="170028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659640" y="191628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14800" y="2205000"/>
            <a:ext cx="14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p.align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932360" y="242100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07200" y="263700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#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60720" y="2995560"/>
            <a:ext cx="64764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56880" y="2565360"/>
            <a:ext cx="14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.under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227640" y="2852640"/>
            <a:ext cx="115272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260120" y="42926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#content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300720" y="4581360"/>
            <a:ext cx="93528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6084360" y="2707920"/>
            <a:ext cx="287280" cy="172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lottement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921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loa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Courier New"/>
              </a:rPr>
              <a:t>Exemple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float: lef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float: righ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’abord, l’élément est dans le flux normal, c’est-à-dire, sa position dans le fichier X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suite, l’élément « poussé » vers la gauche ou la droit de son conten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éléments qui le suiv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ans ce conteneur s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acent autour de lu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rcRect l="10890" t="39174" r="53697" b="25393"/>
          <a:stretch/>
        </p:blipFill>
        <p:spPr>
          <a:xfrm>
            <a:off x="5435640" y="189000"/>
            <a:ext cx="3454200" cy="25923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rcRect l="24903" t="45076" r="16032" b="16538"/>
          <a:stretch/>
        </p:blipFill>
        <p:spPr>
          <a:xfrm>
            <a:off x="5148360" y="4437000"/>
            <a:ext cx="37335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08000" y="1125360"/>
            <a:ext cx="5867280" cy="4789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#boite1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color: b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float: le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 200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#boite2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color: yell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float: le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 400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#boite3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background-color: silv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float: le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 100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0" t="17719" r="21891" b="9352"/>
          <a:stretch/>
        </p:blipFill>
        <p:spPr>
          <a:xfrm>
            <a:off x="4211640" y="3327480"/>
            <a:ext cx="4876920" cy="34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Dégagem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7840" y="2276640"/>
            <a:ext cx="5041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clear: both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clear: lef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clear: righ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447840" y="1311120"/>
            <a:ext cx="60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Interdire l'apparition d'éléments flottant à ses cô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rcRect l="0" t="36590" r="24693" b="8658"/>
          <a:stretch/>
        </p:blipFill>
        <p:spPr>
          <a:xfrm>
            <a:off x="468360" y="4508640"/>
            <a:ext cx="3744720" cy="20415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rcRect l="0" t="29168" r="32814" b="8658"/>
          <a:stretch/>
        </p:blipFill>
        <p:spPr>
          <a:xfrm>
            <a:off x="5651640" y="1341360"/>
            <a:ext cx="3241440" cy="2249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867280" y="3645000"/>
            <a:ext cx="2772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img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float: le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clear: bo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5157720"/>
            <a:ext cx="4572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img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float: le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ositionnem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1280" y="1215720"/>
            <a:ext cx="79912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  <a:ea typeface="Courier New"/>
              </a:rPr>
              <a:t>Absolute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Exemple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position: absolut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positionnement est effectué à l’aide des propriétés : </a:t>
            </a: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top, left, right, bott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sitionnement par rapport au dernier ancêtre positionné ou à la page entiè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’élément est retiré du flux : il peut se trouver n’importe où dans le document X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08000" y="1125360"/>
            <a:ext cx="4176720" cy="54788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.CS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#leftblo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position: absolu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top: 150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left: 50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: 100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weight: bol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80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bla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#conte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  </a:t>
            </a: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position:absolut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top: 150p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left: 180px; </a:t>
            </a: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width: 400px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ackground-color: silver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-align: lef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: bla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style:sol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width:1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-color:bla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dding:10px;  margin:14p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3280" y="189000"/>
            <a:ext cx="4392720" cy="25585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Courier New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iv id="</a:t>
            </a:r>
            <a:r>
              <a:rPr b="1" lang="en-US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leftblo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Jura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iv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d="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conte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r-FR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Les principales ...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997440" y="2894040"/>
            <a:ext cx="5111640" cy="3684600"/>
            <a:chOff x="3997440" y="2894040"/>
            <a:chExt cx="5111640" cy="3684600"/>
          </a:xfrm>
        </p:grpSpPr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3997440" y="2894040"/>
              <a:ext cx="5111640" cy="36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4515480" y="6056280"/>
              <a:ext cx="114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Comic Sans MS"/>
                </a:rPr>
                <a:t>leftbl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932360" y="5587560"/>
              <a:ext cx="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84400" y="3716280"/>
              <a:ext cx="117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cont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01080" y="407664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78360" y="278280"/>
            <a:ext cx="730800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feuilles de style CS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31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e feuille de style peut conteni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définition des styles standards (h1, p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réation de ses propres sty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chier texte, extensio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.c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tion d'héritage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caractéristiques de présentation se propagent « en cascade » d'un élément à ses fi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797360"/>
            <a:ext cx="5041800" cy="17398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 style="color: blue;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eci est un paragraphe avec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em style="font-size: 140%;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em&gt;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47973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em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hérite de la couleur définie en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708000" y="4941720"/>
            <a:ext cx="2087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859280" y="5229360"/>
            <a:ext cx="93672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027320" y="5877000"/>
            <a:ext cx="46483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ment utiliser ?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9185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faire (bonnes pratiques)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er le document à un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feuille de style exter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Impor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e feuille de style exter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finition de la feuille de style pour une p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le mais déconseill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258920" y="3573000"/>
            <a:ext cx="7200720" cy="2808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une page&lt;/titl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1" lang="fr-FR" sz="1600" spc="-1" strike="noStrike">
                <a:solidFill>
                  <a:srgbClr val="703dff"/>
                </a:solidFill>
                <a:latin typeface="Comic Sans MS"/>
              </a:rPr>
              <a:t>&lt;p style="color: blue;"&gt;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ceci est un paragraphe avec u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fr-FR" sz="1600" spc="-1" strike="noStrike">
                <a:solidFill>
                  <a:srgbClr val="703dff"/>
                </a:solidFill>
                <a:latin typeface="Comic Sans MS"/>
              </a:rPr>
              <a:t>&lt;em style="font-size: 140%;"&gt;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tyle</a:t>
            </a:r>
            <a:r>
              <a:rPr b="1" lang="fr-FR" sz="1600" spc="-1" strike="noStrike">
                <a:solidFill>
                  <a:srgbClr val="703dff"/>
                </a:solidFill>
                <a:latin typeface="Comic Sans MS"/>
              </a:rPr>
              <a:t>&lt;/em&gt;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1" lang="fr-FR" sz="1600" spc="-1" strike="noStrike">
                <a:solidFill>
                  <a:srgbClr val="703dff"/>
                </a:solidFill>
                <a:latin typeface="Comic Sans MS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333360"/>
            <a:ext cx="6102360" cy="62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euille de style pour un site</a:t>
            </a:r>
            <a:br>
              <a:rPr sz="1800"/>
            </a:b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</a:t>
            </a:r>
            <a:r>
              <a:rPr b="1" lang="en-US" sz="1800" spc="-1" strike="noStrike" u="sng">
                <a:solidFill>
                  <a:srgbClr val="703dff"/>
                </a:solidFill>
                <a:uFillTx/>
                <a:latin typeface="Courier New"/>
                <a:ea typeface="Courier New"/>
              </a:rPr>
              <a:t>link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rel="stylesheet" type="text/css" href="styles.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  <a:ea typeface="Courier New"/>
              </a:rPr>
              <a:t>Feuille de style pour une page (prioritaire)</a:t>
            </a:r>
            <a:br>
              <a:rPr sz="1800"/>
            </a:b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</a:t>
            </a:r>
            <a:r>
              <a:rPr b="1" lang="en-US" sz="1800" spc="-1" strike="noStrike" u="sng">
                <a:solidFill>
                  <a:srgbClr val="703dff"/>
                </a:solidFill>
                <a:uFillTx/>
                <a:latin typeface="Courier New"/>
                <a:ea typeface="Courier New"/>
              </a:rPr>
              <a:t>style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!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h1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size: 14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portation d’une feuille de sty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</a:t>
            </a:r>
            <a:r>
              <a:rPr b="1" lang="en-US" sz="1800" spc="-1" strike="noStrike" u="sng">
                <a:solidFill>
                  <a:srgbClr val="703dff"/>
                </a:solidFill>
                <a:uFillTx/>
                <a:latin typeface="Courier New"/>
                <a:ea typeface="Courier New"/>
              </a:rPr>
              <a:t>style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!-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</a:t>
            </a:r>
            <a:r>
              <a:rPr b="1" lang="en-GB" sz="1800" spc="-1" strike="noStrike" u="sng">
                <a:solidFill>
                  <a:srgbClr val="703dff"/>
                </a:solidFill>
                <a:uFillTx/>
                <a:latin typeface="Courier New"/>
                <a:ea typeface="Courier New"/>
              </a:rPr>
              <a:t>@import</a:t>
            </a:r>
            <a:r>
              <a:rPr b="1" lang="en-GB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url(styles.cs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h1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size: 14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19200" y="3213000"/>
            <a:ext cx="39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abic Transparent"/>
              </a:rPr>
              <a:t>A l'intérieur de l'entête (H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867280" y="1197000"/>
            <a:ext cx="136872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932000" y="234900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219280" y="364500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64000" y="5229360"/>
            <a:ext cx="4572000" cy="1465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ans le fichier styles.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b200"/>
                </a:solidFill>
                <a:latin typeface="Courier New"/>
                <a:ea typeface="Courier New"/>
              </a:rPr>
              <a:t>h1 { color: green; font-family: impac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2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b200"/>
                </a:solidFill>
                <a:latin typeface="Courier New"/>
                <a:ea typeface="Courier New"/>
              </a:rPr>
              <a:t>p { background: yellow; font-family: courie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90240"/>
            <a:ext cx="74181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seils uti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Éviter de mettre des attributs de style directement dans la p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éer autant de feuilles de styles que nécessa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ilité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feuille de style générale pour le s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lices utilisées, couleurs de bases, tailles, forme des page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feuilles de style par catégorie de page dans le s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écessite la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éparation du s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ant de  coder les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ègles CS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6960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e règle CS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électeur : { propriété : valeurs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body {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family: "Comic Sans MS", serif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font-size: 12p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color: rgb(153, 153, 153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text-align: justif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h1, h2, h3 { color: rgb(204, 102, 204); 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définition d’un style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405360" y="32130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élec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4920" y="2421000"/>
            <a:ext cx="9363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3" idx="0"/>
            <a:endCxn id="164" idx="3"/>
          </p:cNvCxnSpPr>
          <p:nvPr/>
        </p:nvCxnSpPr>
        <p:spPr>
          <a:xfrm flipV="1">
            <a:off x="988560" y="2808000"/>
            <a:ext cx="623160" cy="405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827640" y="371628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oprié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3500280"/>
            <a:ext cx="1224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6" idx="3"/>
            <a:endCxn id="167" idx="2"/>
          </p:cNvCxnSpPr>
          <p:nvPr/>
        </p:nvCxnSpPr>
        <p:spPr>
          <a:xfrm flipV="1">
            <a:off x="2017440" y="3680640"/>
            <a:ext cx="448200" cy="219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722280" y="38606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a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3789360"/>
            <a:ext cx="1440000" cy="425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1"/>
            <a:endCxn id="170" idx="6"/>
          </p:cNvCxnSpPr>
          <p:nvPr/>
        </p:nvCxnSpPr>
        <p:spPr>
          <a:xfrm flipH="1" flipV="1">
            <a:off x="5814360" y="4001400"/>
            <a:ext cx="918360" cy="43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3:37:16Z</dcterms:created>
  <dc:creator>angelo</dc:creator>
  <dc:description/>
  <dc:language>en-US</dc:language>
  <cp:lastModifiedBy>angelo</cp:lastModifiedBy>
  <dcterms:modified xsi:type="dcterms:W3CDTF">2006-11-14T01:18:27Z</dcterms:modified>
  <cp:revision>66</cp:revision>
  <dc:subject/>
  <dc:title>Conception des pages Web Styles (CSS)</dc:title>
</cp:coreProperties>
</file>