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8AB-8986-4FCA-97EB-478AB5DF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2D6-78B6-4746-88E2-36F6F670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DB9-6FE2-4A7C-9F40-5A181AC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F96-9321-4A4F-A772-618505B6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839C-1E6F-43E0-AF8F-AFEEE3BA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3DC8-5BFC-4626-9BB8-DBFFB146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E2CE-7D31-4EFE-8B72-91B916B4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81C-AA78-428A-99BA-4ECBD5EE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8FA1-B5F5-42C4-B01A-E7D0D78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5967-A859-44C2-A708-67D50618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2193-5E13-4BAC-B3D7-21FA64B3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2BC-318C-4BEB-8B3B-5DEF6800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181D-224A-4B6B-A087-38AE8C56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2421-68B9-4D65-B6A8-76CCED2C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868C-0F53-45BB-BA2F-AE94B2C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A598-B270-41C7-9501-B3169B9F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DF6C-195F-4E1A-8A2A-35AE7082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039-6E92-41AE-8B32-35033E4C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C03-1613-4F78-B99C-68AE4D4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D22-91D1-4348-8050-9F94AEAD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223920"/>
            <a:ext cx="7416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D64-9A27-4131-8896-E685B266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40A-87AC-4D5A-A6EF-6E8DEF3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DB0-A489-4E1D-8924-08278C73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444-C1DC-4E3E-8187-45AA3AC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248520"/>
            <a:ext cx="230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formatique et Réseaux </a:t>
            </a:r>
            <a:fld id="{DF2977C5-8820-46D0-AED7-AEE74BE399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48000" y="6237360"/>
            <a:ext cx="32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141-63A1-41E4-9DD3-1F41BAB60A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093000"/>
            <a:ext cx="1179000" cy="720360"/>
            <a:chOff x="0" y="6093000"/>
            <a:chExt cx="1179000" cy="720360"/>
          </a:xfrm>
        </p:grpSpPr>
        <p:sp>
          <p:nvSpPr>
            <p:cNvPr id="6" name=""/>
            <p:cNvSpPr/>
            <p:nvPr/>
          </p:nvSpPr>
          <p:spPr>
            <a:xfrm>
              <a:off x="19800" y="6106680"/>
              <a:ext cx="1142280" cy="59580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67040" y="6177240"/>
              <a:ext cx="74160" cy="1180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480" y="6353640"/>
              <a:ext cx="830880" cy="376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9960" y="6384600"/>
              <a:ext cx="550800" cy="343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640" y="6131520"/>
              <a:ext cx="141480" cy="110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080" y="6710760"/>
              <a:ext cx="79560" cy="102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440" y="6200280"/>
              <a:ext cx="202320" cy="3513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95520" y="6184800"/>
              <a:ext cx="381600" cy="1594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58560" y="6279120"/>
              <a:ext cx="163440" cy="61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0" y="6093000"/>
              <a:ext cx="1179000" cy="715680"/>
              <a:chOff x="0" y="6093000"/>
              <a:chExt cx="1179000" cy="715680"/>
            </a:xfrm>
          </p:grpSpPr>
          <p:grpSp>
            <p:nvGrpSpPr>
              <p:cNvPr id="16" name=""/>
              <p:cNvGrpSpPr/>
              <p:nvPr/>
            </p:nvGrpSpPr>
            <p:grpSpPr>
              <a:xfrm>
                <a:off x="518040" y="6158880"/>
                <a:ext cx="574560" cy="649800"/>
                <a:chOff x="518040" y="6158880"/>
                <a:chExt cx="574560" cy="649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518040" y="6181920"/>
                  <a:ext cx="164520" cy="795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61680" y="6686640"/>
                  <a:ext cx="120600" cy="12204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047600" y="6158880"/>
                  <a:ext cx="45000" cy="1072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74160" y="6315120"/>
                <a:ext cx="624240" cy="2293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67480" y="6456240"/>
                <a:ext cx="255960" cy="135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87160" y="6267240"/>
                <a:ext cx="111960" cy="21816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" name=""/>
              <p:cNvGrpSpPr/>
              <p:nvPr/>
            </p:nvGrpSpPr>
            <p:grpSpPr>
              <a:xfrm>
                <a:off x="0" y="6093000"/>
                <a:ext cx="1179000" cy="622080"/>
                <a:chOff x="0" y="6093000"/>
                <a:chExt cx="1179000" cy="62208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96600" y="6605280"/>
                  <a:ext cx="78480" cy="795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311160"/>
                  <a:ext cx="883440" cy="4039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105840" y="6350040"/>
                  <a:ext cx="83880" cy="15300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65840" y="6093000"/>
                  <a:ext cx="337680" cy="5450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1200" y="6239520"/>
                  <a:ext cx="100440" cy="2314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8760" y="6221160"/>
                  <a:ext cx="204480" cy="12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85080" y="6136920"/>
                  <a:ext cx="493920" cy="1944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47000" y="6199200"/>
                  <a:ext cx="256680" cy="788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" name=""/>
          <p:cNvGrpSpPr/>
          <p:nvPr/>
        </p:nvGrpSpPr>
        <p:grpSpPr>
          <a:xfrm>
            <a:off x="179280" y="1413000"/>
            <a:ext cx="385920" cy="4308480"/>
            <a:chOff x="179280" y="1413000"/>
            <a:chExt cx="385920" cy="4308480"/>
          </a:xfrm>
        </p:grpSpPr>
        <p:sp>
          <p:nvSpPr>
            <p:cNvPr id="33" name=""/>
            <p:cNvSpPr/>
            <p:nvPr/>
          </p:nvSpPr>
          <p:spPr>
            <a:xfrm>
              <a:off x="239760" y="345600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79280" y="141300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" name="" descr=""/>
          <p:cNvPicPr/>
          <p:nvPr/>
        </p:nvPicPr>
        <p:blipFill>
          <a:blip r:embed="rId2"/>
          <a:stretch/>
        </p:blipFill>
        <p:spPr>
          <a:xfrm>
            <a:off x="7775640" y="219240"/>
            <a:ext cx="13683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D62D-3EF8-45DD-BF7C-E99DAAD053BF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D22C-4873-4925-8D23-90D881780C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zdnet.fr/actualites/internet/0,39020774,39364109,00.ht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632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Blog &amp; Wiki</a:t>
            </a:r>
            <a:br>
              <a:rPr sz="4000"/>
            </a:br>
            <a:r>
              <a:rPr b="0" lang="fr-FR" sz="4000" spc="-1" strike="noStrike">
                <a:solidFill>
                  <a:srgbClr val="ff0000"/>
                </a:solidFill>
                <a:latin typeface="Comic Sans MS"/>
              </a:rPr>
              <a:t>ou comment communiquer facile sur le Web ?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38B5-CE6A-446C-9816-8E00E30234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92507E-7BA6-4C2A-B133-1AA7652D20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ik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rigine du terme 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u hawaiien </a:t>
            </a:r>
            <a:r>
              <a:rPr b="0" i="1" lang="fr-FR" sz="2800" spc="-1" strike="noStrike">
                <a:solidFill>
                  <a:srgbClr val="000000"/>
                </a:solidFill>
                <a:latin typeface="Comic Sans MS"/>
              </a:rPr>
              <a:t>wiki wiki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: rapide, informel, fac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remier Wiki :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WikiWikiWeb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1995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ystème de </a:t>
            </a:r>
            <a:r>
              <a:rPr b="0" lang="fr-FR" sz="3200" spc="-1" strike="noStrike">
                <a:solidFill>
                  <a:srgbClr val="703dff"/>
                </a:solidFill>
                <a:latin typeface="Comic Sans MS"/>
              </a:rPr>
              <a:t>gestion de conten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pages Web sont modifiables par tous les visiteurs autorisé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07B-CFA1-4710-819A-31404C65C2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B5FC3-CD35-4372-B0E4-3C07EF820C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iK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dition collaborative de 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Tous les co-auteurs ont les mêmes droits (ou presq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Édition fac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ccès à travers un navigateur 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yntaxe propre (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wikitex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souvent avec éditeur prop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3dff"/>
                </a:solidFill>
                <a:latin typeface="Comic Sans MS"/>
              </a:rPr>
              <a:t>Wikitext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: langage de balise simplifi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342-07CC-4AEA-9D85-9A2219CD9AE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30324-64CE-4C64-ABA9-03205E33D2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Wikipedia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xemple plus connu d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981080"/>
            <a:ext cx="7343640" cy="46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CA1-2973-4CA5-98DA-3D83279057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C84AD-0FFE-4BCA-AF22-7DA6AAD19D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dfWiki sur l’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8940600" cy="2716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34040" y="1484280"/>
            <a:ext cx="37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dition facilité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éditeur incorpo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 beso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connaissances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500720" y="2205000"/>
            <a:ext cx="863280" cy="93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7B4-77F3-45BA-8A50-A9B2589133A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BC476-AF39-42D9-87A5-293E1FDA61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Activités : Wiki sur ENT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Usage du dfWiki sur le cours en lig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703d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Discussion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: les possibles usages des nouvelles technologies dans notre avenir professionnel 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BE5-DAE4-47A2-82AA-06478CE477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2AF19-9AFF-418F-9346-3B78195204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Web aujourd’hui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eb est un moyen de commun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conception de pages Web peut s’avérer compliqu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ment communiquer facile sur le Web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C8B-F64E-40A2-B897-99A09D1D64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50E37-CAA4-4C09-B186-CAE885522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Blog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« </a:t>
            </a:r>
            <a:r>
              <a:rPr b="0" i="1" lang="fr-FR" sz="2800" spc="-1" strike="noStrike">
                <a:solidFill>
                  <a:srgbClr val="703dff"/>
                </a:solidFill>
                <a:latin typeface="Comic Sans MS"/>
              </a:rPr>
              <a:t>we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») est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ite personnel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tenu par un ou plusieurs personnes (les </a:t>
            </a:r>
            <a:r>
              <a:rPr b="0" i="1" lang="fr-FR" sz="2800" spc="-1" strike="noStrike">
                <a:solidFill>
                  <a:srgbClr val="703dff"/>
                </a:solidFill>
                <a:latin typeface="Comic Sans MS"/>
              </a:rPr>
              <a:t>blogueur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que blog est composé de articles courts (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illets ou notes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publiés en ordr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nte-chronologiqu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uvent assimilé à un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journal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in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ouvent, les lecteurs peuvent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mment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un blo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B91-95FA-477D-AD08-1A37C425E7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2EA39-0CA8-498F-AA78-91DA7DA595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Blog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2280" y="141408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ile à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ncevo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sage d’outils spécialisés hébergés par les sites (Blogger.com, Skyblog.com,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 besoin de maîtriser le (X)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util de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mmunicatio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de promotion person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logs politiques, blogs de journaliste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rnets de voyages, photo-blog, video-blog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Contenu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varié : texte, images, vidéos, liens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résentation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homogène, personnalisation souvent limit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83C-8130-45AB-8EFE-31885CE896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EA207-67C5-46A9-9D05-27E14AC537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539640" y="189000"/>
            <a:ext cx="8050320" cy="3301920"/>
            <a:chOff x="539640" y="189000"/>
            <a:chExt cx="8050320" cy="3301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539640" y="189000"/>
              <a:ext cx="5137200" cy="33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47920" y="1675080"/>
              <a:ext cx="26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Édition simplifié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003280" y="1555920"/>
              <a:ext cx="86364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04800" y="2976480"/>
            <a:ext cx="7860960" cy="3765600"/>
            <a:chOff x="604800" y="2976480"/>
            <a:chExt cx="7860960" cy="3765600"/>
          </a:xfrm>
        </p:grpSpPr>
        <p:grpSp>
          <p:nvGrpSpPr>
            <p:cNvPr id="148" name=""/>
            <p:cNvGrpSpPr/>
            <p:nvPr/>
          </p:nvGrpSpPr>
          <p:grpSpPr>
            <a:xfrm>
              <a:off x="604800" y="2976480"/>
              <a:ext cx="7860960" cy="3765600"/>
              <a:chOff x="604800" y="2976480"/>
              <a:chExt cx="7860960" cy="37656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4800" y="2976480"/>
                <a:ext cx="5983200" cy="376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607360" y="5013360"/>
                <a:ext cx="285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Édition code HTML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ouvent permi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4500720" y="4724280"/>
                <a:ext cx="1077840" cy="433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042920" y="3789360"/>
              <a:ext cx="266400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68720" y="2354400"/>
            <a:ext cx="4751280" cy="3811320"/>
            <a:chOff x="4068720" y="2354400"/>
            <a:chExt cx="4751280" cy="3811320"/>
          </a:xfrm>
        </p:grpSpPr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4068720" y="2354400"/>
              <a:ext cx="4751280" cy="38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291200" y="4533840"/>
              <a:ext cx="11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illet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219640" y="4365720"/>
              <a:ext cx="4320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8360" y="4941720"/>
              <a:ext cx="431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59C-50FE-4BC9-B076-E908410A728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435B0-10F0-4550-AE87-DC1EFEBAA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Phénomène blo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hénomène de mass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 de 6 000 000 blogs sur Skyblo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ible privilégié : adolescents, jeunes adul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932360" y="3843360"/>
            <a:ext cx="4022640" cy="2860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1280" y="4221360"/>
            <a:ext cx="432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3dff"/>
                </a:solidFill>
                <a:latin typeface="Comic Sans MS"/>
              </a:rPr>
              <a:t>Evolution du n° de blogs (en millions) dans le monde, selon Technorat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http://www.journaldunet.com/cc/03_internetmonde/intermonde_blog.s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5B1-4B55-48F9-85B4-8E1EA9E23E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CE227-D867-4E6D-BF93-CBC642C8C2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Les difficulté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ises à jour fréquent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 « morte » des blog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Référencem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Visibilité d’un blo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blogs visités par person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1B1-7CC6-436F-9C1E-2DA5FED220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38EF5-39E1-439D-8B7A-2A253373CA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03dff"/>
                </a:solidFill>
                <a:latin typeface="Comic Sans MS"/>
              </a:rPr>
              <a:t>Les risques du blog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estions liés à la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ropriété intellectuell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et au droit à l’im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Respect à la vie privé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Quelques exemples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« Nissan fait condamner un blog de salariée pour diffamation » (</a:t>
            </a:r>
            <a:r>
              <a:rPr b="1" lang="fr-FR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zdnet.fr/actualites/internet/0,39020774,39364109,00.htm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« Un proviseur révoqué pour s'être livré intimement sur son blog »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http://www.zdnet.fr/entreprise/management-rh/collaboratif/0,50007183,39304238,00.htm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5E0-7A5F-469A-A84D-4E8578B3C9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9A3B0-702A-44A5-8656-172DFDEB77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23920"/>
            <a:ext cx="741672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Quelques exemples</a:t>
            </a:r>
            <a:endParaRPr b="0" lang="en-US" sz="40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696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logs éducatifs 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projet FLENET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blogg.org/blog.php/Carnet_FLE_2004/584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logs politiques 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Alain Juppé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al1jup.com/index.php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g à Part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blogapart.info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ites :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Sky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skyblog.com/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Blogge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blogger.com/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fr-FR" sz="2800" spc="-1" strike="noStrike">
                <a:solidFill>
                  <a:srgbClr val="703dff"/>
                </a:solidFill>
                <a:latin typeface="Comic Sans MS"/>
              </a:rPr>
              <a:t>NRJ Blog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http://www.nrjblog.f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)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AF6-A0C4-49D9-81AF-6B78DF44FA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CAB53-18C5-45BE-8528-DA8E0A5A2D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3:37:16Z</dcterms:created>
  <dc:creator>angelo</dc:creator>
  <dc:description/>
  <dc:language>en-US</dc:language>
  <cp:lastModifiedBy>angelo</cp:lastModifiedBy>
  <dcterms:modified xsi:type="dcterms:W3CDTF">2006-12-04T23:31:25Z</dcterms:modified>
  <cp:revision>86</cp:revision>
  <dc:subject/>
  <dc:title>Conception des pages Web Styles (CSS)</dc:title>
</cp:coreProperties>
</file>