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91A-087F-4ABE-A17D-0FE4EE6D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ADA-AAED-4EAE-8F2A-2D3B2E2F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2513-7C68-4F56-A587-82721753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FF90-1D70-4858-8C97-D0D46586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6F39-1F13-4063-807A-7CEE1388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E9B7-6237-41DE-9BA6-2DA19BEB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8047-4C89-4806-B0C7-3C0BBB45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1048-F933-445D-9754-3A74D394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1215-B075-4A26-8FC2-267D2F53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24000" y="223920"/>
            <a:ext cx="741672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00F6-8782-4922-B110-A8FF133B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DC88-9EF2-4366-8066-823D6CF7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A1C7-31AA-43C8-96D5-8ABE81EE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C308-002C-4697-B62C-4BA876EB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3AD1-5A1D-409E-8B83-9E70F220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F781-EDFE-4258-BDF0-7B6745D8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2184-8707-4E78-8836-39BEF69E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DAAE-B55A-45D1-A2BC-51DF2362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45BD-4492-4963-AF0B-D18BDF6F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780E-5088-475E-B15B-BCB3DE52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7AC-6589-41F8-A64A-2254ACA5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223920"/>
            <a:ext cx="741672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118-19E0-48A4-907B-72D6B461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8C8-05D0-43A5-8080-6C368F14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E915-E1CB-43B0-944F-342B1029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57AC-567F-4BB6-825B-6283EDE2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formatique et Réseaux </a:t>
            </a:r>
            <a:fld id="{04ADF665-2306-46FB-8F37-D3BAA1DAD78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267F-7B4F-4354-A1B1-908532AF73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4492-0AEA-435B-9442-A86749014C8E}" type="datetime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2A34-8220-4C12-86A4-F0742A8CB03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w3.org/" TargetMode="External"/><Relationship Id="rId2" Type="http://schemas.openxmlformats.org/officeDocument/2006/relationships/hyperlink" Target="http://validator.w3.org/" TargetMode="External"/><Relationship Id="rId3" Type="http://schemas.openxmlformats.org/officeDocument/2006/relationships/hyperlink" Target="http://www.htmlhelp.com/cgi-bin/validate.cgi" TargetMode="External"/><Relationship Id="rId4" Type="http://schemas.openxmlformats.org/officeDocument/2006/relationships/hyperlink" Target="http://giminik.developpez.com/xhtml/" TargetMode="External"/><Relationship Id="rId5" Type="http://schemas.openxmlformats.org/officeDocument/2006/relationships/hyperlink" Target="http://web.developpez.com/tutoriel/xhtmlcss/" TargetMode="External"/><Relationship Id="rId6" Type="http://schemas.openxmlformats.org/officeDocument/2006/relationships/hyperlink" Target="http://www.tuteurs.ens.fr/internet/web/html/bases.html" TargetMode="External"/><Relationship Id="rId7" Type="http://schemas.openxmlformats.org/officeDocument/2006/relationships/hyperlink" Target="http://gilles.chagnon.free.fr/cours/html/" TargetMode="External"/><Relationship Id="rId8" Type="http://schemas.openxmlformats.org/officeDocument/2006/relationships/hyperlink" Target="http://www.htmldog.com/guides/" TargetMode="Externa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3.org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adore.org/~david/computers/unicode/htmlent.html" TargetMode="External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onception de sites Web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HTML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 encoding="iso-8859-1"?&gt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DOCTYPE html PUBLIC "-//W3C//DTD XHTML 1.0 Transitional//EN"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fr-FR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"http://www.w3.org/TR/xhtml1/DTD/xhtml1-transitional.dtd"&gt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html xmlns="http://www.w3.org/1999/xhtml"&gt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head&gt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5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meta http-equiv="content-type" content="text/html; charset=iso-8859-1" /&gt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e&gt;Structure page Web&lt;/title&gt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b200"/>
                </a:solidFill>
                <a:latin typeface="Courier New"/>
                <a:ea typeface="Courier New"/>
              </a:rPr>
              <a:t>    </a:t>
            </a:r>
            <a:r>
              <a:rPr b="1" lang="fr-FR" sz="15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meta name="generator" content="amaya 9.52, see http://www.w3.org/Amaya/" /&gt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fr-FR" sz="15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head&gt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body&gt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fr-FR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1&gt;Structure d'une page Web&lt;/h1&gt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fr-FR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-- description structure des pages --&gt;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fr-FR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Les pages Web se divisent en deux parties : les en-tête et le corps du document. &lt;/p&gt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body&gt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html&gt;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5644080" y="692280"/>
            <a:ext cx="1761120" cy="3682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e utili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1484280"/>
            <a:ext cx="860436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1640" y="3068640"/>
            <a:ext cx="860436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10400" y="4221000"/>
            <a:ext cx="1732320" cy="3682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eta-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85" idx="2"/>
            <a:endCxn id="186" idx="0"/>
          </p:cNvCxnSpPr>
          <p:nvPr/>
        </p:nvCxnSpPr>
        <p:spPr>
          <a:xfrm flipH="1">
            <a:off x="4696920" y="1058760"/>
            <a:ext cx="1828080" cy="411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8" idx="0"/>
            <a:endCxn id="187" idx="4"/>
          </p:cNvCxnSpPr>
          <p:nvPr/>
        </p:nvCxnSpPr>
        <p:spPr>
          <a:xfrm flipH="1" flipV="1">
            <a:off x="4733640" y="3803040"/>
            <a:ext cx="2844000" cy="417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251-0DD7-4BEE-965C-B85F3F72B06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5A679-B8EB-42D4-951E-88B7F6DF9A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s norm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HTML 4.0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XHTML 1.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XHTML 1.0 Basic, Strict, Transitio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2492280"/>
            <a:ext cx="6934320" cy="9169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DOCTYPE html PUBLIC "-//W3C//DTD HTML 4.01 Transitional//EN"      "http://www.w3.org/TR/html4/loose.dtd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92360" y="4076640"/>
            <a:ext cx="7272360" cy="642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DOCTYPE html PUBLIC "-//W3C//DTD XHTML 1.1//EN"      "http://www.w3.org/TR/xhtml11/DTD/xhtml11.dtd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EE6-FBF3-4CE5-B65A-C87903B2332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80094-557A-45EB-9477-C6273A4BF5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Quelques balis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557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03dff"/>
                </a:solidFill>
                <a:latin typeface="Courier New"/>
                <a:ea typeface="Courier New"/>
              </a:rPr>
              <a:t>En-têtes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03d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title&gt; titre &lt;/title&gt;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: titre de la page. Il est affiché dans la barre de titre du navigateur. Il est également utilisé par les moteurs de recherch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757080" y="3948120"/>
            <a:ext cx="7775640" cy="22885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703dff"/>
                </a:solidFill>
                <a:latin typeface="Comic Sans MS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meta http-equiv="content-type" content="text/html; charset=iso-8859-1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fr-FR" sz="1800" spc="-1" strike="noStrike">
                <a:solidFill>
                  <a:srgbClr val="00b200"/>
                </a:solidFill>
                <a:latin typeface="Comic Sans MS"/>
              </a:rPr>
              <a:t>&lt;title&gt;Structure page Web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200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703dff"/>
                </a:solidFill>
                <a:latin typeface="Comic Sans MS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A58-4A0D-4954-A8A2-73A1A6C03DD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CBA72-17BE-4FFD-8E13-165472DC29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Quelques balis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dff"/>
                </a:solidFill>
                <a:latin typeface="Courier New"/>
                <a:ea typeface="Courier New"/>
              </a:rPr>
              <a:t>Corps du document 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p&gt;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texte &lt;/p&gt;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: paragraphe (avec saut de lign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br/&gt;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: saut de ligne forc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hr/&gt;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: Trace un trait de séparation horizont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h1&gt; texte &lt;/h1&gt;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hx (x=1 ... x=6)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écrit des titres (h1 = titre niveau 1, h2 = titre niveau 2, h3 = titre niveau 3 ..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em&gt; texte &lt;/em&gt;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: pour mettre en vale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lternative à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i&gt; italique &lt;/i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strong&gt; texte &lt;/strong&gt;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: pour faire ressortir du text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lternative à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b&gt; gras &lt;/b&gt;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7DF-20D9-4999-B1D9-42DE87DDCCC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63EA2-4132-47B3-B7D8-408FED4039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Quelques balis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istes à puce</a:t>
            </a:r>
            <a:br>
              <a:rPr sz="2400"/>
            </a:b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ul&gt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li&gt;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li&gt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li&gt;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li&gt;</a:t>
            </a:r>
            <a:br>
              <a:rPr sz="2000"/>
            </a:b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ul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istes numérotés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ol&gt;</a:t>
            </a:r>
            <a:br>
              <a:rPr sz="2000"/>
            </a:b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  &lt;li&gt;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 1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li&gt;</a:t>
            </a:r>
            <a:br>
              <a:rPr sz="2000"/>
            </a:b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  &lt;li&gt;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 2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li&gt;</a:t>
            </a:r>
            <a:br>
              <a:rPr sz="2000"/>
            </a:b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ol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div&gt;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e </a:t>
            </a: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div&gt;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: division logique, permet d’attribuer une mise en forme commun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148360" y="3068640"/>
            <a:ext cx="1955880" cy="1168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1600200" cy="120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CFA6-4615-41D6-BAEA-F2549E53CE4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2B6FF-3A34-4173-BA92-5885DE9DB6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80720" y="1052280"/>
            <a:ext cx="8783640" cy="5761080"/>
          </a:xfrm>
          <a:prstGeom prst="rect">
            <a:avLst/>
          </a:prstGeom>
          <a:solidFill>
            <a:srgbClr val="fffacb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DOCTYPE html PUBLIC "-//W3C//DTD XHTML 1.0 Transitional//EN"       "http://www.w3.org/TR/xhtml1/DTD/xhtml1-transitional.dtd"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 xmlns="http://www.w3.org/1999/xhtml" </a:t>
            </a:r>
            <a:r>
              <a:rPr b="1" lang="fr-FR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xml:lang="fr"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&gt;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meta content="text/html; charset=UTF-8" http-equiv="content-type" /&gt;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title&gt;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e page Web...</a:t>
            </a:r>
            <a:r>
              <a:rPr b="1" lang="fr-FR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title&gt;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400" spc="-1" strike="noStrike">
                <a:solidFill>
                  <a:srgbClr val="006600"/>
                </a:solidFill>
                <a:latin typeface="Courier New"/>
                <a:ea typeface="Courier New"/>
              </a:rPr>
              <a:t>&lt;meta content="Manuele Kirsch Pinheiro" name="author" /&gt;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400" spc="-1" strike="noStrike">
                <a:solidFill>
                  <a:srgbClr val="006600"/>
                </a:solidFill>
                <a:latin typeface="Courier New"/>
                <a:ea typeface="Courier New"/>
              </a:rPr>
              <a:t>&lt;meta content="Ceci est une page d'introduction au langage XHTML."  name="description" /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  <a:ea typeface="Courier New"/>
              </a:rPr>
              <a:t>style="background-color: #FFFF80; color: #000000;" alink="#000099"link="#000099" vlink="#990099"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1&gt;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esentation</a:t>
            </a:r>
            <a:r>
              <a:rPr b="1" lang="fr-FR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1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 align="center"&gt;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eci est un exemple de balise. Il existe aussi des balises autônomes (sans contenu).</a:t>
            </a:r>
            <a:r>
              <a:rPr b="1" lang="fr-FR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400" spc="-1" strike="noStrike">
                <a:solidFill>
                  <a:srgbClr val="006600"/>
                </a:solidFill>
                <a:latin typeface="Courier New"/>
                <a:ea typeface="Courier New"/>
              </a:rPr>
              <a:t>&lt;!-- ceci est un commentaire --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r /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div align="center"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fr-FR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2&gt;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mples</a:t>
            </a:r>
            <a:r>
              <a:rPr b="1" lang="fr-FR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h2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fr-FR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ci quelques exemples de choses qu'on peut faire dans une page Web :</a:t>
            </a:r>
            <a:r>
              <a:rPr b="1" lang="fr-FR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fr-FR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&gt;&lt;strong&gt;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ong</a:t>
            </a:r>
            <a:r>
              <a:rPr b="1" lang="fr-FR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strong&gt;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: on peut mettre en évidence un texte à travers la balise </a:t>
            </a:r>
            <a:r>
              <a:rPr b="1" lang="fr-FR" sz="1400" spc="-1" strike="noStrike">
                <a:solidFill>
                  <a:srgbClr val="006600"/>
                </a:solidFill>
                <a:latin typeface="Courier New"/>
                <a:ea typeface="Courier New"/>
              </a:rPr>
              <a:t>&amp;lt;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ong</a:t>
            </a:r>
            <a:r>
              <a:rPr b="1" lang="fr-FR" sz="1400" spc="-1" strike="noStrike">
                <a:solidFill>
                  <a:srgbClr val="006600"/>
                </a:solidFill>
                <a:latin typeface="Courier New"/>
                <a:ea typeface="Courier New"/>
              </a:rPr>
              <a:t>&amp;gt;&amp;lt;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strong</a:t>
            </a:r>
            <a:r>
              <a:rPr b="1" lang="fr-FR" sz="1400" spc="-1" strike="noStrike">
                <a:solidFill>
                  <a:srgbClr val="006600"/>
                </a:solidFill>
                <a:latin typeface="Courier New"/>
                <a:ea typeface="Courier New"/>
              </a:rPr>
              <a:t>&amp;gt;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div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hr /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7C4-E60C-4412-AD64-065434D61E4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7C8D8-AFBB-496F-8A06-E4A22DAD9D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8000" y="1065240"/>
            <a:ext cx="8050320" cy="56768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34920" y="3070080"/>
            <a:ext cx="2665440" cy="57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94200" y="294948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9" idx="1"/>
            <a:endCxn id="208" idx="6"/>
          </p:cNvCxnSpPr>
          <p:nvPr/>
        </p:nvCxnSpPr>
        <p:spPr>
          <a:xfrm flipH="1">
            <a:off x="2714400" y="3133800"/>
            <a:ext cx="397440" cy="224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971640" y="4221000"/>
            <a:ext cx="6337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97400" y="306216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agraphe 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356000" y="3429000"/>
            <a:ext cx="50328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4581360"/>
            <a:ext cx="7777080" cy="28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97360" y="414972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5" idx="1"/>
            <a:endCxn id="214" idx="7"/>
          </p:cNvCxnSpPr>
          <p:nvPr/>
        </p:nvCxnSpPr>
        <p:spPr>
          <a:xfrm flipH="1">
            <a:off x="6889680" y="4333680"/>
            <a:ext cx="603720" cy="276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3348000" y="4941720"/>
            <a:ext cx="158436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12600" y="5006880"/>
            <a:ext cx="4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8" idx="1"/>
            <a:endCxn id="217" idx="6"/>
          </p:cNvCxnSpPr>
          <p:nvPr/>
        </p:nvCxnSpPr>
        <p:spPr>
          <a:xfrm flipH="1" flipV="1">
            <a:off x="4946400" y="5157000"/>
            <a:ext cx="465840" cy="34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826920" y="5950080"/>
            <a:ext cx="86544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40440" y="508464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21" idx="2"/>
            <a:endCxn id="220" idx="7"/>
          </p:cNvCxnSpPr>
          <p:nvPr/>
        </p:nvCxnSpPr>
        <p:spPr>
          <a:xfrm flipH="1">
            <a:off x="1564920" y="5451120"/>
            <a:ext cx="419760" cy="5482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F821-F86D-4750-B4D9-EED923B0608B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5150A-49D6-4F84-93BB-08AABA4CFE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Quelques liens utiles …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072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3C :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w3.org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lidateurs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validator.w3.org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(W3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http://www.htmlhelp.com/cgi-bin/validate.cgi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 balises XHTML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http://giminik.developpez.com/xhtml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torial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http://web.developpez.com/tutoriel/xhtmlcss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http://www.tuteurs.ens.fr/internet/web/html/bases.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http://gilles.chagnon.free.fr/cours/html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http://www.htmldog.com/guides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F09-A101-4466-8BCC-CDC4296C6F1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5872E-5259-4731-99CD-0106F5B0A3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760640" y="1555920"/>
            <a:ext cx="43830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À partir des balises données en cours, écrire une page Web contenant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  <a:ea typeface="Courier New"/>
              </a:rPr>
              <a:t>votre C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Indiquer au moins votre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arcours universitai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ou votre expérience professionnel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08000" y="1617840"/>
            <a:ext cx="4735440" cy="41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318C-B135-467D-88E7-2E6D14AC88C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27A9C-AE1A-4ACC-A0CD-168A1C9C81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64320" y="264240"/>
            <a:ext cx="7336080" cy="7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ie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5197320" cy="2735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H="1" flipV="1">
            <a:off x="2627280" y="278712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133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Vers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une autre pag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 du mêm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77080" y="328464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88000" y="47242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Vers une page d'un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autr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24000" y="4797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Vers une autre ligne de la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êm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571640" y="422100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EE5-5E11-4D69-8616-9F456ED5F3C7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AA7E8-53D4-490A-B2BE-CA4B52D4F7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nception des pages Web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898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angages de conception : 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HTML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t 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X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HTML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HyperText Markup Languag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ngage de bali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Norme mondiale (HTML 4.0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XHTML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Extensible HyperText Markup Languag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Nouveau standard, plus extensible que 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trôle de la syntaxe renforc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formulation de HTML en X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Définition de la structure logique du document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9105-CC01-4E87-BB58-A32A67524C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05D74-81EC-4AB1-8114-ABE840859D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ie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10840" y="1412640"/>
            <a:ext cx="8381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Utilisation des balises </a:t>
            </a:r>
            <a:r>
              <a:rPr b="1" lang="fr-FR" sz="1600" spc="-1" strike="noStrike">
                <a:solidFill>
                  <a:srgbClr val="703dff"/>
                </a:solidFill>
                <a:latin typeface="Comic Sans MS"/>
              </a:rPr>
              <a:t>&lt;a&gt;…&lt;/a&gt;</a:t>
            </a:r>
            <a:r>
              <a:rPr b="0" lang="fr-FR" sz="1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cc33"/>
                </a:solidFill>
                <a:latin typeface="Courier New"/>
                <a:ea typeface="Courier New"/>
              </a:rPr>
              <a:t>&lt;a</a:t>
            </a:r>
            <a:r>
              <a:rPr b="1" lang="fr-FR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 href="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source.html </a:t>
            </a:r>
            <a:r>
              <a:rPr b="1" lang="fr-FR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"</a:t>
            </a:r>
            <a:r>
              <a:rPr b="1" lang="fr-FR" sz="1600" spc="-1" strike="noStrike">
                <a:solidFill>
                  <a:srgbClr val="33cc33"/>
                </a:solidFill>
                <a:latin typeface="Courier New"/>
                <a:ea typeface="Courier New"/>
              </a:rPr>
              <a:t>&gt;</a:t>
            </a:r>
            <a:r>
              <a:rPr b="1" lang="fr-FR" sz="1600" spc="-1" strike="noStrike">
                <a:solidFill>
                  <a:srgbClr val="009900"/>
                </a:solidFill>
                <a:latin typeface="Courier New"/>
                <a:ea typeface="Courier New"/>
              </a:rPr>
              <a:t> </a:t>
            </a:r>
            <a:r>
              <a:rPr b="1" lang="fr-FR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source à lier</a:t>
            </a:r>
            <a:r>
              <a:rPr b="1" i="1" lang="fr-FR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 </a:t>
            </a:r>
            <a:r>
              <a:rPr b="1" lang="fr-FR" sz="1600" spc="-1" strike="noStrike">
                <a:solidFill>
                  <a:srgbClr val="33cc33"/>
                </a:solidFill>
                <a:latin typeface="Courier New"/>
                <a:ea typeface="Courier New"/>
              </a:rPr>
              <a:t>&lt;/a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Attribut</a:t>
            </a:r>
            <a:r>
              <a:rPr b="0" lang="fr-FR" sz="1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fr-FR" sz="1400" spc="-1" strike="noStrike">
                <a:solidFill>
                  <a:srgbClr val="703dff"/>
                </a:solidFill>
                <a:latin typeface="Comic Sans MS"/>
              </a:rPr>
              <a:t>href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: URL du fichier qui sera chargé dans le navigateur une fois cliqué sur lien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Lien vers un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sit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http (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URL absolu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cc33"/>
                </a:solidFill>
                <a:latin typeface="Courier New"/>
                <a:ea typeface="Courier New"/>
              </a:rPr>
              <a:t>&lt;a</a:t>
            </a:r>
            <a:r>
              <a:rPr b="0" lang="fr-FR" sz="1600" spc="-1" strike="noStrike">
                <a:solidFill>
                  <a:srgbClr val="33cc33"/>
                </a:solidFill>
                <a:latin typeface="Courier New"/>
                <a:ea typeface="Courier New"/>
              </a:rPr>
              <a:t>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href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="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http://www.univ-nancy2.fr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&gt; Université Nancy 2</a:t>
            </a:r>
            <a:r>
              <a:rPr b="0" lang="fr-FR" sz="1600" spc="-1" strike="noStrike">
                <a:solidFill>
                  <a:srgbClr val="33cc33"/>
                </a:solidFill>
                <a:latin typeface="Courier New"/>
                <a:ea typeface="Courier New"/>
              </a:rPr>
              <a:t> </a:t>
            </a:r>
            <a:r>
              <a:rPr b="1" lang="fr-FR" sz="1600" spc="-1" strike="noStrike">
                <a:solidFill>
                  <a:srgbClr val="33cc33"/>
                </a:solidFill>
                <a:latin typeface="Courier New"/>
                <a:ea typeface="Courier New"/>
              </a:rPr>
              <a:t>&lt;/a&gt;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Comic Sans MS"/>
              </a:rPr>
              <a:t>Remarque : Lorsqu'aucune page n'est spécifiée  c'est la page d'accueil qui s'affiche (index"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Lien vers une page du même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sit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URL relatif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1600"/>
            </a:b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href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="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rapport.htm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&gt;Mon rapport</a:t>
            </a: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/a&gt;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Même dossier</a:t>
            </a:r>
            <a:br>
              <a:rPr sz="1400"/>
            </a:b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href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="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../rapport.htm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&gt;Mon rapport </a:t>
            </a: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/a&g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Niveau supérieur</a:t>
            </a:r>
            <a:br>
              <a:rPr sz="1400"/>
            </a:b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href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="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pages/rapport.htm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&gt;Mon rapport </a:t>
            </a: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/a&g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Dossier "pages"</a:t>
            </a:r>
            <a:br>
              <a:rPr sz="1400"/>
            </a:b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Envoi d'un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messag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électronique</a:t>
            </a:r>
            <a:br>
              <a:rPr sz="1400"/>
            </a:b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href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="mailto:machin@domaine.fr"&gt;Ecrivez nous !</a:t>
            </a: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/a&gt;</a:t>
            </a:r>
            <a:br>
              <a:rPr sz="1600"/>
            </a:br>
            <a:r>
              <a:rPr b="1" lang="fr-FR" sz="1600" spc="-1" strike="noStrike">
                <a:solidFill>
                  <a:srgbClr val="00b2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Comic Sans MS"/>
              </a:rPr>
              <a:t>Attention au SPAM !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FEC-0468-4849-8B7A-AA75921089E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0E073-EC24-4207-9AC3-ECF2AEA468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508680" y="589680"/>
            <a:ext cx="7336080" cy="7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iens à l'intérieur de la p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10920" y="1844280"/>
            <a:ext cx="769284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1. Définir la cible du lien (ancre)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a name="conclusion"&gt; ou &lt;h1 id="conclusion"&gt; CONCLUSION &lt;/h1&gt;</a:t>
            </a:r>
            <a:br>
              <a:rPr sz="2000"/>
            </a:br>
            <a:br>
              <a:rPr sz="2000"/>
            </a:b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Par défaut </a:t>
            </a:r>
            <a:r>
              <a:rPr b="1" i="1" lang="fr-FR" sz="2000" spc="-1" strike="noStrike">
                <a:solidFill>
                  <a:srgbClr val="000000"/>
                </a:solidFill>
                <a:latin typeface="Comic Sans MS"/>
              </a:rPr>
              <a:t>top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 est l'ancre du haut de p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2. Rendre une portion de texte cliqu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200"/>
                </a:solidFill>
                <a:latin typeface="Courier New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b200"/>
                </a:solidFill>
                <a:latin typeface="Courier New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a href="#conclusion"&gt;la conclusion&lt;/a&gt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200"/>
                </a:solidFill>
                <a:latin typeface="Courier New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b200"/>
                </a:solidFill>
                <a:latin typeface="Courier New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a href="#top"&gt;retour haut de page&lt;/a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200"/>
                </a:solidFill>
                <a:latin typeface="Courier New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b200"/>
                </a:solidFill>
                <a:latin typeface="Courier New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a href="memoire.htm#conclusion"&gt;conclusion du mémoire&lt;/a&gt;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F9C-75A2-4F0F-B436-E9DE8A88217F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7D71C-9D90-48DF-BBDC-E613DA15A7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97000" y="98100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p&gt; &lt;strong&gt;Listes&lt;/strong&gt; : on peut faire des listes à </a:t>
            </a:r>
            <a:r>
              <a:rPr b="1" lang="fr-FR" sz="1800" spc="-1" strike="noStrike">
                <a:solidFill>
                  <a:srgbClr val="703dff"/>
                </a:solidFill>
                <a:latin typeface="Comic Sans MS"/>
              </a:rPr>
              <a:t>&lt;a href="#puces"&gt;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uces</a:t>
            </a:r>
            <a:r>
              <a:rPr b="1" lang="fr-FR" sz="1800" spc="-1" strike="noStrike">
                <a:solidFill>
                  <a:srgbClr val="703dff"/>
                </a:solidFill>
                <a:latin typeface="Comic Sans MS"/>
              </a:rPr>
              <a:t>&lt;/a&gt;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ou </a:t>
            </a:r>
            <a:r>
              <a:rPr b="1" lang="fr-FR" sz="1800" spc="-1" strike="noStrike">
                <a:solidFill>
                  <a:srgbClr val="00b200"/>
                </a:solidFill>
                <a:latin typeface="Comic Sans MS"/>
              </a:rPr>
              <a:t>&lt;a href="#ol"&gt;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umérotés</a:t>
            </a:r>
            <a:r>
              <a:rPr b="1" lang="fr-FR" sz="1800" spc="-1" strike="noStrike">
                <a:solidFill>
                  <a:srgbClr val="00b200"/>
                </a:solidFill>
                <a:latin typeface="Comic Sans MS"/>
              </a:rPr>
              <a:t>&lt;/a&gt;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 . 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h3&gt;Listes à </a:t>
            </a:r>
            <a:r>
              <a:rPr b="1" lang="fr-FR" sz="1800" spc="-1" strike="noStrike">
                <a:solidFill>
                  <a:srgbClr val="703dff"/>
                </a:solidFill>
                <a:latin typeface="Comic Sans MS"/>
              </a:rPr>
              <a:t>&lt;a name="puces"&gt;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uces</a:t>
            </a:r>
            <a:r>
              <a:rPr b="1" lang="fr-FR" sz="1800" spc="-1" strike="noStrike">
                <a:solidFill>
                  <a:srgbClr val="703dff"/>
                </a:solidFill>
                <a:latin typeface="Comic Sans MS"/>
              </a:rPr>
              <a:t>&lt;/a&gt;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/h3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li&gt;item&lt;/li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li&gt;item&lt;/li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h3&gt;Listes </a:t>
            </a:r>
            <a:r>
              <a:rPr b="1" lang="fr-FR" sz="1800" spc="-1" strike="noStrike">
                <a:solidFill>
                  <a:srgbClr val="00b200"/>
                </a:solidFill>
                <a:latin typeface="Comic Sans MS"/>
              </a:rPr>
              <a:t>&lt;a name="ol"&gt;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umérotés</a:t>
            </a:r>
            <a:r>
              <a:rPr b="1" lang="fr-FR" sz="1800" spc="-1" strike="noStrike">
                <a:solidFill>
                  <a:srgbClr val="00b200"/>
                </a:solidFill>
                <a:latin typeface="Comic Sans MS"/>
              </a:rPr>
              <a:t>&lt;/a&gt;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/h3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ol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li&gt;item 1&lt;/li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li&gt;item 2&lt;/li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/ol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 . 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0C24-72C0-4224-9438-B91EDAAC5D5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DCD89-1082-4ABE-B901-3A08F7E389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46040" y="311040"/>
            <a:ext cx="73152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Liens :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uverture dans une nouvelle fenêtre</a:t>
            </a: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75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 href="rapport.htm" </a:t>
            </a:r>
            <a:r>
              <a:rPr b="0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target="_blank"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n rapport&lt;/a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00000" y="3429000"/>
            <a:ext cx="3384720" cy="2413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076720" y="3429000"/>
            <a:ext cx="3360960" cy="239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D78-A9BB-4657-B889-BD1AD849CBBD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49009-8FCD-4678-B751-33D77AABF3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s imag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tilisation de la balise </a:t>
            </a:r>
            <a:r>
              <a:rPr b="0" lang="fr-FR" sz="2400" spc="-1" strike="noStrike">
                <a:solidFill>
                  <a:srgbClr val="33cc33"/>
                </a:solidFill>
                <a:latin typeface="Comic Sans MS"/>
              </a:rPr>
              <a:t>&lt;img </a:t>
            </a: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src="fichier_image" /</a:t>
            </a:r>
            <a:r>
              <a:rPr b="0" lang="fr-FR" sz="2400" spc="-1" strike="noStrike">
                <a:solidFill>
                  <a:srgbClr val="33cc33"/>
                </a:solidFill>
                <a:latin typeface="Comic Sans MS"/>
              </a:rPr>
              <a:t>&gt;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ttributs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200"/>
                </a:solidFill>
                <a:latin typeface="Comic Sans MS"/>
              </a:rPr>
              <a:t>src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la source, nom du fichier image (format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gif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ou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jpg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200"/>
                </a:solidFill>
                <a:latin typeface="Comic Sans MS"/>
              </a:rPr>
              <a:t>width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largeur prise dans la page web par l'im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200"/>
                </a:solidFill>
                <a:latin typeface="Comic Sans MS"/>
              </a:rPr>
              <a:t>height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hauteur prise dans la page web par l'im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200"/>
                </a:solidFill>
                <a:latin typeface="Comic Sans MS"/>
              </a:rPr>
              <a:t>alt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info-bulle qui apparaît lorsque le curseur de la souris reste positionné sur l’im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200"/>
                </a:solidFill>
                <a:latin typeface="Comic Sans MS"/>
              </a:rPr>
              <a:t>borde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taille en pixels de la bord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&lt;img src=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 exemple.jpg"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width=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0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height=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0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alt=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Une jolie image"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border=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&lt;img alt=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Photo"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src=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PhotoKirschPinheiro.jpg"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width=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89"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248E-D226-48B7-82F8-28967EE45C3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9A4B9-9BD3-412A-88FB-BC9FEB48E2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64320" y="300600"/>
            <a:ext cx="7336080" cy="7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Insertion d'une image - Exemples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250920" y="1844640"/>
            <a:ext cx="5833800" cy="18853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&lt;img src="photo1.jpg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&lt;img src="photo1.jpg" width="61" height="38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&lt;img src="photo1.jpg" alt="l'Esch en hiver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&lt;img src="photo1.jpg" align="left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276720" y="1773360"/>
            <a:ext cx="5759280" cy="1420560"/>
            <a:chOff x="3276720" y="1773360"/>
            <a:chExt cx="5759280" cy="142056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6154560" y="1773360"/>
              <a:ext cx="288144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flipV="1">
              <a:off x="3276720" y="2204280"/>
              <a:ext cx="2808000" cy="215640"/>
            </a:xfrm>
            <a:prstGeom prst="line">
              <a:avLst/>
            </a:prstGeom>
            <a:ln w="9360">
              <a:solidFill>
                <a:srgbClr val="703d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724360" y="2924280"/>
            <a:ext cx="3311640" cy="1790640"/>
            <a:chOff x="5724360" y="2924280"/>
            <a:chExt cx="3311640" cy="1790640"/>
          </a:xfrm>
        </p:grpSpPr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6154560" y="3500280"/>
              <a:ext cx="288144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724360" y="2924280"/>
              <a:ext cx="360360" cy="576000"/>
            </a:xfrm>
            <a:prstGeom prst="line">
              <a:avLst/>
            </a:prstGeom>
            <a:ln w="9360">
              <a:solidFill>
                <a:srgbClr val="703d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148360" y="3357720"/>
            <a:ext cx="3173400" cy="3095640"/>
            <a:chOff x="5148360" y="3357720"/>
            <a:chExt cx="3173400" cy="3095640"/>
          </a:xfrm>
        </p:grpSpPr>
        <p:sp>
          <p:nvSpPr>
            <p:cNvPr id="257" name=""/>
            <p:cNvSpPr/>
            <p:nvPr/>
          </p:nvSpPr>
          <p:spPr>
            <a:xfrm>
              <a:off x="5148360" y="3357720"/>
              <a:ext cx="863640" cy="1901520"/>
            </a:xfrm>
            <a:prstGeom prst="line">
              <a:avLst/>
            </a:prstGeom>
            <a:ln w="9360">
              <a:solidFill>
                <a:srgbClr val="703d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3"/>
            <a:stretch/>
          </p:blipFill>
          <p:spPr>
            <a:xfrm>
              <a:off x="6083280" y="5043600"/>
              <a:ext cx="2238480" cy="140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"/>
          <p:cNvGrpSpPr/>
          <p:nvPr/>
        </p:nvGrpSpPr>
        <p:grpSpPr>
          <a:xfrm>
            <a:off x="611280" y="3716280"/>
            <a:ext cx="4464000" cy="2724120"/>
            <a:chOff x="611280" y="3716280"/>
            <a:chExt cx="4464000" cy="2724120"/>
          </a:xfrm>
        </p:grpSpPr>
        <p:pic>
          <p:nvPicPr>
            <p:cNvPr id="260" name="" descr=""/>
            <p:cNvPicPr/>
            <p:nvPr/>
          </p:nvPicPr>
          <p:blipFill>
            <a:blip r:embed="rId4"/>
            <a:stretch/>
          </p:blipFill>
          <p:spPr>
            <a:xfrm>
              <a:off x="611280" y="4941720"/>
              <a:ext cx="446400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 flipH="1">
              <a:off x="2700000" y="3716280"/>
              <a:ext cx="73080" cy="1152720"/>
            </a:xfrm>
            <a:prstGeom prst="line">
              <a:avLst/>
            </a:prstGeom>
            <a:ln w="9360">
              <a:solidFill>
                <a:srgbClr val="703d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3B47-62D1-48B6-8EDD-42325533322C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C7770-33BE-4FE5-9BFF-347E04026F82}" type="datetime1">
              <a:rPr lang="en-US"/>
              <a:t>07/29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64320" y="264240"/>
            <a:ext cx="7336080" cy="7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Insertion d'une image - Conseils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9280" y="1341360"/>
            <a:ext cx="7696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iminuer la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taille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d'une image ne diminue pas son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poids donc sa durée de chargement 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 redimensionnement d'une seule dimension conserve les proportions</a:t>
            </a:r>
            <a:br>
              <a:rPr sz="28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xemple :  </a:t>
            </a:r>
            <a:r>
              <a:rPr b="1" lang="en-US" sz="20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img src="photo1.jpg" width="61" /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viter d'utiliser les attributs d'alignement, préférer l'utilisation des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sty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00A-55D3-4779-985B-A6EAC05EB9B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75E79-52B4-4088-A2BB-12039F1337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64320" y="264240"/>
            <a:ext cx="7336080" cy="7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s tableaux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5003280" y="1483920"/>
            <a:ext cx="3961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que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lig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tient un nombre quelconque de cellu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ail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'une cellule s'adapte en fonction de son conten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e cellule peut tout contenir :  paragraphe, images, même un autre tableau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968720" cy="7858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08000" y="2349360"/>
            <a:ext cx="4716360" cy="973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108000" y="3571920"/>
            <a:ext cx="4788000" cy="6793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44360" y="4579920"/>
            <a:ext cx="4572000" cy="105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5F5-412C-4D56-A667-6802F693725D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573E1-DE51-439E-912C-1EC6D5E22C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459720" y="1197000"/>
            <a:ext cx="4707000" cy="53060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able border="1"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&lt;/td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nne 1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d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nne 2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d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gne 1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1,1)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1,2)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gne 2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2,1)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2,2)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56360" y="2637000"/>
            <a:ext cx="2527200" cy="189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4FB8-D2F9-4EA4-954E-F656E9EC2F2D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8910B-9380-4D83-853D-230637F49D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64320" y="264240"/>
            <a:ext cx="7336080" cy="7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ise en forme des tableaux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entrer un tableau dans la page :</a:t>
            </a:r>
            <a:br>
              <a:rPr sz="3200"/>
            </a:br>
            <a:r>
              <a:rPr b="1" lang="en-US" sz="24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table align="center"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rgeur du tableau</a:t>
            </a:r>
            <a:br>
              <a:rPr sz="3200"/>
            </a:br>
            <a:r>
              <a:rPr b="1" lang="en-US" sz="24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table width="75%"&gt;</a:t>
            </a:r>
            <a:br>
              <a:rPr sz="2400"/>
            </a:br>
            <a:r>
              <a:rPr b="1" lang="en-US" sz="24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table width="120"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Épaisseur de la bordure</a:t>
            </a:r>
            <a:br>
              <a:rPr sz="3200"/>
            </a:br>
            <a:r>
              <a:rPr b="1" lang="en-US" sz="24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table border="1"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l est possible de fusionner des colonnes, des lig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ttributs : </a:t>
            </a:r>
            <a:r>
              <a:rPr b="1" lang="fr-FR" sz="2800" spc="-1" strike="noStrike">
                <a:solidFill>
                  <a:srgbClr val="00b200"/>
                </a:solidFill>
                <a:latin typeface="Courier New"/>
                <a:ea typeface="Courier New"/>
              </a:rPr>
              <a:t>colspan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fr-FR" sz="2800" spc="-1" strike="noStrike">
                <a:solidFill>
                  <a:srgbClr val="00b200"/>
                </a:solidFill>
                <a:latin typeface="Courier New"/>
                <a:ea typeface="Courier New"/>
              </a:rPr>
              <a:t>rowsp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B24A-D178-451E-91FB-F00CB8EC40DF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E9479-4DA8-44BB-8999-26A7161732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HTML et XHTML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025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angages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interprétés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r les navigateu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’extension correspondant au format de fichier HTML :  </a:t>
            </a:r>
            <a:r>
              <a:rPr b="0" i="1" lang="fr-FR" sz="2800" spc="-1" strike="noStrike">
                <a:solidFill>
                  <a:srgbClr val="703dff"/>
                </a:solidFill>
                <a:latin typeface="Comic Sans MS"/>
              </a:rPr>
              <a:t>.htm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  ou  </a:t>
            </a:r>
            <a:r>
              <a:rPr b="0" i="1" lang="fr-FR" sz="2800" spc="-1" strike="noStrike">
                <a:solidFill>
                  <a:srgbClr val="703dff"/>
                </a:solidFill>
                <a:latin typeface="Comic Sans MS"/>
              </a:rPr>
              <a:t>.html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Qui définit les langages ?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W3C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 (</a:t>
            </a:r>
            <a:r>
              <a:rPr b="0" lang="fr-FR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w3.org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mment créer une page 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Éditeur de texte : </a:t>
            </a: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bloc note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Éditeur de page HTML : </a:t>
            </a: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Nvu, Amaya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Généré par de nombreux logiciels :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Dreamweaver, FrontPage, Word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E0AD-AC9C-40E5-9326-501C5BBC18D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005FC-4717-414D-9C33-3FC83D22BC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188280" y="1127160"/>
            <a:ext cx="5667120" cy="54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able border="1"</a:t>
            </a: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align="center" width="70%"</a:t>
            </a: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</a:t>
            </a: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rowspan="2"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colspan="2"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align="center"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rong&gt;colonnes&lt;/strong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 &lt;strong&gt;colonne 1&lt;/strong&gt;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&lt;strong&gt;colonne 2&lt;/strong&gt;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&lt;strong&gt;ligne 1&lt;/strong&gt;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(1,1)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(1,2)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&lt;strong&gt;ligne 2&lt;/strong&gt;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(2,1)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(2,2)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ab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755640" y="4224240"/>
            <a:ext cx="8209080" cy="237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7BE-85DD-41E3-9830-34EC23989A7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F191B-A52A-445C-9D14-6B9DD9371D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64320" y="264240"/>
            <a:ext cx="7336080" cy="7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Gestion des couleur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611280" y="1335240"/>
            <a:ext cx="77626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de RGB : Rouge,Vert, Bl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uances entre 0 et 255. Ce nombre est codé en hexadécimal : il est alors compris entre 0 et FF (ex: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FFFFF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urs litté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859280" y="1700280"/>
            <a:ext cx="3818880" cy="4342680"/>
            <a:chOff x="4859280" y="1700280"/>
            <a:chExt cx="3818880" cy="4342680"/>
          </a:xfrm>
        </p:grpSpPr>
        <p:grpSp>
          <p:nvGrpSpPr>
            <p:cNvPr id="281" name=""/>
            <p:cNvGrpSpPr/>
            <p:nvPr/>
          </p:nvGrpSpPr>
          <p:grpSpPr>
            <a:xfrm>
              <a:off x="4859280" y="1700280"/>
              <a:ext cx="911160" cy="270720"/>
              <a:chOff x="4859280" y="1700280"/>
              <a:chExt cx="911160" cy="270720"/>
            </a:xfrm>
          </p:grpSpPr>
          <p:sp>
            <p:nvSpPr>
              <p:cNvPr id="282" name=""/>
              <p:cNvSpPr/>
              <p:nvPr/>
            </p:nvSpPr>
            <p:spPr>
              <a:xfrm>
                <a:off x="4859280" y="170028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59280" y="170028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BLACK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5770800" y="1700280"/>
              <a:ext cx="1899000" cy="270720"/>
              <a:chOff x="5770800" y="1700280"/>
              <a:chExt cx="1899000" cy="270720"/>
            </a:xfrm>
          </p:grpSpPr>
          <p:sp>
            <p:nvSpPr>
              <p:cNvPr id="285" name=""/>
              <p:cNvSpPr/>
              <p:nvPr/>
            </p:nvSpPr>
            <p:spPr>
              <a:xfrm>
                <a:off x="5770800" y="170028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70800" y="170028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Noir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7670520" y="1700280"/>
              <a:ext cx="1007640" cy="270720"/>
              <a:chOff x="7670520" y="1700280"/>
              <a:chExt cx="1007640" cy="270720"/>
            </a:xfrm>
          </p:grpSpPr>
          <p:sp>
            <p:nvSpPr>
              <p:cNvPr id="288" name=""/>
              <p:cNvSpPr/>
              <p:nvPr/>
            </p:nvSpPr>
            <p:spPr>
              <a:xfrm>
                <a:off x="7670520" y="1700280"/>
                <a:ext cx="1007640" cy="270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70520" y="1700280"/>
                <a:ext cx="1007640" cy="270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BLACK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859280" y="1971360"/>
              <a:ext cx="911160" cy="270720"/>
              <a:chOff x="4859280" y="1971360"/>
              <a:chExt cx="911160" cy="270720"/>
            </a:xfrm>
          </p:grpSpPr>
          <p:sp>
            <p:nvSpPr>
              <p:cNvPr id="291" name=""/>
              <p:cNvSpPr/>
              <p:nvPr/>
            </p:nvSpPr>
            <p:spPr>
              <a:xfrm>
                <a:off x="4859280" y="197136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59280" y="197136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MAROON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5770800" y="1971360"/>
              <a:ext cx="1899000" cy="270720"/>
              <a:chOff x="5770800" y="1971360"/>
              <a:chExt cx="1899000" cy="270720"/>
            </a:xfrm>
          </p:grpSpPr>
          <p:sp>
            <p:nvSpPr>
              <p:cNvPr id="294" name=""/>
              <p:cNvSpPr/>
              <p:nvPr/>
            </p:nvSpPr>
            <p:spPr>
              <a:xfrm>
                <a:off x="5770800" y="197136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770800" y="197136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Marron ou rouge foncé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7670520" y="1971360"/>
              <a:ext cx="1007640" cy="270720"/>
              <a:chOff x="7670520" y="1971360"/>
              <a:chExt cx="1007640" cy="270720"/>
            </a:xfrm>
          </p:grpSpPr>
          <p:sp>
            <p:nvSpPr>
              <p:cNvPr id="297" name=""/>
              <p:cNvSpPr/>
              <p:nvPr/>
            </p:nvSpPr>
            <p:spPr>
              <a:xfrm>
                <a:off x="7670520" y="1971360"/>
                <a:ext cx="1007640" cy="27072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670520" y="1971360"/>
                <a:ext cx="1007640" cy="27072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800000"/>
                    </a:solidFill>
                    <a:latin typeface="Verdana"/>
                  </a:rPr>
                  <a:t>MAROON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4859280" y="2242800"/>
              <a:ext cx="911160" cy="270720"/>
              <a:chOff x="4859280" y="2242800"/>
              <a:chExt cx="911160" cy="270720"/>
            </a:xfrm>
          </p:grpSpPr>
          <p:sp>
            <p:nvSpPr>
              <p:cNvPr id="300" name=""/>
              <p:cNvSpPr/>
              <p:nvPr/>
            </p:nvSpPr>
            <p:spPr>
              <a:xfrm>
                <a:off x="4859280" y="224280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59280" y="224280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GREEN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5770800" y="2242800"/>
              <a:ext cx="1899000" cy="270720"/>
              <a:chOff x="5770800" y="2242800"/>
              <a:chExt cx="1899000" cy="270720"/>
            </a:xfrm>
          </p:grpSpPr>
          <p:sp>
            <p:nvSpPr>
              <p:cNvPr id="303" name=""/>
              <p:cNvSpPr/>
              <p:nvPr/>
            </p:nvSpPr>
            <p:spPr>
              <a:xfrm>
                <a:off x="5770800" y="224280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770800" y="224280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Vert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7670520" y="2242800"/>
              <a:ext cx="1007640" cy="270720"/>
              <a:chOff x="7670520" y="2242800"/>
              <a:chExt cx="1007640" cy="270720"/>
            </a:xfrm>
          </p:grpSpPr>
          <p:sp>
            <p:nvSpPr>
              <p:cNvPr id="306" name=""/>
              <p:cNvSpPr/>
              <p:nvPr/>
            </p:nvSpPr>
            <p:spPr>
              <a:xfrm>
                <a:off x="7670520" y="2242800"/>
                <a:ext cx="1007640" cy="2707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670520" y="2242800"/>
                <a:ext cx="1007640" cy="2707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Verdana"/>
                  </a:rPr>
                  <a:t>GREEN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4859280" y="2514240"/>
              <a:ext cx="911160" cy="270720"/>
              <a:chOff x="4859280" y="2514240"/>
              <a:chExt cx="911160" cy="270720"/>
            </a:xfrm>
          </p:grpSpPr>
          <p:sp>
            <p:nvSpPr>
              <p:cNvPr id="309" name=""/>
              <p:cNvSpPr/>
              <p:nvPr/>
            </p:nvSpPr>
            <p:spPr>
              <a:xfrm>
                <a:off x="4859280" y="251424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859280" y="251424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OLIVE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5770800" y="2514240"/>
              <a:ext cx="1899000" cy="270720"/>
              <a:chOff x="5770800" y="2514240"/>
              <a:chExt cx="1899000" cy="270720"/>
            </a:xfrm>
          </p:grpSpPr>
          <p:sp>
            <p:nvSpPr>
              <p:cNvPr id="312" name=""/>
              <p:cNvSpPr/>
              <p:nvPr/>
            </p:nvSpPr>
            <p:spPr>
              <a:xfrm>
                <a:off x="5770800" y="251424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770800" y="251424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Vert olive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7670520" y="2514240"/>
              <a:ext cx="1007640" cy="270720"/>
              <a:chOff x="7670520" y="2514240"/>
              <a:chExt cx="1007640" cy="270720"/>
            </a:xfrm>
          </p:grpSpPr>
          <p:sp>
            <p:nvSpPr>
              <p:cNvPr id="315" name=""/>
              <p:cNvSpPr/>
              <p:nvPr/>
            </p:nvSpPr>
            <p:spPr>
              <a:xfrm>
                <a:off x="7670520" y="2514240"/>
                <a:ext cx="1007640" cy="27072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670520" y="2514240"/>
                <a:ext cx="1007640" cy="27072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808000"/>
                    </a:solidFill>
                    <a:latin typeface="Verdana"/>
                  </a:rPr>
                  <a:t>OLIVE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4859280" y="2785680"/>
              <a:ext cx="911160" cy="270720"/>
              <a:chOff x="4859280" y="2785680"/>
              <a:chExt cx="911160" cy="270720"/>
            </a:xfrm>
          </p:grpSpPr>
          <p:sp>
            <p:nvSpPr>
              <p:cNvPr id="318" name=""/>
              <p:cNvSpPr/>
              <p:nvPr/>
            </p:nvSpPr>
            <p:spPr>
              <a:xfrm>
                <a:off x="4859280" y="278568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859280" y="278568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NAV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770800" y="2785680"/>
              <a:ext cx="1899000" cy="270720"/>
              <a:chOff x="5770800" y="2785680"/>
              <a:chExt cx="1899000" cy="270720"/>
            </a:xfrm>
          </p:grpSpPr>
          <p:sp>
            <p:nvSpPr>
              <p:cNvPr id="321" name=""/>
              <p:cNvSpPr/>
              <p:nvPr/>
            </p:nvSpPr>
            <p:spPr>
              <a:xfrm>
                <a:off x="5770800" y="278568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70800" y="278568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Bleu marine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7670520" y="2785680"/>
              <a:ext cx="1007640" cy="270720"/>
              <a:chOff x="7670520" y="2785680"/>
              <a:chExt cx="1007640" cy="270720"/>
            </a:xfrm>
          </p:grpSpPr>
          <p:sp>
            <p:nvSpPr>
              <p:cNvPr id="324" name=""/>
              <p:cNvSpPr/>
              <p:nvPr/>
            </p:nvSpPr>
            <p:spPr>
              <a:xfrm>
                <a:off x="7670520" y="2785680"/>
                <a:ext cx="1007640" cy="2707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670520" y="2785680"/>
                <a:ext cx="1007640" cy="2707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80"/>
                    </a:solidFill>
                    <a:latin typeface="Verdana"/>
                  </a:rPr>
                  <a:t>NAV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4859280" y="3057120"/>
              <a:ext cx="911160" cy="271440"/>
              <a:chOff x="4859280" y="3057120"/>
              <a:chExt cx="911160" cy="271440"/>
            </a:xfrm>
          </p:grpSpPr>
          <p:sp>
            <p:nvSpPr>
              <p:cNvPr id="327" name=""/>
              <p:cNvSpPr/>
              <p:nvPr/>
            </p:nvSpPr>
            <p:spPr>
              <a:xfrm>
                <a:off x="4859280" y="3057120"/>
                <a:ext cx="911160" cy="2714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859280" y="3057120"/>
                <a:ext cx="911160" cy="2714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PURPLE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770800" y="3057120"/>
              <a:ext cx="1899000" cy="271440"/>
              <a:chOff x="5770800" y="3057120"/>
              <a:chExt cx="1899000" cy="271440"/>
            </a:xfrm>
          </p:grpSpPr>
          <p:sp>
            <p:nvSpPr>
              <p:cNvPr id="330" name=""/>
              <p:cNvSpPr/>
              <p:nvPr/>
            </p:nvSpPr>
            <p:spPr>
              <a:xfrm>
                <a:off x="5770800" y="3057120"/>
                <a:ext cx="1899000" cy="2714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70800" y="3057120"/>
                <a:ext cx="1899000" cy="2714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Violet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7670520" y="3057120"/>
              <a:ext cx="1007640" cy="271440"/>
              <a:chOff x="7670520" y="3057120"/>
              <a:chExt cx="1007640" cy="271440"/>
            </a:xfrm>
          </p:grpSpPr>
          <p:sp>
            <p:nvSpPr>
              <p:cNvPr id="333" name=""/>
              <p:cNvSpPr/>
              <p:nvPr/>
            </p:nvSpPr>
            <p:spPr>
              <a:xfrm>
                <a:off x="7670520" y="3057120"/>
                <a:ext cx="1007640" cy="2714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670520" y="3057120"/>
                <a:ext cx="1007640" cy="2714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800080"/>
                    </a:solidFill>
                    <a:latin typeface="Verdana"/>
                  </a:rPr>
                  <a:t>PURPLE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4859280" y="3328920"/>
              <a:ext cx="911160" cy="270720"/>
              <a:chOff x="4859280" y="3328920"/>
              <a:chExt cx="911160" cy="270720"/>
            </a:xfrm>
          </p:grpSpPr>
          <p:sp>
            <p:nvSpPr>
              <p:cNvPr id="336" name=""/>
              <p:cNvSpPr/>
              <p:nvPr/>
            </p:nvSpPr>
            <p:spPr>
              <a:xfrm>
                <a:off x="4859280" y="332892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859280" y="332892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TEAL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770800" y="3328920"/>
              <a:ext cx="1899000" cy="270720"/>
              <a:chOff x="5770800" y="3328920"/>
              <a:chExt cx="1899000" cy="270720"/>
            </a:xfrm>
          </p:grpSpPr>
          <p:sp>
            <p:nvSpPr>
              <p:cNvPr id="339" name=""/>
              <p:cNvSpPr/>
              <p:nvPr/>
            </p:nvSpPr>
            <p:spPr>
              <a:xfrm>
                <a:off x="5770800" y="332892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770800" y="332892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Cyan foncé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7670520" y="3328920"/>
              <a:ext cx="1007640" cy="270720"/>
              <a:chOff x="7670520" y="3328920"/>
              <a:chExt cx="1007640" cy="270720"/>
            </a:xfrm>
          </p:grpSpPr>
          <p:sp>
            <p:nvSpPr>
              <p:cNvPr id="342" name=""/>
              <p:cNvSpPr/>
              <p:nvPr/>
            </p:nvSpPr>
            <p:spPr>
              <a:xfrm>
                <a:off x="7670520" y="3328920"/>
                <a:ext cx="1007640" cy="27072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670520" y="3328920"/>
                <a:ext cx="1007640" cy="27072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80"/>
                    </a:solidFill>
                    <a:latin typeface="Verdana"/>
                  </a:rPr>
                  <a:t>TEAL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4859280" y="3600360"/>
              <a:ext cx="911160" cy="270720"/>
              <a:chOff x="4859280" y="3600360"/>
              <a:chExt cx="911160" cy="270720"/>
            </a:xfrm>
          </p:grpSpPr>
          <p:sp>
            <p:nvSpPr>
              <p:cNvPr id="345" name=""/>
              <p:cNvSpPr/>
              <p:nvPr/>
            </p:nvSpPr>
            <p:spPr>
              <a:xfrm>
                <a:off x="4859280" y="360036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859280" y="360036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GRA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770800" y="3600360"/>
              <a:ext cx="1899000" cy="270720"/>
              <a:chOff x="5770800" y="3600360"/>
              <a:chExt cx="1899000" cy="270720"/>
            </a:xfrm>
          </p:grpSpPr>
          <p:sp>
            <p:nvSpPr>
              <p:cNvPr id="348" name=""/>
              <p:cNvSpPr/>
              <p:nvPr/>
            </p:nvSpPr>
            <p:spPr>
              <a:xfrm>
                <a:off x="5770800" y="360036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70800" y="360036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Gris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7670520" y="3600360"/>
              <a:ext cx="1007640" cy="270720"/>
              <a:chOff x="7670520" y="3600360"/>
              <a:chExt cx="1007640" cy="270720"/>
            </a:xfrm>
          </p:grpSpPr>
          <p:sp>
            <p:nvSpPr>
              <p:cNvPr id="351" name=""/>
              <p:cNvSpPr/>
              <p:nvPr/>
            </p:nvSpPr>
            <p:spPr>
              <a:xfrm>
                <a:off x="7670520" y="3600360"/>
                <a:ext cx="1007640" cy="270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70520" y="3600360"/>
                <a:ext cx="1007640" cy="270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808080"/>
                    </a:solidFill>
                    <a:latin typeface="Verdana"/>
                  </a:rPr>
                  <a:t>GRA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4859280" y="3871800"/>
              <a:ext cx="911160" cy="270720"/>
              <a:chOff x="4859280" y="3871800"/>
              <a:chExt cx="911160" cy="270720"/>
            </a:xfrm>
          </p:grpSpPr>
          <p:sp>
            <p:nvSpPr>
              <p:cNvPr id="354" name=""/>
              <p:cNvSpPr/>
              <p:nvPr/>
            </p:nvSpPr>
            <p:spPr>
              <a:xfrm>
                <a:off x="4859280" y="387180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59280" y="387180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SILVER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770800" y="3871800"/>
              <a:ext cx="1899000" cy="270720"/>
              <a:chOff x="5770800" y="3871800"/>
              <a:chExt cx="1899000" cy="270720"/>
            </a:xfrm>
          </p:grpSpPr>
          <p:sp>
            <p:nvSpPr>
              <p:cNvPr id="357" name=""/>
              <p:cNvSpPr/>
              <p:nvPr/>
            </p:nvSpPr>
            <p:spPr>
              <a:xfrm>
                <a:off x="5770800" y="387180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70800" y="387180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Argent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7670520" y="3871800"/>
              <a:ext cx="1007640" cy="270720"/>
              <a:chOff x="7670520" y="3871800"/>
              <a:chExt cx="1007640" cy="270720"/>
            </a:xfrm>
          </p:grpSpPr>
          <p:sp>
            <p:nvSpPr>
              <p:cNvPr id="360" name=""/>
              <p:cNvSpPr/>
              <p:nvPr/>
            </p:nvSpPr>
            <p:spPr>
              <a:xfrm>
                <a:off x="7670520" y="3871800"/>
                <a:ext cx="1007640" cy="270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670520" y="3871800"/>
                <a:ext cx="1007640" cy="270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c0c0c0"/>
                    </a:solidFill>
                    <a:latin typeface="Verdana"/>
                  </a:rPr>
                  <a:t>SILVER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4859280" y="4143240"/>
              <a:ext cx="911160" cy="270720"/>
              <a:chOff x="4859280" y="4143240"/>
              <a:chExt cx="911160" cy="270720"/>
            </a:xfrm>
          </p:grpSpPr>
          <p:sp>
            <p:nvSpPr>
              <p:cNvPr id="363" name=""/>
              <p:cNvSpPr/>
              <p:nvPr/>
            </p:nvSpPr>
            <p:spPr>
              <a:xfrm>
                <a:off x="4859280" y="414324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859280" y="414324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RED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5770800" y="4143240"/>
              <a:ext cx="1899000" cy="270720"/>
              <a:chOff x="5770800" y="4143240"/>
              <a:chExt cx="1899000" cy="270720"/>
            </a:xfrm>
          </p:grpSpPr>
          <p:sp>
            <p:nvSpPr>
              <p:cNvPr id="366" name=""/>
              <p:cNvSpPr/>
              <p:nvPr/>
            </p:nvSpPr>
            <p:spPr>
              <a:xfrm>
                <a:off x="5770800" y="414324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770800" y="414324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Rouge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670520" y="4143240"/>
              <a:ext cx="1007640" cy="270720"/>
              <a:chOff x="7670520" y="4143240"/>
              <a:chExt cx="1007640" cy="270720"/>
            </a:xfrm>
          </p:grpSpPr>
          <p:sp>
            <p:nvSpPr>
              <p:cNvPr id="369" name=""/>
              <p:cNvSpPr/>
              <p:nvPr/>
            </p:nvSpPr>
            <p:spPr>
              <a:xfrm>
                <a:off x="7670520" y="4143240"/>
                <a:ext cx="1007640" cy="27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670520" y="4143240"/>
                <a:ext cx="1007640" cy="270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Verdana"/>
                  </a:rPr>
                  <a:t>RED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4859280" y="4414680"/>
              <a:ext cx="911160" cy="270720"/>
              <a:chOff x="4859280" y="4414680"/>
              <a:chExt cx="911160" cy="270720"/>
            </a:xfrm>
          </p:grpSpPr>
          <p:sp>
            <p:nvSpPr>
              <p:cNvPr id="372" name=""/>
              <p:cNvSpPr/>
              <p:nvPr/>
            </p:nvSpPr>
            <p:spPr>
              <a:xfrm>
                <a:off x="4859280" y="441468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859280" y="441468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LIME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5770800" y="4414680"/>
              <a:ext cx="1899000" cy="270720"/>
              <a:chOff x="5770800" y="4414680"/>
              <a:chExt cx="1899000" cy="270720"/>
            </a:xfrm>
          </p:grpSpPr>
          <p:sp>
            <p:nvSpPr>
              <p:cNvPr id="375" name=""/>
              <p:cNvSpPr/>
              <p:nvPr/>
            </p:nvSpPr>
            <p:spPr>
              <a:xfrm>
                <a:off x="5770800" y="441468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70800" y="441468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Vert clair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7670520" y="4414680"/>
              <a:ext cx="1007640" cy="270720"/>
              <a:chOff x="7670520" y="4414680"/>
              <a:chExt cx="1007640" cy="270720"/>
            </a:xfrm>
          </p:grpSpPr>
          <p:sp>
            <p:nvSpPr>
              <p:cNvPr id="378" name=""/>
              <p:cNvSpPr/>
              <p:nvPr/>
            </p:nvSpPr>
            <p:spPr>
              <a:xfrm>
                <a:off x="7670520" y="4414680"/>
                <a:ext cx="1007640" cy="2707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670520" y="4414680"/>
                <a:ext cx="1007640" cy="2707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ff00"/>
                    </a:solidFill>
                    <a:latin typeface="Verdana"/>
                  </a:rPr>
                  <a:t>LIME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859280" y="4686120"/>
              <a:ext cx="911160" cy="270720"/>
              <a:chOff x="4859280" y="4686120"/>
              <a:chExt cx="911160" cy="270720"/>
            </a:xfrm>
          </p:grpSpPr>
          <p:sp>
            <p:nvSpPr>
              <p:cNvPr id="381" name=""/>
              <p:cNvSpPr/>
              <p:nvPr/>
            </p:nvSpPr>
            <p:spPr>
              <a:xfrm>
                <a:off x="4859280" y="468612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59280" y="468612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YELLOW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5770800" y="4686120"/>
              <a:ext cx="1899000" cy="270720"/>
              <a:chOff x="5770800" y="4686120"/>
              <a:chExt cx="1899000" cy="270720"/>
            </a:xfrm>
          </p:grpSpPr>
          <p:sp>
            <p:nvSpPr>
              <p:cNvPr id="384" name=""/>
              <p:cNvSpPr/>
              <p:nvPr/>
            </p:nvSpPr>
            <p:spPr>
              <a:xfrm>
                <a:off x="5770800" y="468612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770800" y="468612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Jaune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7670520" y="4686120"/>
              <a:ext cx="1007640" cy="270720"/>
              <a:chOff x="7670520" y="4686120"/>
              <a:chExt cx="1007640" cy="270720"/>
            </a:xfrm>
          </p:grpSpPr>
          <p:sp>
            <p:nvSpPr>
              <p:cNvPr id="387" name=""/>
              <p:cNvSpPr/>
              <p:nvPr/>
            </p:nvSpPr>
            <p:spPr>
              <a:xfrm>
                <a:off x="7670520" y="4686120"/>
                <a:ext cx="1007640" cy="270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70520" y="4686120"/>
                <a:ext cx="1007640" cy="270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00"/>
                    </a:solidFill>
                    <a:latin typeface="Verdana"/>
                  </a:rPr>
                  <a:t>YELLOW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4859280" y="4957560"/>
              <a:ext cx="911160" cy="270720"/>
              <a:chOff x="4859280" y="4957560"/>
              <a:chExt cx="911160" cy="270720"/>
            </a:xfrm>
          </p:grpSpPr>
          <p:sp>
            <p:nvSpPr>
              <p:cNvPr id="390" name=""/>
              <p:cNvSpPr/>
              <p:nvPr/>
            </p:nvSpPr>
            <p:spPr>
              <a:xfrm>
                <a:off x="4859280" y="495756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59280" y="495756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BLUE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5770800" y="4957560"/>
              <a:ext cx="1899000" cy="270720"/>
              <a:chOff x="5770800" y="4957560"/>
              <a:chExt cx="1899000" cy="270720"/>
            </a:xfrm>
          </p:grpSpPr>
          <p:sp>
            <p:nvSpPr>
              <p:cNvPr id="393" name=""/>
              <p:cNvSpPr/>
              <p:nvPr/>
            </p:nvSpPr>
            <p:spPr>
              <a:xfrm>
                <a:off x="5770800" y="495756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70800" y="495756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Bleu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7670520" y="4957560"/>
              <a:ext cx="1007640" cy="270720"/>
              <a:chOff x="7670520" y="4957560"/>
              <a:chExt cx="1007640" cy="270720"/>
            </a:xfrm>
          </p:grpSpPr>
          <p:sp>
            <p:nvSpPr>
              <p:cNvPr id="396" name=""/>
              <p:cNvSpPr/>
              <p:nvPr/>
            </p:nvSpPr>
            <p:spPr>
              <a:xfrm>
                <a:off x="7670520" y="4957560"/>
                <a:ext cx="1007640" cy="270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670520" y="4957560"/>
                <a:ext cx="1007640" cy="270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ff"/>
                    </a:solidFill>
                    <a:latin typeface="Verdana"/>
                  </a:rPr>
                  <a:t>BLUE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4859280" y="5229000"/>
              <a:ext cx="911160" cy="270720"/>
              <a:chOff x="4859280" y="5229000"/>
              <a:chExt cx="911160" cy="270720"/>
            </a:xfrm>
          </p:grpSpPr>
          <p:sp>
            <p:nvSpPr>
              <p:cNvPr id="399" name=""/>
              <p:cNvSpPr/>
              <p:nvPr/>
            </p:nvSpPr>
            <p:spPr>
              <a:xfrm>
                <a:off x="4859280" y="522900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59280" y="522900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FUCHSIA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770800" y="5229000"/>
              <a:ext cx="1899000" cy="270720"/>
              <a:chOff x="5770800" y="5229000"/>
              <a:chExt cx="1899000" cy="270720"/>
            </a:xfrm>
          </p:grpSpPr>
          <p:sp>
            <p:nvSpPr>
              <p:cNvPr id="402" name=""/>
              <p:cNvSpPr/>
              <p:nvPr/>
            </p:nvSpPr>
            <p:spPr>
              <a:xfrm>
                <a:off x="5770800" y="522900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770800" y="522900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Verdana"/>
                  </a:rPr>
                  <a:t>Fuchia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70520" y="5229000"/>
              <a:ext cx="1007640" cy="270720"/>
              <a:chOff x="7670520" y="5229000"/>
              <a:chExt cx="1007640" cy="270720"/>
            </a:xfrm>
          </p:grpSpPr>
          <p:sp>
            <p:nvSpPr>
              <p:cNvPr id="405" name=""/>
              <p:cNvSpPr/>
              <p:nvPr/>
            </p:nvSpPr>
            <p:spPr>
              <a:xfrm>
                <a:off x="7670520" y="5229000"/>
                <a:ext cx="1007640" cy="2707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70520" y="5229000"/>
                <a:ext cx="1007640" cy="2707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ff"/>
                    </a:solidFill>
                    <a:latin typeface="Verdana"/>
                  </a:rPr>
                  <a:t>FUCHSIA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4859280" y="5500080"/>
              <a:ext cx="911160" cy="270720"/>
              <a:chOff x="4859280" y="5500080"/>
              <a:chExt cx="911160" cy="270720"/>
            </a:xfrm>
          </p:grpSpPr>
          <p:sp>
            <p:nvSpPr>
              <p:cNvPr id="408" name=""/>
              <p:cNvSpPr/>
              <p:nvPr/>
            </p:nvSpPr>
            <p:spPr>
              <a:xfrm>
                <a:off x="4859280" y="550008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859280" y="5500080"/>
                <a:ext cx="91116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AQUA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5770800" y="5500080"/>
              <a:ext cx="1899000" cy="270720"/>
              <a:chOff x="5770800" y="5500080"/>
              <a:chExt cx="1899000" cy="270720"/>
            </a:xfrm>
          </p:grpSpPr>
          <p:sp>
            <p:nvSpPr>
              <p:cNvPr id="411" name=""/>
              <p:cNvSpPr/>
              <p:nvPr/>
            </p:nvSpPr>
            <p:spPr>
              <a:xfrm>
                <a:off x="5770800" y="550008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770800" y="5500080"/>
                <a:ext cx="1899000" cy="27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Bleu clair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7670520" y="5500080"/>
              <a:ext cx="1007640" cy="270720"/>
              <a:chOff x="7670520" y="5500080"/>
              <a:chExt cx="1007640" cy="270720"/>
            </a:xfrm>
          </p:grpSpPr>
          <p:sp>
            <p:nvSpPr>
              <p:cNvPr id="414" name=""/>
              <p:cNvSpPr/>
              <p:nvPr/>
            </p:nvSpPr>
            <p:spPr>
              <a:xfrm>
                <a:off x="7670520" y="5500080"/>
                <a:ext cx="1007640" cy="2707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670520" y="5500080"/>
                <a:ext cx="1007640" cy="2707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ffff"/>
                    </a:solidFill>
                    <a:latin typeface="Verdana"/>
                  </a:rPr>
                  <a:t>AQUA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859280" y="5771520"/>
              <a:ext cx="911160" cy="271440"/>
              <a:chOff x="4859280" y="5771520"/>
              <a:chExt cx="911160" cy="271440"/>
            </a:xfrm>
          </p:grpSpPr>
          <p:sp>
            <p:nvSpPr>
              <p:cNvPr id="417" name=""/>
              <p:cNvSpPr/>
              <p:nvPr/>
            </p:nvSpPr>
            <p:spPr>
              <a:xfrm>
                <a:off x="4859280" y="5771520"/>
                <a:ext cx="911160" cy="2714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859280" y="5771520"/>
                <a:ext cx="911160" cy="2714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WHITE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5770800" y="5771520"/>
              <a:ext cx="1899000" cy="271440"/>
              <a:chOff x="5770800" y="5771520"/>
              <a:chExt cx="1899000" cy="271440"/>
            </a:xfrm>
          </p:grpSpPr>
          <p:sp>
            <p:nvSpPr>
              <p:cNvPr id="420" name=""/>
              <p:cNvSpPr/>
              <p:nvPr/>
            </p:nvSpPr>
            <p:spPr>
              <a:xfrm>
                <a:off x="5770800" y="5771520"/>
                <a:ext cx="1899000" cy="2714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770800" y="5771520"/>
                <a:ext cx="1899000" cy="2714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Blanc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7670520" y="5771520"/>
              <a:ext cx="1007640" cy="271440"/>
              <a:chOff x="7670520" y="5771520"/>
              <a:chExt cx="1007640" cy="271440"/>
            </a:xfrm>
          </p:grpSpPr>
          <p:sp>
            <p:nvSpPr>
              <p:cNvPr id="423" name=""/>
              <p:cNvSpPr/>
              <p:nvPr/>
            </p:nvSpPr>
            <p:spPr>
              <a:xfrm>
                <a:off x="7670520" y="5771520"/>
                <a:ext cx="100764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70520" y="5771520"/>
                <a:ext cx="100764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Verdana"/>
                  </a:rPr>
                  <a:t>WHITE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"/>
          <p:cNvSpPr/>
          <p:nvPr/>
        </p:nvSpPr>
        <p:spPr>
          <a:xfrm>
            <a:off x="684360" y="4437000"/>
            <a:ext cx="3816360" cy="1139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Book Antiqua"/>
              </a:rPr>
              <a:t>Exemp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BGCOLOR="#CC33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BGCOLOR="TEAL"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C00-9D1B-4C9F-A760-2F414DFD3DE3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EBA43-4620-4E77-9CB5-643AE40B3A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inuer la page Web avec votre CV.  Utiliser des tableaux pour représenter votre parcours universitair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ire une page Web sur la ville de Paris. Introduire une image dans la page et un tableau contenant les données suivants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74D-77DE-428D-8546-5C00CF1BAFC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A2355-D05D-4289-9156-5CA2940180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627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313-0DEE-477F-9774-E38E77EA55A9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2F1C8-28D8-4782-9944-B9A462F7E0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Interprétation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avigateur : Internet Explorer, Firefox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3141720"/>
            <a:ext cx="374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3527280" cy="2611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51280" y="3933720"/>
            <a:ext cx="1152360" cy="647640"/>
          </a:xfrm>
          <a:prstGeom prst="rightArrow">
            <a:avLst>
              <a:gd name="adj1" fmla="val 50000"/>
              <a:gd name="adj2" fmla="val 44483"/>
            </a:avLst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76720" y="2511360"/>
            <a:ext cx="3816360" cy="2789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00000" y="52293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3dff"/>
                </a:solidFill>
                <a:latin typeface="Tahoma"/>
              </a:rPr>
              <a:t>Pour visualiser le code source html d'une page web :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400" spc="-1" strike="noStrike">
                <a:solidFill>
                  <a:srgbClr val="ff0000"/>
                </a:solidFill>
                <a:latin typeface="Tahoma"/>
              </a:rPr>
              <a:t>Affichage -&gt; Source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DED-840E-418C-8C92-1A3D4AE86ED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82E39-7FF5-485F-BC81-B26EC70F9C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Principes fondamentaux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l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2637000"/>
            <a:ext cx="17528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alis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alis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4292640"/>
            <a:ext cx="3457800" cy="9169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p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eci est un exemple de balise.</a:t>
            </a:r>
            <a:r>
              <a:rPr b="1" lang="en-US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75280" y="2565360"/>
            <a:ext cx="216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alise 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48360" y="3429000"/>
            <a:ext cx="1747800" cy="9169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br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hr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91240" y="5734080"/>
            <a:ext cx="36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ujours en minuscules (XHT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6920" y="4581360"/>
            <a:ext cx="57636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19640" y="3716280"/>
            <a:ext cx="9367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6" idx="6"/>
            <a:endCxn id="155" idx="0"/>
          </p:cNvCxnSpPr>
          <p:nvPr/>
        </p:nvCxnSpPr>
        <p:spPr>
          <a:xfrm>
            <a:off x="2857320" y="4797360"/>
            <a:ext cx="3780360" cy="937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stealth" w="med"/>
          </a:ln>
        </p:spPr>
      </p:cxnSp>
      <p:cxnSp>
        <p:nvCxnSpPr>
          <p:cNvPr id="159" name=""/>
          <p:cNvCxnSpPr>
            <a:stCxn id="157" idx="4"/>
            <a:endCxn id="155" idx="0"/>
          </p:cNvCxnSpPr>
          <p:nvPr/>
        </p:nvCxnSpPr>
        <p:spPr>
          <a:xfrm>
            <a:off x="5687640" y="4162320"/>
            <a:ext cx="950040" cy="157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FE4F-88DC-46CA-A388-726EB52554A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FEC18-6D6F-416A-B31D-469DB05DB9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Attributs des balises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89440" y="3860640"/>
            <a:ext cx="424656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rtains attributs sont obligatoires, d'autres optionn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'ordre des attributs n'a pas d'import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299736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Times New Roman"/>
              </a:rPr>
              <a:t>nom_attribut="valeur_attribu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148428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alise attribut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alis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3640" y="1916280"/>
            <a:ext cx="1368360" cy="100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3933720"/>
            <a:ext cx="3887640" cy="642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p align="center"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eci est un exemple de balise.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241-2B3D-4D3C-B42D-6FBE46B2F5B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7A877-81A2-42B2-8882-CC05D1A44D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mmentaires et caractèr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3814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entai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s commentaires n’apparaissent pas dans le texte de la p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48000" y="1500120"/>
            <a:ext cx="388764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aractères spéciau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But : garantir la bonne présentation de tous les caractè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icod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tité ( </a:t>
            </a:r>
            <a:r>
              <a:rPr b="0" lang="fr-FR" sz="2000" spc="-1" strike="noStrike">
                <a:solidFill>
                  <a:srgbClr val="703dff"/>
                </a:solidFill>
                <a:latin typeface="Comic Sans MS"/>
              </a:rPr>
              <a:t>&amp;nom;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agrave;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euro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lt;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3429000"/>
            <a:ext cx="4895640" cy="2014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!--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eci est un commentaire 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--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 align="center"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eci est un exemple de balise. Il ex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ussi des bal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ut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amp;ocirc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mes (sans contenu).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20440" y="5661000"/>
            <a:ext cx="7282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madore.org/~david/computers/unicode/htmlent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59640" y="4724280"/>
            <a:ext cx="0" cy="865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0E21-E9AB-4DDC-B23B-F93FC1D3ED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6B5BB-F0EF-4E0B-B07B-C91FFED24C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tructure d’une page Web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4270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Balise principale : 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htm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Deux parties : en-tête (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head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et corps du document (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body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403280" y="3284640"/>
            <a:ext cx="6624720" cy="28371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8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title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ure page Web</a:t>
            </a:r>
            <a:r>
              <a:rPr b="0" lang="fr-FR" sz="18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8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h1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ure d'une page Web</a:t>
            </a:r>
            <a:r>
              <a:rPr b="0" lang="fr-FR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!-- description structure des page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0232-44EF-4103-AC96-0AAF5F3C3FB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92191-7883-4079-B5E7-F80D9656D9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tructure d’une p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 balises doivent être ouvertes et refermées </a:t>
            </a:r>
            <a:r>
              <a:rPr b="0" i="1" lang="en-US" sz="3200" spc="-1" strike="noStrike">
                <a:solidFill>
                  <a:srgbClr val="703dff"/>
                </a:solidFill>
                <a:latin typeface="Comic Sans MS"/>
              </a:rPr>
              <a:t>dans l'ord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768240" y="3436560"/>
            <a:ext cx="5891400" cy="642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p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Je vous préviens tout de suite, c'est </a:t>
            </a:r>
            <a:r>
              <a:rPr b="1" lang="fr-FR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em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n.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p&gt;</a:t>
            </a:r>
            <a:r>
              <a:rPr b="1" lang="fr-FR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/em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8240" y="4874760"/>
            <a:ext cx="5891400" cy="642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p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Je vous préviens tout de suite, c'est </a:t>
            </a:r>
            <a:r>
              <a:rPr b="1" lang="fr-FR" sz="1800" spc="-1" strike="noStrike">
                <a:solidFill>
                  <a:srgbClr val="006600"/>
                </a:solidFill>
                <a:latin typeface="Courier New"/>
                <a:ea typeface="Courier New"/>
              </a:rPr>
              <a:t>&lt;em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n.</a:t>
            </a:r>
            <a:r>
              <a:rPr b="1" lang="fr-FR" sz="1800" spc="-1" strike="noStrike">
                <a:solidFill>
                  <a:srgbClr val="006600"/>
                </a:solidFill>
                <a:latin typeface="Courier New"/>
                <a:ea typeface="Courier New"/>
              </a:rPr>
              <a:t>&lt;/em&gt;</a:t>
            </a:r>
            <a:r>
              <a:rPr b="1" lang="fr-FR" sz="1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p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54160" y="3284640"/>
            <a:ext cx="9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u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82520" y="470052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rect 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79" idx="1"/>
            <a:endCxn id="177" idx="3"/>
          </p:cNvCxnSpPr>
          <p:nvPr/>
        </p:nvCxnSpPr>
        <p:spPr>
          <a:xfrm flipH="1">
            <a:off x="6659280" y="3512880"/>
            <a:ext cx="792720" cy="244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0" idx="1"/>
            <a:endCxn id="178" idx="3"/>
          </p:cNvCxnSpPr>
          <p:nvPr/>
        </p:nvCxnSpPr>
        <p:spPr>
          <a:xfrm flipH="1">
            <a:off x="6659280" y="4928760"/>
            <a:ext cx="692640" cy="2671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9712-0A4A-420E-9D81-B59FC598E25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57755-12F3-47FB-92A5-FC278B3EE5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7:41:30Z</dcterms:created>
  <dc:creator>angelo</dc:creator>
  <dc:description/>
  <dc:language>en-US</dc:language>
  <cp:lastModifiedBy>angelo</cp:lastModifiedBy>
  <dcterms:modified xsi:type="dcterms:W3CDTF">2006-10-12T09:11:08Z</dcterms:modified>
  <cp:revision>52</cp:revision>
  <dc:subject/>
  <dc:title>Conception de sites Web HTML</dc:title>
</cp:coreProperties>
</file>