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2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BFCE0-A0F4-41AB-8824-A283D4B5E21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pel sur le style et le style sur lequel il se base. Ici N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 commentaire peut être ajouté à l’endroit courant dans le texte (c’est-à-dire, à la place du curseur), en utilisant la commande « Commentaire » dans le menu inser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ns le menu « Fichier », la commande « Version » permet d’inspecter les différentes versions sauvegardées, et permet de marquer le texte courant comme une version récupérable ultérieur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ans le menu « Outils », la commande « Fusion » permet d’intégrer à un document les modifications extérie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: style de base sur lequel se base tous les autre sty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: style de base sur lequel se base tous les autre sty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: style de base sur lequel se base tous les autre sty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: style de base sur lequel se base tous les autre sty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: style de base sur lequel se base tous les autre sty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: style sur lequel se base tous les autres sty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0338-8AE8-4CC7-A08B-84E49718B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D91B-16BA-466D-980F-6CEEF75D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373A-2191-4831-94AA-E17B7333C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F655-1B4B-461E-80D6-775A92A26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B549C-81DC-4D65-AF6B-0CCB5E3B6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6075F-277F-4198-B21A-F21127D07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269AB-EB30-4D64-9549-2CF3B99AB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61E17-5F2B-423A-A344-AE2AB5736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54594-1706-4BC0-BEC7-906D54807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324000" y="223560"/>
            <a:ext cx="74167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0B6FC-957A-4BDE-BC9C-477CFB3A3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16749-AE82-4292-93AD-73EBAF46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C820-77B0-4BEF-962F-69E27FCFB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72727-2B96-4D23-BC03-EC72BCD1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B581D-82F4-491E-9DE9-C2B628AA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2CDEB-49E3-426D-A2E1-AD61302A6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A2368-42CC-404D-A524-F7447C88A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DEB5E-7B6C-497B-9DB1-6B3781B0F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4463-8B04-4BDC-B9E4-15E6C1070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2AD9-D33B-4F20-8C84-4AAB70345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89A6-2D63-4A8F-B0C4-B4AB8175A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324000" y="223560"/>
            <a:ext cx="74167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D735-2322-41AA-A054-7C3A0BD67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C772-1FA4-4FF1-97FD-21C91572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9433-34B2-4DB2-8CCE-89567C94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E5C3-CBF5-4A49-9532-FE13222E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86920" y="6248520"/>
            <a:ext cx="230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formatique Générale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48000" y="6237360"/>
            <a:ext cx="324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Manuele.Kirsch-Pinheiro@univ-nancy2.f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7D825-31D4-43CA-9829-A087D7D2765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6093000"/>
            <a:ext cx="1179000" cy="720360"/>
            <a:chOff x="0" y="6093000"/>
            <a:chExt cx="1179000" cy="720360"/>
          </a:xfrm>
        </p:grpSpPr>
        <p:sp>
          <p:nvSpPr>
            <p:cNvPr id="6" name=""/>
            <p:cNvSpPr/>
            <p:nvPr/>
          </p:nvSpPr>
          <p:spPr>
            <a:xfrm>
              <a:off x="19800" y="6106680"/>
              <a:ext cx="1142280" cy="59580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067040" y="6177240"/>
              <a:ext cx="74160" cy="1180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5480" y="6353640"/>
              <a:ext cx="830880" cy="37620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9960" y="6384600"/>
              <a:ext cx="550800" cy="3430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503640" y="6131520"/>
              <a:ext cx="141480" cy="11088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67080" y="6710760"/>
              <a:ext cx="79560" cy="10260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440" y="6200280"/>
              <a:ext cx="202320" cy="35136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95520" y="6184800"/>
              <a:ext cx="381600" cy="15948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358560" y="6279120"/>
              <a:ext cx="163440" cy="61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" name=""/>
            <p:cNvGrpSpPr/>
            <p:nvPr/>
          </p:nvGrpSpPr>
          <p:grpSpPr>
            <a:xfrm>
              <a:off x="0" y="6093000"/>
              <a:ext cx="1179000" cy="715680"/>
              <a:chOff x="0" y="6093000"/>
              <a:chExt cx="1179000" cy="715680"/>
            </a:xfrm>
          </p:grpSpPr>
          <p:grpSp>
            <p:nvGrpSpPr>
              <p:cNvPr id="16" name=""/>
              <p:cNvGrpSpPr/>
              <p:nvPr/>
            </p:nvGrpSpPr>
            <p:grpSpPr>
              <a:xfrm>
                <a:off x="518040" y="6158880"/>
                <a:ext cx="574560" cy="649800"/>
                <a:chOff x="518040" y="6158880"/>
                <a:chExt cx="574560" cy="649800"/>
              </a:xfrm>
            </p:grpSpPr>
            <p:sp>
              <p:nvSpPr>
                <p:cNvPr id="17" name=""/>
                <p:cNvSpPr/>
                <p:nvPr/>
              </p:nvSpPr>
              <p:spPr>
                <a:xfrm>
                  <a:off x="518040" y="6181920"/>
                  <a:ext cx="164520" cy="7956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661680" y="6686640"/>
                  <a:ext cx="120600" cy="12204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1047600" y="6158880"/>
                  <a:ext cx="45000" cy="10728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" name=""/>
              <p:cNvSpPr/>
              <p:nvPr/>
            </p:nvSpPr>
            <p:spPr>
              <a:xfrm>
                <a:off x="74160" y="6315120"/>
                <a:ext cx="624240" cy="2293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267480" y="6456240"/>
                <a:ext cx="255960" cy="1357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587160" y="6267240"/>
                <a:ext cx="111960" cy="21816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" name=""/>
              <p:cNvGrpSpPr/>
              <p:nvPr/>
            </p:nvGrpSpPr>
            <p:grpSpPr>
              <a:xfrm>
                <a:off x="0" y="6093000"/>
                <a:ext cx="1179000" cy="622080"/>
                <a:chOff x="0" y="6093000"/>
                <a:chExt cx="1179000" cy="622080"/>
              </a:xfrm>
            </p:grpSpPr>
            <p:sp>
              <p:nvSpPr>
                <p:cNvPr id="24" name=""/>
                <p:cNvSpPr/>
                <p:nvPr/>
              </p:nvSpPr>
              <p:spPr>
                <a:xfrm>
                  <a:off x="696600" y="6605280"/>
                  <a:ext cx="78480" cy="7956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0" y="6311160"/>
                  <a:ext cx="883440" cy="40392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105840" y="6350040"/>
                  <a:ext cx="83880" cy="15300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465840" y="6093000"/>
                  <a:ext cx="337680" cy="5450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601200" y="6239520"/>
                  <a:ext cx="100440" cy="23148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338760" y="6221160"/>
                  <a:ext cx="204480" cy="12384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685080" y="6136920"/>
                  <a:ext cx="493920" cy="1944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47000" y="6199200"/>
                  <a:ext cx="256680" cy="788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2" name=""/>
          <p:cNvGrpSpPr/>
          <p:nvPr/>
        </p:nvGrpSpPr>
        <p:grpSpPr>
          <a:xfrm>
            <a:off x="179280" y="1413000"/>
            <a:ext cx="385920" cy="4308480"/>
            <a:chOff x="179280" y="1413000"/>
            <a:chExt cx="385920" cy="4308480"/>
          </a:xfrm>
        </p:grpSpPr>
        <p:sp>
          <p:nvSpPr>
            <p:cNvPr id="33" name=""/>
            <p:cNvSpPr/>
            <p:nvPr/>
          </p:nvSpPr>
          <p:spPr>
            <a:xfrm>
              <a:off x="239760" y="345600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179280" y="141300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" name="" descr=""/>
          <p:cNvPicPr/>
          <p:nvPr/>
        </p:nvPicPr>
        <p:blipFill>
          <a:blip r:embed="rId2"/>
          <a:stretch/>
        </p:blipFill>
        <p:spPr>
          <a:xfrm>
            <a:off x="7775640" y="219240"/>
            <a:ext cx="1368360" cy="97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C2016-178F-4891-95B6-4DA5A14C2A8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78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82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88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92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Édition coopérative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Word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286000" y="1828800"/>
            <a:ext cx="5348160" cy="47959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Créer  (ou modifier) un styl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77400" y="2286000"/>
            <a:ext cx="3275640" cy="2820240"/>
            <a:chOff x="77400" y="2286000"/>
            <a:chExt cx="3275640" cy="2820240"/>
          </a:xfrm>
        </p:grpSpPr>
        <p:sp>
          <p:nvSpPr>
            <p:cNvPr id="205" name=""/>
            <p:cNvSpPr/>
            <p:nvPr/>
          </p:nvSpPr>
          <p:spPr>
            <a:xfrm>
              <a:off x="77400" y="4646520"/>
              <a:ext cx="24181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(2) Nom du sty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209680" y="2286000"/>
              <a:ext cx="914400" cy="533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7" name=""/>
            <p:cNvCxnSpPr>
              <a:stCxn id="205" idx="3"/>
              <a:endCxn id="206" idx="6"/>
            </p:cNvCxnSpPr>
            <p:nvPr/>
          </p:nvCxnSpPr>
          <p:spPr>
            <a:xfrm flipV="1">
              <a:off x="2419200" y="2552040"/>
              <a:ext cx="705240" cy="2329560"/>
            </a:xfrm>
            <a:prstGeom prst="bentConnector3">
              <a:avLst>
                <a:gd name="adj1" fmla="val 132482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208" name=""/>
          <p:cNvGrpSpPr/>
          <p:nvPr/>
        </p:nvGrpSpPr>
        <p:grpSpPr>
          <a:xfrm>
            <a:off x="74520" y="1752480"/>
            <a:ext cx="3735000" cy="2576520"/>
            <a:chOff x="74520" y="1752480"/>
            <a:chExt cx="3735000" cy="2576520"/>
          </a:xfrm>
        </p:grpSpPr>
        <p:sp>
          <p:nvSpPr>
            <p:cNvPr id="209" name=""/>
            <p:cNvSpPr/>
            <p:nvPr/>
          </p:nvSpPr>
          <p:spPr>
            <a:xfrm>
              <a:off x="1904760" y="1752480"/>
              <a:ext cx="1904760" cy="3812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0" name=""/>
            <p:cNvCxnSpPr>
              <a:stCxn id="211" idx="0"/>
              <a:endCxn id="209" idx="2"/>
            </p:cNvCxnSpPr>
            <p:nvPr/>
          </p:nvCxnSpPr>
          <p:spPr>
            <a:xfrm flipH="1" flipV="1" rot="5400000">
              <a:off x="955800" y="2556360"/>
              <a:ext cx="1562760" cy="33516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11" name=""/>
            <p:cNvSpPr/>
            <p:nvPr/>
          </p:nvSpPr>
          <p:spPr>
            <a:xfrm>
              <a:off x="74520" y="3503520"/>
              <a:ext cx="299088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(1) Format/Style/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Modifier ou Nouvea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362320" y="3048120"/>
            <a:ext cx="3865320" cy="1753560"/>
            <a:chOff x="2362320" y="3048120"/>
            <a:chExt cx="3865320" cy="1753560"/>
          </a:xfrm>
        </p:grpSpPr>
        <p:sp>
          <p:nvSpPr>
            <p:cNvPr id="213" name=""/>
            <p:cNvSpPr/>
            <p:nvPr/>
          </p:nvSpPr>
          <p:spPr>
            <a:xfrm>
              <a:off x="2362320" y="3048120"/>
              <a:ext cx="1447560" cy="3045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37720" y="4341960"/>
              <a:ext cx="17899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(3) Hérit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5" name=""/>
            <p:cNvCxnSpPr>
              <a:stCxn id="214" idx="0"/>
              <a:endCxn id="213" idx="4"/>
            </p:cNvCxnSpPr>
            <p:nvPr/>
          </p:nvCxnSpPr>
          <p:spPr>
            <a:xfrm flipV="1" rot="16200000">
              <a:off x="3713040" y="2724480"/>
              <a:ext cx="991440" cy="2246400"/>
            </a:xfrm>
            <a:prstGeom prst="bentConnector3">
              <a:avLst>
                <a:gd name="adj1" fmla="val 49981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216" name=""/>
          <p:cNvGrpSpPr/>
          <p:nvPr/>
        </p:nvGrpSpPr>
        <p:grpSpPr>
          <a:xfrm>
            <a:off x="5029200" y="3048120"/>
            <a:ext cx="3933000" cy="1143720"/>
            <a:chOff x="5029200" y="3048120"/>
            <a:chExt cx="3933000" cy="1143720"/>
          </a:xfrm>
        </p:grpSpPr>
        <p:sp>
          <p:nvSpPr>
            <p:cNvPr id="217" name=""/>
            <p:cNvSpPr/>
            <p:nvPr/>
          </p:nvSpPr>
          <p:spPr>
            <a:xfrm>
              <a:off x="5029200" y="3048120"/>
              <a:ext cx="1066680" cy="3808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358320" y="3732120"/>
              <a:ext cx="26038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(4) Enchaîn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9" name=""/>
            <p:cNvCxnSpPr>
              <a:stCxn id="218" idx="1"/>
              <a:endCxn id="217" idx="6"/>
            </p:cNvCxnSpPr>
            <p:nvPr/>
          </p:nvCxnSpPr>
          <p:spPr>
            <a:xfrm rot="10800000">
              <a:off x="6095160" y="3237840"/>
              <a:ext cx="381600" cy="729360"/>
            </a:xfrm>
            <a:prstGeom prst="bentConnector3">
              <a:avLst>
                <a:gd name="adj1" fmla="val 49952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220" name=""/>
          <p:cNvGrpSpPr/>
          <p:nvPr/>
        </p:nvGrpSpPr>
        <p:grpSpPr>
          <a:xfrm>
            <a:off x="4495680" y="4875120"/>
            <a:ext cx="4221360" cy="1677960"/>
            <a:chOff x="4495680" y="4875120"/>
            <a:chExt cx="4221360" cy="1677960"/>
          </a:xfrm>
        </p:grpSpPr>
        <p:sp>
          <p:nvSpPr>
            <p:cNvPr id="221" name=""/>
            <p:cNvSpPr/>
            <p:nvPr/>
          </p:nvSpPr>
          <p:spPr>
            <a:xfrm>
              <a:off x="4495680" y="6172200"/>
              <a:ext cx="1447920" cy="3808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453000" y="4875120"/>
              <a:ext cx="226404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(5) Mod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des attribu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3" name=""/>
            <p:cNvCxnSpPr>
              <a:stCxn id="222" idx="2"/>
              <a:endCxn id="221" idx="0"/>
            </p:cNvCxnSpPr>
            <p:nvPr/>
          </p:nvCxnSpPr>
          <p:spPr>
            <a:xfrm rot="5400000">
              <a:off x="6169680" y="4757760"/>
              <a:ext cx="464400" cy="2365920"/>
            </a:xfrm>
            <a:prstGeom prst="bentConnector3">
              <a:avLst>
                <a:gd name="adj1" fmla="val 49961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503280" y="2060640"/>
            <a:ext cx="823284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68360" y="1628640"/>
            <a:ext cx="8232840" cy="4421160"/>
          </a:xfrm>
          <a:prstGeom prst="roundRect">
            <a:avLst>
              <a:gd name="adj" fmla="val 3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Table des matièr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5857920" cy="4019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503280" y="2060640"/>
            <a:ext cx="823284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68360" y="1628640"/>
            <a:ext cx="8232840" cy="4421160"/>
          </a:xfrm>
          <a:prstGeom prst="roundRect">
            <a:avLst>
              <a:gd name="adj" fmla="val 3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2044800" y="1389240"/>
            <a:ext cx="4759200" cy="513540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7416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Insertion table des matières</a:t>
            </a:r>
            <a:endParaRPr b="0" lang="en-US" sz="3600" spc="-1" strike="noStrike">
              <a:solidFill>
                <a:srgbClr val="703d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416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Personnalisation</a:t>
            </a:r>
            <a:endParaRPr b="0" lang="en-US" sz="36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851280" y="1325520"/>
            <a:ext cx="5097600" cy="30877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3886200" y="3276720"/>
            <a:ext cx="228600" cy="228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3505320"/>
            <a:ext cx="228600" cy="228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733920"/>
            <a:ext cx="228600" cy="228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86200" y="4038480"/>
            <a:ext cx="228600" cy="228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10080" y="4114800"/>
            <a:ext cx="228600" cy="228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4343400"/>
            <a:ext cx="228600" cy="228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79280" y="3068640"/>
            <a:ext cx="3529080" cy="33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fich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r d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s numéro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e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ligner à droite les numéros de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ien entre les titres et les n° de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ix du format de la T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ix du nombre de hiérachie des titres  à prendre en comp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étail sur les styles de titre à prendre en comp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1" name=""/>
          <p:cNvCxnSpPr>
            <a:stCxn id="240" idx="0"/>
            <a:endCxn id="233" idx="1"/>
          </p:cNvCxnSpPr>
          <p:nvPr/>
        </p:nvCxnSpPr>
        <p:spPr>
          <a:xfrm flipH="1" flipV="1" rot="5400000">
            <a:off x="2798640" y="2015640"/>
            <a:ext cx="199080" cy="1907280"/>
          </a:xfrm>
          <a:prstGeom prst="bentConnector2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Mise à jour</a:t>
            </a:r>
            <a:endParaRPr b="0" lang="en-US" sz="36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43" name=""/>
          <p:cNvSpPr/>
          <p:nvPr/>
        </p:nvSpPr>
        <p:spPr>
          <a:xfrm>
            <a:off x="760320" y="4340160"/>
            <a:ext cx="395604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contextuel TD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5214960" y="2205000"/>
            <a:ext cx="3460680" cy="34099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5791320" y="3429000"/>
            <a:ext cx="380880" cy="304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6" name=""/>
          <p:cNvCxnSpPr>
            <a:stCxn id="243" idx="0"/>
          </p:cNvCxnSpPr>
          <p:nvPr/>
        </p:nvCxnSpPr>
        <p:spPr>
          <a:xfrm flipH="1" flipV="1" rot="5400000">
            <a:off x="3523680" y="2787120"/>
            <a:ext cx="767520" cy="2338920"/>
          </a:xfrm>
          <a:prstGeom prst="bentConnector2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xercic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éer un document à partir du texte fourni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rganiser le texte en utilisant de styles…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jouter une table de matièr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Édition coopérative avec Word</a:t>
            </a:r>
            <a:endParaRPr b="0" lang="en-US" sz="36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entification des auteurs et des modific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éfinition de différentes versions du docu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usion de différents docu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116000" y="907920"/>
            <a:ext cx="7516800" cy="5675400"/>
            <a:chOff x="1116000" y="907920"/>
            <a:chExt cx="7516800" cy="5675400"/>
          </a:xfrm>
        </p:grpSpPr>
        <p:pic>
          <p:nvPicPr>
            <p:cNvPr id="252" name="" descr=""/>
            <p:cNvPicPr/>
            <p:nvPr/>
          </p:nvPicPr>
          <p:blipFill>
            <a:blip r:embed="rId1"/>
            <a:stretch/>
          </p:blipFill>
          <p:spPr>
            <a:xfrm>
              <a:off x="1116000" y="907920"/>
              <a:ext cx="7516800" cy="567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1116000" y="2060640"/>
              <a:ext cx="2448000" cy="14396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7416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Commentair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680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e dans le docu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otation pour l’auteur, et les personnes ayant accès au texte électroniqu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3780000" y="1700280"/>
            <a:ext cx="5203800" cy="35352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 flipV="1">
            <a:off x="4356000" y="3141360"/>
            <a:ext cx="936720" cy="863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7416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Commentair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8353440" cy="447012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378000" y="2565360"/>
            <a:ext cx="8658000" cy="2109960"/>
          </a:xfrm>
          <a:prstGeom prst="rect">
            <a:avLst/>
          </a:prstGeom>
          <a:ln w="57240">
            <a:solidFill>
              <a:srgbClr val="00b2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Suivi des modification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908000" y="1292400"/>
            <a:ext cx="6912000" cy="53766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 flipV="1">
            <a:off x="4140360" y="3428640"/>
            <a:ext cx="1079280" cy="576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18080" y="400536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uivi des modif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Édition coopérativ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51520" y="2028960"/>
            <a:ext cx="811440" cy="8920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568520" y="2025720"/>
            <a:ext cx="801720" cy="8985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191120" y="2041560"/>
            <a:ext cx="768240" cy="8683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4330800" y="2924280"/>
            <a:ext cx="488880" cy="4888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178640" y="3357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mangue.do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783960" y="3357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mangue.do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465240" y="3357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mangue.do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26480" y="1766880"/>
            <a:ext cx="6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16880" y="176688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erna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5480" y="170028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r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93920" y="407664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mangue est délicieu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62960" y="4365720"/>
            <a:ext cx="282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mangue est exotiq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le est donc chè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937840" y="4005360"/>
            <a:ext cx="26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mangue est bizar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47800" y="5516640"/>
            <a:ext cx="79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La mangue est délicieuse. La mangue est exotique. Elle est donc chère. La mangue est bizar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1725480" y="2925720"/>
            <a:ext cx="489240" cy="4888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6"/>
          <a:stretch/>
        </p:blipFill>
        <p:spPr>
          <a:xfrm>
            <a:off x="7013520" y="2925720"/>
            <a:ext cx="488880" cy="488880"/>
          </a:xfrm>
          <a:prstGeom prst="rect">
            <a:avLst/>
          </a:prstGeom>
          <a:ln w="0">
            <a:noFill/>
          </a:ln>
        </p:spPr>
      </p:pic>
      <p:cxnSp>
        <p:nvCxnSpPr>
          <p:cNvPr id="162" name=""/>
          <p:cNvCxnSpPr>
            <a:stCxn id="150" idx="2"/>
            <a:endCxn id="156" idx="0"/>
          </p:cNvCxnSpPr>
          <p:nvPr/>
        </p:nvCxnSpPr>
        <p:spPr>
          <a:xfrm flipH="1">
            <a:off x="1969200" y="3723840"/>
            <a:ext cx="2520" cy="3531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63" name=""/>
          <p:cNvCxnSpPr>
            <a:stCxn id="151" idx="2"/>
            <a:endCxn id="157" idx="0"/>
          </p:cNvCxnSpPr>
          <p:nvPr/>
        </p:nvCxnSpPr>
        <p:spPr>
          <a:xfrm>
            <a:off x="4576320" y="3724200"/>
            <a:ext cx="1080" cy="6422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52" idx="2"/>
            <a:endCxn id="158" idx="0"/>
          </p:cNvCxnSpPr>
          <p:nvPr/>
        </p:nvCxnSpPr>
        <p:spPr>
          <a:xfrm>
            <a:off x="7257600" y="3723840"/>
            <a:ext cx="1080" cy="2818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1908000" y="4581360"/>
            <a:ext cx="863640" cy="863640"/>
          </a:xfrm>
          <a:prstGeom prst="line">
            <a:avLst/>
          </a:prstGeom>
          <a:ln w="38160">
            <a:solidFill>
              <a:srgbClr val="00b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6227640" y="4581360"/>
            <a:ext cx="936720" cy="1008360"/>
          </a:xfrm>
          <a:prstGeom prst="line">
            <a:avLst/>
          </a:prstGeom>
          <a:ln w="38160">
            <a:solidFill>
              <a:srgbClr val="00b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27640" y="5013360"/>
            <a:ext cx="0" cy="576360"/>
          </a:xfrm>
          <a:prstGeom prst="line">
            <a:avLst/>
          </a:prstGeom>
          <a:ln w="38160">
            <a:solidFill>
              <a:srgbClr val="00b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00360" y="2925720"/>
            <a:ext cx="1224000" cy="216000"/>
          </a:xfrm>
          <a:custGeom>
            <a:avLst/>
            <a:gdLst>
              <a:gd name="textAreaLeft" fmla="*/ 214200 w 1224000"/>
              <a:gd name="textAreaRight" fmla="*/ 887400 w 122400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19640" y="2925720"/>
            <a:ext cx="1224000" cy="216000"/>
          </a:xfrm>
          <a:custGeom>
            <a:avLst/>
            <a:gdLst>
              <a:gd name="textAreaLeft" fmla="*/ 214200 w 1224000"/>
              <a:gd name="textAreaRight" fmla="*/ 887400 w 122400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389480" y="3908520"/>
            <a:ext cx="4464360" cy="146556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uestion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d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ment organiser le partag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d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ment éviter la perte de donné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d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ui a fait quoi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d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236520" y="44280"/>
            <a:ext cx="4724280" cy="590580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5435280" y="1341360"/>
            <a:ext cx="3529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rre d’outi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«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Révisi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Affichage </a:t>
            </a:r>
            <a:r>
              <a:rPr b="0" lang="en-US" sz="2800" spc="-1" strike="noStrike">
                <a:solidFill>
                  <a:srgbClr val="00b2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 Barres d’outils </a:t>
            </a:r>
            <a:r>
              <a:rPr b="0" lang="en-US" sz="2800" spc="-1" strike="noStrike">
                <a:solidFill>
                  <a:srgbClr val="00b2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 Révis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"/>
          <p:cNvSpPr/>
          <p:nvPr/>
        </p:nvSpPr>
        <p:spPr>
          <a:xfrm>
            <a:off x="2771640" y="3933720"/>
            <a:ext cx="1944720" cy="43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116000" y="1413000"/>
            <a:ext cx="1944720" cy="431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114560" y="189000"/>
            <a:ext cx="720720" cy="431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898560" y="4653000"/>
            <a:ext cx="7074000" cy="1955880"/>
            <a:chOff x="898560" y="4653000"/>
            <a:chExt cx="7074000" cy="1955880"/>
          </a:xfrm>
        </p:grpSpPr>
        <p:pic>
          <p:nvPicPr>
            <p:cNvPr id="272" name="" descr=""/>
            <p:cNvPicPr/>
            <p:nvPr/>
          </p:nvPicPr>
          <p:blipFill>
            <a:blip r:embed="rId2"/>
            <a:stretch/>
          </p:blipFill>
          <p:spPr>
            <a:xfrm>
              <a:off x="1116000" y="4653000"/>
              <a:ext cx="6856560" cy="1955880"/>
            </a:xfrm>
            <a:prstGeom prst="rect">
              <a:avLst/>
            </a:prstGeom>
            <a:ln w="38160">
              <a:solidFill>
                <a:srgbClr val="00b200"/>
              </a:solidFill>
              <a:miter/>
            </a:ln>
          </p:spPr>
        </p:pic>
        <p:sp>
          <p:nvSpPr>
            <p:cNvPr id="273" name=""/>
            <p:cNvSpPr/>
            <p:nvPr/>
          </p:nvSpPr>
          <p:spPr>
            <a:xfrm>
              <a:off x="898560" y="5516640"/>
              <a:ext cx="5834160" cy="5763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9360" y="2492280"/>
            <a:ext cx="9171000" cy="295596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4427640" y="2781360"/>
            <a:ext cx="1439640" cy="431640"/>
          </a:xfrm>
          <a:prstGeom prst="ellipse">
            <a:avLst/>
          </a:prstGeom>
          <a:noFill/>
          <a:ln w="507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195640" y="2421000"/>
            <a:ext cx="1728720" cy="36036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804000" y="2276640"/>
            <a:ext cx="2266920" cy="108108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443840" y="858960"/>
            <a:ext cx="251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odification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9" name=""/>
          <p:cNvCxnSpPr>
            <a:stCxn id="278" idx="2"/>
            <a:endCxn id="276" idx="0"/>
          </p:cNvCxnSpPr>
          <p:nvPr/>
        </p:nvCxnSpPr>
        <p:spPr>
          <a:xfrm flipH="1">
            <a:off x="3060000" y="1378080"/>
            <a:ext cx="2640600" cy="1018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80" name=""/>
          <p:cNvCxnSpPr>
            <a:stCxn id="278" idx="2"/>
            <a:endCxn id="275" idx="0"/>
          </p:cNvCxnSpPr>
          <p:nvPr/>
        </p:nvCxnSpPr>
        <p:spPr>
          <a:xfrm flipH="1">
            <a:off x="5148000" y="1377720"/>
            <a:ext cx="552960" cy="1378440"/>
          </a:xfrm>
          <a:prstGeom prst="straightConnector1">
            <a:avLst/>
          </a:prstGeom>
          <a:ln w="38160">
            <a:solidFill>
              <a:srgbClr val="703dff"/>
            </a:solidFill>
            <a:miter/>
            <a:tailEnd len="med" type="triangle" w="med"/>
          </a:ln>
        </p:spPr>
      </p:cxnSp>
      <p:cxnSp>
        <p:nvCxnSpPr>
          <p:cNvPr id="281" name=""/>
          <p:cNvCxnSpPr>
            <a:stCxn id="278" idx="2"/>
            <a:endCxn id="277" idx="0"/>
          </p:cNvCxnSpPr>
          <p:nvPr/>
        </p:nvCxnSpPr>
        <p:spPr>
          <a:xfrm>
            <a:off x="5700600" y="1377720"/>
            <a:ext cx="2237760" cy="873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2" name=""/>
          <p:cNvSpPr/>
          <p:nvPr/>
        </p:nvSpPr>
        <p:spPr>
          <a:xfrm>
            <a:off x="368640" y="1197000"/>
            <a:ext cx="323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fférents couleur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fférents aut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703dff"/>
                </a:solidFill>
                <a:latin typeface="Comic Sans MS"/>
              </a:rPr>
              <a:t>Identification des relecteur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770436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200160" y="189000"/>
            <a:ext cx="5740200" cy="363204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6212880" y="1125360"/>
            <a:ext cx="293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ctiver le « vol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évision » dans 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arre d’out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924000" y="1557360"/>
            <a:ext cx="2376360" cy="1150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779400" y="2852640"/>
            <a:ext cx="8256600" cy="3835440"/>
            <a:chOff x="779400" y="2852640"/>
            <a:chExt cx="8256600" cy="3835440"/>
          </a:xfrm>
        </p:grpSpPr>
        <p:pic>
          <p:nvPicPr>
            <p:cNvPr id="289" name="" descr=""/>
            <p:cNvPicPr/>
            <p:nvPr/>
          </p:nvPicPr>
          <p:blipFill>
            <a:blip r:embed="rId2"/>
            <a:stretch/>
          </p:blipFill>
          <p:spPr>
            <a:xfrm>
              <a:off x="3295800" y="2852640"/>
              <a:ext cx="5740200" cy="383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779400" y="4365720"/>
              <a:ext cx="21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Modification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908000" y="4869000"/>
              <a:ext cx="1511640" cy="360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Option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3924360" y="1700280"/>
            <a:ext cx="4589280" cy="48006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409760" y="2421000"/>
            <a:ext cx="235116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utils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Option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5" name=""/>
          <p:cNvCxnSpPr>
            <a:stCxn id="294" idx="2"/>
            <a:endCxn id="293" idx="1"/>
          </p:cNvCxnSpPr>
          <p:nvPr/>
        </p:nvCxnSpPr>
        <p:spPr>
          <a:xfrm>
            <a:off x="2585880" y="2817360"/>
            <a:ext cx="1339200" cy="12834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grpSp>
        <p:nvGrpSpPr>
          <p:cNvPr id="296" name=""/>
          <p:cNvGrpSpPr/>
          <p:nvPr/>
        </p:nvGrpSpPr>
        <p:grpSpPr>
          <a:xfrm>
            <a:off x="1403280" y="1125360"/>
            <a:ext cx="7416720" cy="5602320"/>
            <a:chOff x="1403280" y="1125360"/>
            <a:chExt cx="7416720" cy="5602320"/>
          </a:xfrm>
        </p:grpSpPr>
        <p:pic>
          <p:nvPicPr>
            <p:cNvPr id="297" name="" descr=""/>
            <p:cNvPicPr/>
            <p:nvPr/>
          </p:nvPicPr>
          <p:blipFill>
            <a:blip r:embed="rId2"/>
            <a:stretch/>
          </p:blipFill>
          <p:spPr>
            <a:xfrm>
              <a:off x="1403280" y="1125360"/>
              <a:ext cx="7416720" cy="560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5895720" y="4292640"/>
              <a:ext cx="198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MS Office X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xercic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1342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Avec votre collègue, créer un document sur le danger de l’Internet (hoax, phishing, virus…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Contrôler les modifications que chacun réali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Introduire des commentair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Transmettre le dossier à d’autres collègues. Éditer le document envoyé par les collègues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Version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4659480" y="2629080"/>
            <a:ext cx="488880" cy="48888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1054800" y="2421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mangue.do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112640" y="30621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mangue.do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958800" y="4292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mangue.do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70080" y="306864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mangue est délicieu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843280" y="3789360"/>
            <a:ext cx="412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Comic Sans MS"/>
              </a:rPr>
              <a:t>La mangue est délicieuse. La mangue est exotique. Elle est donc chè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1601640" y="1989000"/>
            <a:ext cx="489240" cy="48924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7507440" y="3860640"/>
            <a:ext cx="488880" cy="48924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3564000" y="5157720"/>
            <a:ext cx="56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La mangue est délicieuse. La mangue est exotique. Elle est donc chère. La mangue est bizar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3" idx="2"/>
            <a:endCxn id="306" idx="0"/>
          </p:cNvCxnSpPr>
          <p:nvPr/>
        </p:nvCxnSpPr>
        <p:spPr>
          <a:xfrm flipH="1">
            <a:off x="1846080" y="2787120"/>
            <a:ext cx="2160" cy="2818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12" name=""/>
          <p:cNvCxnSpPr>
            <a:stCxn id="304" idx="2"/>
            <a:endCxn id="307" idx="0"/>
          </p:cNvCxnSpPr>
          <p:nvPr/>
        </p:nvCxnSpPr>
        <p:spPr>
          <a:xfrm flipH="1">
            <a:off x="4903560" y="3428640"/>
            <a:ext cx="2160" cy="36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13" name=""/>
          <p:cNvCxnSpPr>
            <a:stCxn id="305" idx="2"/>
            <a:endCxn id="310" idx="0"/>
          </p:cNvCxnSpPr>
          <p:nvPr/>
        </p:nvCxnSpPr>
        <p:spPr>
          <a:xfrm flipH="1">
            <a:off x="6372000" y="4659480"/>
            <a:ext cx="1380240" cy="4989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14" name=""/>
          <p:cNvSpPr/>
          <p:nvPr/>
        </p:nvSpPr>
        <p:spPr>
          <a:xfrm rot="363000">
            <a:off x="2700000" y="2133720"/>
            <a:ext cx="1728720" cy="503280"/>
          </a:xfrm>
          <a:custGeom>
            <a:avLst/>
            <a:gdLst>
              <a:gd name="textAreaLeft" fmla="*/ 302400 w 1728720"/>
              <a:gd name="textAreaRight" fmla="*/ 1253520 w 1728720"/>
              <a:gd name="textAreaTop" fmla="*/ 67320 h 503280"/>
              <a:gd name="textAreaBottom" fmla="*/ 435960 h 50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245240" y="141300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er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360320" y="206064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er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600680" y="334980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ersio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1080000">
            <a:off x="5796000" y="2925360"/>
            <a:ext cx="1728720" cy="503280"/>
          </a:xfrm>
          <a:custGeom>
            <a:avLst/>
            <a:gdLst>
              <a:gd name="textAreaLeft" fmla="*/ 302400 w 1728720"/>
              <a:gd name="textAreaRight" fmla="*/ 1253520 w 1728720"/>
              <a:gd name="textAreaTop" fmla="*/ 67320 h 503280"/>
              <a:gd name="textAreaBottom" fmla="*/ 435960 h 50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Créer/Ajouter une version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612000" y="1844640"/>
            <a:ext cx="25873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ichier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Version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2819520"/>
            <a:ext cx="1447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762120" y="2738520"/>
            <a:ext cx="5790960" cy="3494160"/>
          </a:xfrm>
          <a:prstGeom prst="rect">
            <a:avLst/>
          </a:prstGeom>
          <a:ln w="0">
            <a:noFill/>
          </a:ln>
        </p:spPr>
      </p:pic>
      <p:cxnSp>
        <p:nvCxnSpPr>
          <p:cNvPr id="323" name=""/>
          <p:cNvCxnSpPr>
            <a:stCxn id="320" idx="3"/>
            <a:endCxn id="322" idx="0"/>
          </p:cNvCxnSpPr>
          <p:nvPr/>
        </p:nvCxnSpPr>
        <p:spPr>
          <a:xfrm>
            <a:off x="3200400" y="2048040"/>
            <a:ext cx="457920" cy="691200"/>
          </a:xfrm>
          <a:prstGeom prst="curvedConnector2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5219640" y="2209680"/>
            <a:ext cx="3733920" cy="268452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 flipV="1">
            <a:off x="2556000" y="3141720"/>
            <a:ext cx="252072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7416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Retrouver une version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612000" y="1484280"/>
            <a:ext cx="25873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ichier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Version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157400" y="2205000"/>
            <a:ext cx="5790960" cy="3494160"/>
          </a:xfrm>
          <a:prstGeom prst="rect">
            <a:avLst/>
          </a:prstGeom>
          <a:ln w="0">
            <a:noFill/>
          </a:ln>
        </p:spPr>
      </p:pic>
      <p:cxnSp>
        <p:nvCxnSpPr>
          <p:cNvPr id="329" name=""/>
          <p:cNvCxnSpPr>
            <a:stCxn id="327" idx="3"/>
            <a:endCxn id="328" idx="0"/>
          </p:cNvCxnSpPr>
          <p:nvPr/>
        </p:nvCxnSpPr>
        <p:spPr>
          <a:xfrm>
            <a:off x="3200400" y="1687320"/>
            <a:ext cx="853200" cy="518040"/>
          </a:xfrm>
          <a:prstGeom prst="curvedConnector2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30" name=""/>
          <p:cNvSpPr/>
          <p:nvPr/>
        </p:nvSpPr>
        <p:spPr>
          <a:xfrm>
            <a:off x="1066680" y="54100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2611440" y="5157720"/>
            <a:ext cx="6422040" cy="1008720"/>
            <a:chOff x="2611440" y="5157720"/>
            <a:chExt cx="6422040" cy="1008720"/>
          </a:xfrm>
        </p:grpSpPr>
        <p:sp>
          <p:nvSpPr>
            <p:cNvPr id="332" name=""/>
            <p:cNvSpPr/>
            <p:nvPr/>
          </p:nvSpPr>
          <p:spPr>
            <a:xfrm>
              <a:off x="6233040" y="5157720"/>
              <a:ext cx="2800440" cy="100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</a:rPr>
                <a:t>Affichage de la version</a:t>
              </a:r>
              <a:br>
                <a:rPr sz="2000"/>
              </a:b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</a:rPr>
                <a:t>sélectionnée dans une </a:t>
              </a:r>
              <a:br>
                <a:rPr sz="2000"/>
              </a:b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</a:rPr>
                <a:t>nouvelle fenêt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611440" y="5492520"/>
              <a:ext cx="3608280" cy="544680"/>
            </a:xfrm>
            <a:custGeom>
              <a:avLst/>
              <a:gdLst/>
              <a:ahLst/>
              <a:rect l="l" t="t" r="r" b="b"/>
              <a:pathLst>
                <a:path w="2273" h="343">
                  <a:moveTo>
                    <a:pt x="0" y="0"/>
                  </a:moveTo>
                  <a:cubicBezTo>
                    <a:pt x="145" y="51"/>
                    <a:pt x="492" y="286"/>
                    <a:pt x="871" y="308"/>
                  </a:cubicBezTo>
                  <a:cubicBezTo>
                    <a:pt x="1475" y="343"/>
                    <a:pt x="1981" y="160"/>
                    <a:pt x="2273" y="121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Fusion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696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usionner deux docume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ment faire 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vrir le document origin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til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usion… / Outil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omparaison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uvrir le document qui contient les correc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tiliser la barre d'outils Révision pour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cepter/Refuser une modific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sser à la  modification suiva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venir à la modification précéd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Traitement de texte : Word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app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y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ble de matièr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mentair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ivi de modific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ers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usion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Fusion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24000" y="360360"/>
            <a:ext cx="4593960" cy="6021360"/>
            <a:chOff x="324000" y="360360"/>
            <a:chExt cx="4593960" cy="6021360"/>
          </a:xfrm>
        </p:grpSpPr>
        <p:pic>
          <p:nvPicPr>
            <p:cNvPr id="338" name="" descr=""/>
            <p:cNvPicPr/>
            <p:nvPr/>
          </p:nvPicPr>
          <p:blipFill>
            <a:blip r:embed="rId1"/>
            <a:stretch/>
          </p:blipFill>
          <p:spPr>
            <a:xfrm>
              <a:off x="324000" y="360360"/>
              <a:ext cx="4593960" cy="60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"/>
            <p:cNvSpPr/>
            <p:nvPr/>
          </p:nvSpPr>
          <p:spPr>
            <a:xfrm>
              <a:off x="898560" y="2852640"/>
              <a:ext cx="3960720" cy="432000"/>
            </a:xfrm>
            <a:prstGeom prst="ellipse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826920" y="1554120"/>
            <a:ext cx="8099640" cy="4971960"/>
            <a:chOff x="826920" y="1554120"/>
            <a:chExt cx="8099640" cy="4971960"/>
          </a:xfrm>
        </p:grpSpPr>
        <p:pic>
          <p:nvPicPr>
            <p:cNvPr id="341" name="" descr=""/>
            <p:cNvPicPr/>
            <p:nvPr/>
          </p:nvPicPr>
          <p:blipFill>
            <a:blip r:embed="rId2"/>
            <a:stretch/>
          </p:blipFill>
          <p:spPr>
            <a:xfrm>
              <a:off x="826920" y="1554120"/>
              <a:ext cx="8031240" cy="47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6012000" y="4941720"/>
              <a:ext cx="2914560" cy="1584360"/>
            </a:xfrm>
            <a:prstGeom prst="ellipse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531040" y="3716280"/>
              <a:ext cx="228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hoix du docu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284720" y="3500280"/>
              <a:ext cx="1224000" cy="36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Arial"/>
              </a:rPr>
              <a:t>Fusion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2916360" y="1865160"/>
            <a:ext cx="5465520" cy="448956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3429000" y="205740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029200" y="205740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562720" y="220968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943600" y="220968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27240" y="1268280"/>
            <a:ext cx="27075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Barre d'outils Ré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00320" y="981000"/>
            <a:ext cx="1215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Parcour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407600" y="3213000"/>
            <a:ext cx="11865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Accep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551960" y="4365720"/>
            <a:ext cx="10738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Ref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268360" y="1700280"/>
            <a:ext cx="64800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5435640" y="1413000"/>
            <a:ext cx="504720" cy="5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2700000" y="2205000"/>
            <a:ext cx="3166920" cy="12240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2700360" y="2276640"/>
            <a:ext cx="3527280" cy="23047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xercic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éer différentes versions de votre docu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uvegarder une copier de votre document avec un autre no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ffectuer des modifications sur le document. Fusionner le document modifier et la copie du document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7416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Styl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413000"/>
            <a:ext cx="81342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Un style s'applique à un </a:t>
            </a:r>
            <a:r>
              <a:rPr b="0" lang="en-US" sz="3000" spc="-1" strike="noStrike">
                <a:solidFill>
                  <a:srgbClr val="703dff"/>
                </a:solidFill>
                <a:latin typeface="Comic Sans MS"/>
              </a:rPr>
              <a:t>paragraphe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ou à un </a:t>
            </a:r>
            <a:r>
              <a:rPr b="0" lang="en-US" sz="3000" spc="-1" strike="noStrike">
                <a:solidFill>
                  <a:srgbClr val="703dff"/>
                </a:solidFill>
                <a:latin typeface="Comic Sans MS"/>
              </a:rPr>
              <a:t>caractère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Il correspond à un </a:t>
            </a:r>
            <a:r>
              <a:rPr b="0" lang="en-US" sz="3000" spc="-1" strike="noStrike">
                <a:solidFill>
                  <a:srgbClr val="703dff"/>
                </a:solidFill>
                <a:latin typeface="Comic Sans MS"/>
              </a:rPr>
              <a:t>ensemble d'attributs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mémorisés sous un nom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Appliquer un style à un paragraphe/caractère revient à lui affecter l'ensemble des attributs mémorisés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Un utilisateur peut créer un nouveau style ou modifier un style existant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Styles prédéfini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l existe un certain nombre de styles prédéfinis, notamment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rm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t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us-tit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tre 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tre 2 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rps de texte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Styles : avantag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oupement de plusieurs attribu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ructure plus clai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ion de « sens » derrière le « style 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ifier un styl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odifier toutes les occurrences ayant ce sty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 les styles sont respectés pour les titres, la table des matières est automatiqu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Nom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 style est identifié par un n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297160" y="2492280"/>
            <a:ext cx="6019920" cy="3322800"/>
          </a:xfrm>
          <a:prstGeom prst="rect">
            <a:avLst/>
          </a:prstGeom>
          <a:ln w="0">
            <a:noFill/>
          </a:ln>
        </p:spPr>
      </p:pic>
      <p:grpSp>
        <p:nvGrpSpPr>
          <p:cNvPr id="182" name=""/>
          <p:cNvGrpSpPr/>
          <p:nvPr/>
        </p:nvGrpSpPr>
        <p:grpSpPr>
          <a:xfrm>
            <a:off x="1008720" y="3976560"/>
            <a:ext cx="3347280" cy="1677240"/>
            <a:chOff x="1008720" y="3976560"/>
            <a:chExt cx="3347280" cy="1677240"/>
          </a:xfrm>
        </p:grpSpPr>
        <p:sp>
          <p:nvSpPr>
            <p:cNvPr id="183" name=""/>
            <p:cNvSpPr/>
            <p:nvPr/>
          </p:nvSpPr>
          <p:spPr>
            <a:xfrm>
              <a:off x="3365640" y="3976560"/>
              <a:ext cx="990360" cy="3808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08720" y="5194080"/>
              <a:ext cx="19591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Nom de sty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5" name=""/>
            <p:cNvCxnSpPr>
              <a:stCxn id="184" idx="0"/>
              <a:endCxn id="183" idx="2"/>
            </p:cNvCxnSpPr>
            <p:nvPr/>
          </p:nvCxnSpPr>
          <p:spPr>
            <a:xfrm flipH="1" flipV="1" rot="5400000">
              <a:off x="2162520" y="3992760"/>
              <a:ext cx="1029600" cy="137736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Normal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438280" y="1911240"/>
            <a:ext cx="5715000" cy="4816440"/>
          </a:xfrm>
          <a:prstGeom prst="rect">
            <a:avLst/>
          </a:prstGeom>
          <a:ln w="0">
            <a:noFill/>
          </a:ln>
        </p:spPr>
      </p:pic>
      <p:grpSp>
        <p:nvGrpSpPr>
          <p:cNvPr id="188" name=""/>
          <p:cNvGrpSpPr/>
          <p:nvPr/>
        </p:nvGrpSpPr>
        <p:grpSpPr>
          <a:xfrm>
            <a:off x="560160" y="4425840"/>
            <a:ext cx="7440840" cy="2113200"/>
            <a:chOff x="560160" y="4425840"/>
            <a:chExt cx="7440840" cy="2113200"/>
          </a:xfrm>
        </p:grpSpPr>
        <p:sp>
          <p:nvSpPr>
            <p:cNvPr id="189" name=""/>
            <p:cNvSpPr/>
            <p:nvPr/>
          </p:nvSpPr>
          <p:spPr>
            <a:xfrm>
              <a:off x="4572000" y="4425840"/>
              <a:ext cx="3429000" cy="12193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60160" y="5713560"/>
              <a:ext cx="187380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Attributs du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style Norm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1" name=""/>
            <p:cNvCxnSpPr>
              <a:stCxn id="190" idx="0"/>
              <a:endCxn id="189" idx="2"/>
            </p:cNvCxnSpPr>
            <p:nvPr/>
          </p:nvCxnSpPr>
          <p:spPr>
            <a:xfrm flipH="1" flipV="1" rot="5400000">
              <a:off x="2694600" y="3837240"/>
              <a:ext cx="680040" cy="307584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Appliquer un styl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7086600" cy="40640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grpSp>
        <p:nvGrpSpPr>
          <p:cNvPr id="194" name=""/>
          <p:cNvGrpSpPr/>
          <p:nvPr/>
        </p:nvGrpSpPr>
        <p:grpSpPr>
          <a:xfrm>
            <a:off x="4038480" y="3122640"/>
            <a:ext cx="5050800" cy="1830240"/>
            <a:chOff x="4038480" y="3122640"/>
            <a:chExt cx="5050800" cy="1830240"/>
          </a:xfrm>
        </p:grpSpPr>
        <p:sp>
          <p:nvSpPr>
            <p:cNvPr id="195" name=""/>
            <p:cNvSpPr/>
            <p:nvPr/>
          </p:nvSpPr>
          <p:spPr>
            <a:xfrm>
              <a:off x="4038480" y="4495680"/>
              <a:ext cx="3996000" cy="4572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18440" y="3122640"/>
              <a:ext cx="267084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(1)Se positionn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sur un paragraph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7" name=""/>
            <p:cNvCxnSpPr>
              <a:stCxn id="196" idx="1"/>
              <a:endCxn id="195" idx="0"/>
            </p:cNvCxnSpPr>
            <p:nvPr/>
          </p:nvCxnSpPr>
          <p:spPr>
            <a:xfrm flipV="1" rot="10800000">
              <a:off x="6036480" y="3539880"/>
              <a:ext cx="529200" cy="95616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98" name=""/>
          <p:cNvGrpSpPr/>
          <p:nvPr/>
        </p:nvGrpSpPr>
        <p:grpSpPr>
          <a:xfrm>
            <a:off x="128520" y="3122640"/>
            <a:ext cx="3834000" cy="2744640"/>
            <a:chOff x="128520" y="3122640"/>
            <a:chExt cx="3834000" cy="2744640"/>
          </a:xfrm>
        </p:grpSpPr>
        <p:sp>
          <p:nvSpPr>
            <p:cNvPr id="199" name=""/>
            <p:cNvSpPr/>
            <p:nvPr/>
          </p:nvSpPr>
          <p:spPr>
            <a:xfrm>
              <a:off x="1371600" y="5257800"/>
              <a:ext cx="2590920" cy="6094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65320" y="3122640"/>
              <a:ext cx="233100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(2) Sélectionn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le style chois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1" name=""/>
            <p:cNvCxnSpPr>
              <a:stCxn id="200" idx="1"/>
              <a:endCxn id="199" idx="2"/>
            </p:cNvCxnSpPr>
            <p:nvPr/>
          </p:nvCxnSpPr>
          <p:spPr>
            <a:xfrm flipH="1" flipV="1" rot="10800000">
              <a:off x="356760" y="3540240"/>
              <a:ext cx="1015200" cy="2022840"/>
            </a:xfrm>
            <a:prstGeom prst="bentConnector3">
              <a:avLst>
                <a:gd name="adj1" fmla="val -22525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7T18:43:50Z</dcterms:created>
  <dc:creator>Manuele Kirsch Pinheiro</dc:creator>
  <dc:description/>
  <dc:language>en-US</dc:language>
  <cp:lastModifiedBy>Manuele Kirsch Pinheiro</cp:lastModifiedBy>
  <dcterms:modified xsi:type="dcterms:W3CDTF">2006-09-17T22:24:38Z</dcterms:modified>
  <cp:revision>27</cp:revision>
  <dc:subject/>
  <dc:title>Édition coopérative Word</dc:title>
</cp:coreProperties>
</file>