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E4B-1F54-4FCE-A0AE-5B85D902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096-B9EC-4FD9-BC09-832E168C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1F5-16B0-4AC8-A81F-38048212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0CC-4326-4DD7-B82D-A568AC94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FF22-B3F3-4E23-AD23-C689E4DD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DBB2-16BE-4F9D-AABA-5A13BF52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81F6-1BE5-4FC6-8E10-3ACCF683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B713-588B-4788-B530-8806F1F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FA04-10F2-4D19-81F0-F43A5AAC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4F51-C885-42FE-BAAF-C44B4AC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743A-5578-45DA-91AB-CBD9E11B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75C-E561-45B4-870B-AB7FEBF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3AC7-67CF-4F1C-BFDD-1A463CB0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7921-AD62-4D9E-B775-996CA38A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CE91-0C82-416D-81B8-A7D721FD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E76D-B266-4DBF-BA0B-904937FF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C546-9180-453B-ADD6-80DA16CA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2F0-90C3-40D5-A797-55E4D0FE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2D1-40B1-4F58-8B4E-490CB07E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DB2-34F0-43F5-83EA-6CEF5AAB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098-77C7-4EDC-8C0D-3350A9FF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34C-9C35-45A6-A689-5C4698FC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103-4500-4405-A4DA-B800AC2B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E36-F44E-4157-A207-BFB4D4C1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et Réseaux </a:t>
            </a:r>
            <a:fld id="{4B95D1FD-5B12-406D-A674-EA39747088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352E-7DF5-428E-847B-5875AE62D2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8D7-4127-4F65-89C5-97BFE8B852F0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E74C-29F5-4521-BDBB-22D4FBA82B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iac.org/ciac/" TargetMode="External"/><Relationship Id="rId2" Type="http://schemas.openxmlformats.org/officeDocument/2006/relationships/hyperlink" Target="http://www.ciac.org/ciac/" TargetMode="External"/><Relationship Id="rId3" Type="http://schemas.openxmlformats.org/officeDocument/2006/relationships/hyperlink" Target="http://www.ciac.org/ciac/" TargetMode="External"/><Relationship Id="rId4" Type="http://schemas.openxmlformats.org/officeDocument/2006/relationships/hyperlink" Target="http://www.ciac.org/ciac/" TargetMode="External"/><Relationship Id="rId5" Type="http://schemas.openxmlformats.org/officeDocument/2006/relationships/hyperlink" Target="http://www.ciac.org/ciac/" TargetMode="External"/><Relationship Id="rId6" Type="http://schemas.openxmlformats.org/officeDocument/2006/relationships/hyperlink" Target="http://www.secuser.com/" TargetMode="External"/><Relationship Id="rId7" Type="http://schemas.openxmlformats.org/officeDocument/2006/relationships/hyperlink" Target="http://www.secuser.com/" TargetMode="External"/><Relationship Id="rId8" Type="http://schemas.openxmlformats.org/officeDocument/2006/relationships/hyperlink" Target="http://www.secuser.com/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988640"/>
            <a:ext cx="6400800" cy="1435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nformatique et Réseaux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 KIRSCH PINH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éfinir un filtre sur votre messagerie (ENT) afin que les messages de votre collègue soient stockés dans un dossier ‘collegue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ercher sur le Web des informations sur phishing, hoax et spam, et repasser ces informations par email à son collèg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crire un paragraphe sur Word sur ce thème. Envoyer à votre collègue ce fichier par email (pièce jointe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81C-82E2-4EFC-86C0-E97736DC39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33A22-1C52-43FF-89A5-2F89240020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120" y="46080"/>
            <a:ext cx="8337600" cy="66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C2F-2B81-4794-8E83-E3C58D9F406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42CA-0E3E-4663-94CA-002461A9A1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82760" y="103320"/>
            <a:ext cx="8265960" cy="663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E86-E84E-4A39-B3A4-160CF4A539AD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B09BA-9DEA-42C3-8BA2-5868827AE7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2760" y="115920"/>
            <a:ext cx="8265960" cy="663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C64-E3FD-4EB0-B141-1A017F06E43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895AA-43B8-4201-B8EF-934563E54A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2760" y="88920"/>
            <a:ext cx="8192880" cy="65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33B-C44B-47F0-AF3B-0EE1172341DB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864CF-A7AA-4195-9E3D-50D6AB0E4B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921800" cy="645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771640" y="1413000"/>
            <a:ext cx="576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1413000"/>
            <a:ext cx="576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9B2-6F53-4743-A7BA-08593EA3A515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B210B-729C-49FF-BD97-D391F34DC0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29560" cy="3619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63640" y="549360"/>
            <a:ext cx="4775400" cy="3454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V="1">
            <a:off x="900000" y="1125000"/>
            <a:ext cx="792360" cy="331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CCD-8065-40FB-8122-08DCDB884E71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E33DD-B8FA-47B9-8FED-CEDE4A6D9B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7720" y="115920"/>
            <a:ext cx="8197920" cy="6676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08720" y="3860640"/>
            <a:ext cx="2952720" cy="1008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9AD-5A1E-4DBE-98E0-6CA9EAD0988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CEA79-D9D9-476C-AD99-61C6AD026C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91400" cy="2362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8601120" cy="3124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4360" y="1628640"/>
            <a:ext cx="28728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E87-A3D1-4602-9EAD-82159F710FE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08550-9A49-4D07-9AB6-7E554D7389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02280" cy="63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CA2-48B5-42B7-A699-A43774E2ABB1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85D05-4A44-4047-8EF9-AD0F77F1EB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munication par Interne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49B-0BAE-402A-BA4C-90B68A00D8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E9747-4FE6-4B01-B2CD-5866AA090A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ste de discuss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152360" cy="844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84720" y="2637000"/>
            <a:ext cx="1224000" cy="896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1523880" cy="111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564000" y="306864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300720" y="3860640"/>
            <a:ext cx="121464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6372360" y="5013360"/>
            <a:ext cx="1224000" cy="896760"/>
          </a:xfrm>
          <a:prstGeom prst="rect">
            <a:avLst/>
          </a:prstGeom>
          <a:ln w="0">
            <a:noFill/>
          </a:ln>
        </p:spPr>
      </p:pic>
      <p:cxnSp>
        <p:nvCxnSpPr>
          <p:cNvPr id="194" name=""/>
          <p:cNvCxnSpPr>
            <a:stCxn id="190" idx="3"/>
            <a:endCxn id="191" idx="1"/>
          </p:cNvCxnSpPr>
          <p:nvPr/>
        </p:nvCxnSpPr>
        <p:spPr>
          <a:xfrm flipV="1">
            <a:off x="2279520" y="3677400"/>
            <a:ext cx="128520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88" idx="1"/>
          </p:cNvCxnSpPr>
          <p:nvPr/>
        </p:nvCxnSpPr>
        <p:spPr>
          <a:xfrm flipV="1">
            <a:off x="4478040" y="1979280"/>
            <a:ext cx="167868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1" idx="3"/>
            <a:endCxn id="189" idx="1"/>
          </p:cNvCxnSpPr>
          <p:nvPr/>
        </p:nvCxnSpPr>
        <p:spPr>
          <a:xfrm flipV="1">
            <a:off x="4478400" y="3085920"/>
            <a:ext cx="1607040" cy="59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478400" y="3677760"/>
            <a:ext cx="182304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1" idx="3"/>
            <a:endCxn id="193" idx="1"/>
          </p:cNvCxnSpPr>
          <p:nvPr/>
        </p:nvCxnSpPr>
        <p:spPr>
          <a:xfrm>
            <a:off x="4478040" y="3677760"/>
            <a:ext cx="1894680" cy="17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684360" y="450756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: icml2-0607@listes-etu.univ-nancy2.f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251-7082-4795-B00D-75F12DD5D01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AD97B-E9E1-4042-8E8E-F7E51929B6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ste discussion sur 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553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4E31-200C-4FF9-8042-7EF1919CAB0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613B0-02B3-4DC2-9A01-3830ED35C5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ste de discuss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res sit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fr.groups.yahoo.com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groups.google.f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gn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d’envoie de gros volu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iscute la théma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surveille le lang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288-6BAF-4BA5-AB9C-6B8B8105ED4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E0D27-B161-4D34-B38F-C72D74D36A8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 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quelle(s) liste(s) êtes-vous inscrit(e) 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ouver sur Yahoo!Groupes une liste sur votre sport fav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A2D-A689-4AC9-AA5E-A4D541F8D7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F2C5D-1E16-4A57-9095-2C3B201F53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um de discuss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ions à travers un site W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s messages restent stockés dans le serve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change avec d’autres utilisateu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change par suje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propose un suj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dépose des messages sur un suj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B07-6DDD-4AEF-882A-2DEFC45EFD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34B1F-29A0-4336-B4B0-F34C5850A3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94200" y="2205000"/>
            <a:ext cx="5041800" cy="4079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33320" y="19890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forums.univ-nancy2.fr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10" idx="2"/>
            <a:endCxn id="209" idx="1"/>
          </p:cNvCxnSpPr>
          <p:nvPr/>
        </p:nvCxnSpPr>
        <p:spPr>
          <a:xfrm flipH="1" rot="16200000">
            <a:off x="2263680" y="2514240"/>
            <a:ext cx="1890000" cy="1572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582480" y="155736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pcentraide.com/index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681-0A4F-49A5-8187-35E3EE85703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F650B-0B00-4848-8596-E7E4B894C6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rum cours en lign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0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que cours en ligne possède un forum de nouveauté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 Informatique et Résea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cours.univ-nancy2.fr/course/view.php?id=69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1563840"/>
            <a:ext cx="8856720" cy="437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ED6-D2A4-4EA1-B740-F6627090755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B5405-7DD5-4A69-B1F1-63F4CAA4B4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’approprier de l’environnement 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ter une contribution aux forum du cours « Informatique et Réseaux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liens les plus intéressants que vous avez trouvé sur hoax, spam, phishing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849-9D56-4FFD-8864-6D8D1F6C1E0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7134C-3E10-4E7B-AEEF-DE065B5B7E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essageri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Quelques rappel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munication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ourrier électronique n'est pas 100% sû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s de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confidentialit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un mail circule de façon non crypt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Conseil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iblez vos correspond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 LES AGRESSEZ P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us êtes responsables de vos prop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us contribuez à l’image de votre communaut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érences culturelles, risque de malentendu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érifiez vos fichiers en annex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ttention aux attaques : </a:t>
            </a:r>
            <a:r>
              <a:rPr b="0" i="1" lang="fr-FR" sz="2000" spc="-1" strike="noStrike">
                <a:solidFill>
                  <a:srgbClr val="00b200"/>
                </a:solidFill>
                <a:latin typeface="Comic Sans MS"/>
              </a:rPr>
              <a:t>spam, hoax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virus</a:t>
            </a:r>
            <a:r>
              <a:rPr b="0" i="1" lang="fr-FR" sz="2000" spc="-1" strike="noStrike">
                <a:solidFill>
                  <a:srgbClr val="00b200"/>
                </a:solidFill>
                <a:latin typeface="Comic Sans MS"/>
              </a:rPr>
              <a:t>, phishing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BB9-23B3-4C7B-9A7A-AA24B5D221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64DF9-756D-4636-B8F9-711D16D65F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onctionnem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6720" y="1879560"/>
            <a:ext cx="1523880" cy="1117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356000" y="170028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435640" y="4797360"/>
            <a:ext cx="1523880" cy="1117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0" y="3357720"/>
            <a:ext cx="2857680" cy="1663560"/>
          </a:xfrm>
          <a:prstGeom prst="rect">
            <a:avLst/>
          </a:prstGeom>
          <a:ln w="0">
            <a:noFill/>
          </a:ln>
        </p:spPr>
      </p:pic>
      <p:cxnSp>
        <p:nvCxnSpPr>
          <p:cNvPr id="147" name=""/>
          <p:cNvCxnSpPr>
            <a:stCxn id="146" idx="0"/>
            <a:endCxn id="142" idx="2"/>
          </p:cNvCxnSpPr>
          <p:nvPr/>
        </p:nvCxnSpPr>
        <p:spPr>
          <a:xfrm flipV="1">
            <a:off x="1428480" y="2996640"/>
            <a:ext cx="108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268360" y="1628640"/>
            <a:ext cx="2160720" cy="50328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5160" y="221148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e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85240" y="35082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es 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P ou I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3148800">
            <a:off x="5832000" y="3536640"/>
            <a:ext cx="504720" cy="1584360"/>
          </a:xfrm>
          <a:custGeom>
            <a:avLst/>
            <a:gdLst>
              <a:gd name="textAreaLeft" fmla="*/ 67320 w 504720"/>
              <a:gd name="textAreaRight" fmla="*/ 437400 w 50472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3" idx="3"/>
            <a:endCxn id="144" idx="0"/>
          </p:cNvCxnSpPr>
          <p:nvPr/>
        </p:nvCxnSpPr>
        <p:spPr>
          <a:xfrm>
            <a:off x="5270040" y="2309400"/>
            <a:ext cx="2064600" cy="832680"/>
          </a:xfrm>
          <a:prstGeom prst="bentConnector2">
            <a:avLst/>
          </a:prstGeom>
          <a:ln w="76320">
            <a:solidFill>
              <a:srgbClr val="ffb8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5292360" y="14842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2700360" y="5445000"/>
            <a:ext cx="2722680" cy="1228680"/>
          </a:xfrm>
          <a:prstGeom prst="rect">
            <a:avLst/>
          </a:prstGeom>
          <a:ln w="0">
            <a:noFill/>
          </a:ln>
        </p:spPr>
      </p:pic>
      <p:cxnSp>
        <p:nvCxnSpPr>
          <p:cNvPr id="155" name=""/>
          <p:cNvCxnSpPr>
            <a:stCxn id="145" idx="2"/>
            <a:endCxn id="154" idx="3"/>
          </p:cNvCxnSpPr>
          <p:nvPr/>
        </p:nvCxnSpPr>
        <p:spPr>
          <a:xfrm rot="5400000">
            <a:off x="5737680" y="5599440"/>
            <a:ext cx="14472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956720" y="4005360"/>
            <a:ext cx="718920" cy="647640"/>
          </a:xfrm>
          <a:prstGeom prst="can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44" idx="3"/>
            <a:endCxn id="156" idx="1"/>
          </p:cNvCxnSpPr>
          <p:nvPr/>
        </p:nvCxnSpPr>
        <p:spPr>
          <a:xfrm>
            <a:off x="7791480" y="3751200"/>
            <a:ext cx="526320" cy="254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189560" y="4702320"/>
            <a:ext cx="19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îte Aux Lett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Électronique (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8D5-E33D-46C4-911A-6C58D5647B4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DA5AD-D961-4244-B56B-E4758A7D62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spects Pratiqu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a plupart des serveurs limitent la taille des messages et des fichiers annexé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érifier vos fichiers avant l’envo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aille des fich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ésence de vir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tamment sur les fichiers .doc et .ex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ertains serveurs bloquent les fichiers à risque (.exe, .doc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8AC-F844-4D37-878D-5C3D96D168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2BE6D-9733-4DBC-88BD-99C2FFD35B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PAM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066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’est quoi un SPA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message non sollicité (généralement de la publicit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« fléau » de l’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rcharge des serveurs et des BAL des utilisat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 millions d’euros sont dépensés chaque année pour limiter les dégâ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itez d’afficher votre e-mail ouvert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tilisez un logiciel anti-sp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E99-76EC-40A9-8939-1A73231C16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D1740-4BDD-47CC-8341-761134521B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HOA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5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« hoax » est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anula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nvoyé par mai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Mine d’or en Côte d’Ivoire…Envoyez de l’argen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le fichier win.exe est un viru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ême principe pour les « pyramides 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Microsoft donne de l’argent pour chaque mail reçu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Envoyez ce message à 10 amis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oujours vérifier l’exactitude de l’information avant de repasser le mail à d’autres person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257-8BB0-4108-A0AF-EE1350AB23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ADD3D-CCBF-47EE-B4B4-4C539D4236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Phishing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989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chnique d'ingénierie sociale qui consiste à envoyer un courriel en se faisant passer pour une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organisation de confianc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une banque, une administration, etc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mande de fournir des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renseignement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personnels que le pirate pourra exploiter ultérieurement (carte de crédit, compte bancaire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tes intéressantes à consul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fr.wikipedia.org/wiki/Phish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ciac.org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ciac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http://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www.secuser.com</a:t>
            </a:r>
            <a:r>
              <a:rPr b="0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tp://www.cert.org/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92D-D822-4E96-BECC-C0FEFABC6B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5BDDE-ADC3-4084-9922-390D02D0EA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Filt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éfinition de règles de filtrage des emails sel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Expéditeur, sujet, contenu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ermet une meilleure organisation des mails reç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Organisation de dossiers thématiq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ussi permet le filtrage partiel des SPAMs et H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D2D-6FE2-4E7E-AF7D-F703F36E36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066B9-2B10-4FCB-91E8-C242718BAB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7:34:19Z</dcterms:created>
  <dc:creator>Manuele Kirsch Pinheiro</dc:creator>
  <dc:description/>
  <dc:language>en-US</dc:language>
  <cp:lastModifiedBy>Manuele Kirsch Pinheiro</cp:lastModifiedBy>
  <dcterms:modified xsi:type="dcterms:W3CDTF">2006-09-13T10:14:18Z</dcterms:modified>
  <cp:revision>29</cp:revision>
  <dc:subject/>
  <dc:title>Informatique et Réseaux</dc:title>
</cp:coreProperties>
</file>