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DA2-B595-4C4E-8C8B-CC8B80F8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9FBE-5A43-45AB-8E09-F6A8CBE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9EE-E781-4517-B7BC-390CD56E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9E0-F44E-4EEA-A64E-23422FBAB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A4FC-0BFD-49D4-9F47-37150E59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C4FD-D135-435E-9D4D-6F99953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FFFC-C0D2-41FA-B0E8-5203FD0B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643-37AC-458D-A853-FE53245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7D12-3E02-45AA-91F9-0718105C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0080-8C10-437E-BB78-95E5BFE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A8D-A6E6-456C-914B-4E4E29E2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5FD-5A42-4050-849A-4C268119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A56B-A765-46A8-8B1D-25163971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3294-E8C9-42EB-BE27-3905B70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ADAE-52BA-423A-9B42-447876A4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371C-1BCC-44F1-8B06-7437CB61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518-CFD0-4086-9737-67062890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DEB-A2FB-4ADA-A6A2-4FB51AB5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47D-02B6-4D83-8550-AE0A1905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772-5F76-44E3-9CAB-AD26A477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4A9-ADCC-49CA-9F6D-2217FE40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9595-D6A8-4011-8053-90D70B7E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888F-A061-42CB-B9E8-A050C05A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809-E0C6-4879-9F91-0DFA40ED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118728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Systèmes Collaborat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CE92-961D-49C5-BE33-3B6D8D8631B6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228600"/>
            <a:ext cx="7351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4621-E44B-4152-8ED3-4EEA65CE9171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19320"/>
            <a:ext cx="705816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252440"/>
            <a:ext cx="13320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roups.yahoo.com/" TargetMode="External"/><Relationship Id="rId3" Type="http://schemas.openxmlformats.org/officeDocument/2006/relationships/hyperlink" Target="http://fr.groups.yahoo.com/" TargetMode="External"/><Relationship Id="rId4" Type="http://schemas.openxmlformats.org/officeDocument/2006/relationships/hyperlink" Target="http://fr.groups.yahoo.com/" TargetMode="External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groups.google.com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myspace.com/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orkut.com/" TargetMode="External"/><Relationship Id="rId3" Type="http://schemas.openxmlformats.org/officeDocument/2006/relationships/hyperlink" Target="http://www.orkut.com/" TargetMode="External"/><Relationship Id="rId4" Type="http://schemas.openxmlformats.org/officeDocument/2006/relationships/hyperlink" Target="http://www.orkut.com/" TargetMode="External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hyperlink" Target="mailto:liste@serveur.de.liste.fr" TargetMode="External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ystèmes Collaboratif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ahoo!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386320" cy="4181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79280" y="1484280"/>
            <a:ext cx="36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groups.yahoo.com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France : 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fr.groups.yahoo.com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ossibilité de création des nouvelles listes poss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Indexation et recher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AC9-45D7-41A3-91B7-59E0AF6B5B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ahoo!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8120" y="1198440"/>
            <a:ext cx="872496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4F5-843C-4733-B365-132FB91565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ahoo!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777520" cy="4244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77760" y="130824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des adhérents (membres du group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4217-4EA7-4DD5-A163-84579EA4F8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ahoo!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688320" y="162720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 parta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94080" y="1197000"/>
            <a:ext cx="4479840" cy="481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E1C-5C36-4F9C-ABBC-543FC2580F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ahoo!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5654160" y="90792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nées partag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0920" y="1262160"/>
            <a:ext cx="5400720" cy="5427720"/>
            <a:chOff x="250920" y="1262160"/>
            <a:chExt cx="5400720" cy="54277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5400720" cy="527688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34" name=""/>
            <p:cNvSpPr/>
            <p:nvPr/>
          </p:nvSpPr>
          <p:spPr>
            <a:xfrm>
              <a:off x="741600" y="1262160"/>
              <a:ext cx="955080" cy="368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oto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47640" y="1989000"/>
            <a:ext cx="7353360" cy="2543400"/>
            <a:chOff x="1547640" y="1989000"/>
            <a:chExt cx="7353360" cy="2543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1547640" y="2112840"/>
              <a:ext cx="7353360" cy="241956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37" name=""/>
            <p:cNvSpPr/>
            <p:nvPr/>
          </p:nvSpPr>
          <p:spPr>
            <a:xfrm>
              <a:off x="1823400" y="1989000"/>
              <a:ext cx="979200" cy="368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ch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5280" y="3828960"/>
            <a:ext cx="8580240" cy="2913120"/>
            <a:chOff x="395280" y="3828960"/>
            <a:chExt cx="8580240" cy="2913120"/>
          </a:xfrm>
        </p:grpSpPr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395280" y="4097160"/>
              <a:ext cx="8580240" cy="264492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40" name=""/>
            <p:cNvSpPr/>
            <p:nvPr/>
          </p:nvSpPr>
          <p:spPr>
            <a:xfrm>
              <a:off x="600480" y="3828960"/>
              <a:ext cx="2183400" cy="368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ses des donné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3E3-D78B-4E6F-9D8F-0127063D55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réation d’une base de donné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71640" y="2738520"/>
            <a:ext cx="6121440" cy="3930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316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s à partir d’un modèle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net d’a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épertoire télépho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sibilité 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éer une nouvelle b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3211560"/>
            <a:ext cx="2232000" cy="504720"/>
          </a:xfrm>
          <a:prstGeom prst="ellipse">
            <a:avLst/>
          </a:prstGeom>
          <a:noFill/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4076640"/>
            <a:ext cx="2016000" cy="360360"/>
          </a:xfrm>
          <a:prstGeom prst="ellipse">
            <a:avLst/>
          </a:prstGeom>
          <a:noFill/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27640" y="5589720"/>
            <a:ext cx="1512720" cy="431640"/>
          </a:xfrm>
          <a:prstGeom prst="ellipse">
            <a:avLst/>
          </a:prstGeom>
          <a:noFill/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35240" y="1628640"/>
            <a:ext cx="5829120" cy="3743280"/>
            <a:chOff x="3135240" y="1628640"/>
            <a:chExt cx="5829120" cy="374328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3135240" y="1628640"/>
              <a:ext cx="582912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4862520" y="1844640"/>
              <a:ext cx="1079280" cy="360360"/>
            </a:xfrm>
            <a:prstGeom prst="ellipse">
              <a:avLst/>
            </a:prstGeom>
            <a:noFill/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6520" y="4294080"/>
              <a:ext cx="1512720" cy="431640"/>
            </a:xfrm>
            <a:prstGeom prst="ellipse">
              <a:avLst/>
            </a:prstGeom>
            <a:noFill/>
            <a:ln w="255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D8A-0C4B-4D81-B0F4-DEAAF48E80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16360" y="3497400"/>
            <a:ext cx="5976720" cy="31716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Google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groups.google.com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ssocié aux Google comp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ssibilit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réation de nouveaux grou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echerc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516720" y="996840"/>
            <a:ext cx="2243160" cy="17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923-4D25-401E-A695-2D5D6F94B3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Google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6943680" cy="4000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1120" y="5348160"/>
            <a:ext cx="1607400" cy="3988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700360" y="1125360"/>
            <a:ext cx="5974920" cy="3864600"/>
            <a:chOff x="2700360" y="1125360"/>
            <a:chExt cx="5974920" cy="3864600"/>
          </a:xfrm>
        </p:grpSpPr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700360" y="1125360"/>
              <a:ext cx="5974920" cy="330120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60" name=""/>
            <p:cNvSpPr/>
            <p:nvPr/>
          </p:nvSpPr>
          <p:spPr>
            <a:xfrm>
              <a:off x="4409280" y="4286160"/>
              <a:ext cx="2460600" cy="703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mbres du group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age des fich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834-9E5A-48FA-8481-E7D225A82F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Google Group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39640" y="1335240"/>
            <a:ext cx="6838920" cy="3960720"/>
            <a:chOff x="539640" y="1335240"/>
            <a:chExt cx="6838920" cy="39607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6838920" cy="366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61680" y="1335240"/>
              <a:ext cx="2318760" cy="398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artage des pag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908000" y="1890720"/>
            <a:ext cx="7164720" cy="2408400"/>
            <a:chOff x="1908000" y="1890720"/>
            <a:chExt cx="7164720" cy="240840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374560" y="2271960"/>
              <a:ext cx="6518160" cy="157932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67" name=""/>
            <p:cNvSpPr/>
            <p:nvPr/>
          </p:nvSpPr>
          <p:spPr>
            <a:xfrm flipV="1">
              <a:off x="1908000" y="3867120"/>
              <a:ext cx="792000" cy="4320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6680" y="1890720"/>
              <a:ext cx="1976040" cy="3988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Éditeur simplifi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461-5B93-4556-ACDE-27CA0408F5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Google Calend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248240" cy="5553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221440" y="3213000"/>
            <a:ext cx="3671640" cy="947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 personnelle et parta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F3B-3B19-4B5A-BCE1-B1B2BA3D07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es procédés (ou workflow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éfinition Wikipedi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Workflow ou flux de travail : « la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modélis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et la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ges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informatique de l'ensemble des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tâch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à accomplir et des différents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acteur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impliqués dans la réalisation d'un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processu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métier 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océdé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semble d'activités ou de tâches nécessaires pour arriver à un b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rocédés industriels, Procédés méti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gestion des emprunts dans une ban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 gestion de la publication sur un sit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5E7-7EDC-4D33-89B8-816F5DE623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My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76200" y="1849320"/>
            <a:ext cx="7543800" cy="4819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51680" y="124308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myspace.com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FB7-CFA7-4897-B454-9AEB53026D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650440" cy="49341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ives Spaces (M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53880" y="1484280"/>
            <a:ext cx="4038840" cy="147816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ervices intégrés à MS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onctionnalités d’un blog / videob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5942160"/>
            <a:ext cx="358092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http://www.windowslivespaces.fr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640" y="6302520"/>
            <a:ext cx="4100400" cy="368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ser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windowslivespaces.fr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C3D0-15D6-40B1-BC9B-0E5A41EE3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657520" y="981000"/>
            <a:ext cx="6162480" cy="49150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Orku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4299120"/>
            <a:ext cx="3394080" cy="1938240"/>
          </a:xfrm>
          <a:prstGeom prst="rect">
            <a:avLst/>
          </a:prstGeom>
          <a:noFill/>
          <a:ln w="9360">
            <a:solidFill>
              <a:srgbClr val="99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orkut.com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/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rmation des communaut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2B93-C41D-417B-A3BF-872F2990CF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ègle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seul groupe  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Silence en cour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 Seulement communications « virtuels » permi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âche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éer un groupe de discus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iter les collègues (et la prof ! ) à partici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ager les liens en relation avec le cou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B9D-8788-46E1-B73E-A095898431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âch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Écrire ensemble un document sur GoogleDo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hème :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outils Google pour la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ujets à traite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arer les fonctionnalités de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Google Group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de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Yahoo! Grou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er les fonctionnalités de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GoogleDoc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parer l’usage de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GoogleDoc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à l’usage des outils de 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 peut se dérouler la collaboration avec ces outil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Quels avantages / désavantages de l’usage de ces outil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 fonctionne la gestion des versions dans GoogleDoc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mment les outils de réseau social peuvent contribuer à la collabor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Document doit être </a:t>
            </a:r>
            <a:r>
              <a:rPr b="1" lang="fr-FR" sz="2200" spc="-1" strike="noStrike">
                <a:solidFill>
                  <a:srgbClr val="800000"/>
                </a:solidFill>
                <a:latin typeface="Arial"/>
              </a:rPr>
              <a:t>aussi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 rendu par mail en format 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A82-AE99-4857-B62A-C58955B78B5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orkflow (Système de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rmet de modéliser et contrôler et d'automatiser un procéd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éfinit p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activi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dépendanc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ntre les activi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rôl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qui exécutent les activi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donné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pour les activit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n parle aussi de « moteur de workflow 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611-A7D2-477B-8514-B917324412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orkfl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vantage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rmalisation et contrôle de la procéd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acteurs peuvent se concentrer sur la collaboration et non sur la procéd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blèm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u de souplesse et de flexibilit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aitement des exce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orkflow adaptatif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29CA-A91A-4D7F-94AE-79BEC49F6D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: la publ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ctivités (tâches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ape 1 : la rédaction de l'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ape 2 : la relecture de l'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ape 3 : la validation de l'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tape 4 : la publication de l'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ôles : rédacteur, relecteur, responsable, administrat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onnées : le document et éventuellement les commentai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0DF-CB0C-4E21-8545-817B83D53B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ns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 procédé est fig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 document change d'état à chaque éta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cours de réd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osé à l'éval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é en lig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la poubel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us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rôles sont fig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apté dans SPIP Ag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3E0-B87E-464B-B289-4C18D4DCA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orkflow Dans Pl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307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workflows peuvent être adaptés et modifi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16360" y="1189080"/>
            <a:ext cx="6192720" cy="491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37D-9C20-4FB8-8C6A-B8EF3421CB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éseaux sociau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Formation des communauté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roupes autour des listes de discu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Thématique commune mise en av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Yahoo! Groups, Google Grou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éseaux des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oogle Orkut, LifeSpace, MySp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Social computing : tools that support social interaction and communic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882-CC4F-47A0-8DA7-E82C4A54D7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ste de discus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43640" y="1197000"/>
            <a:ext cx="115272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792840" y="2421000"/>
            <a:ext cx="1308240" cy="965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1523880" cy="1117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564000" y="306864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6516720" y="3840120"/>
            <a:ext cx="1298520" cy="957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156360" y="5157720"/>
            <a:ext cx="1224000" cy="897120"/>
          </a:xfrm>
          <a:prstGeom prst="rect">
            <a:avLst/>
          </a:prstGeom>
          <a:ln w="0">
            <a:noFill/>
          </a:ln>
        </p:spPr>
      </p:pic>
      <p:cxnSp>
        <p:nvCxnSpPr>
          <p:cNvPr id="112" name=""/>
          <p:cNvCxnSpPr>
            <a:stCxn id="108" idx="3"/>
            <a:endCxn id="109" idx="1"/>
          </p:cNvCxnSpPr>
          <p:nvPr/>
        </p:nvCxnSpPr>
        <p:spPr>
          <a:xfrm flipV="1">
            <a:off x="2279520" y="3677400"/>
            <a:ext cx="128520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9" idx="3"/>
            <a:endCxn id="106" idx="1"/>
          </p:cNvCxnSpPr>
          <p:nvPr/>
        </p:nvCxnSpPr>
        <p:spPr>
          <a:xfrm flipV="1">
            <a:off x="4478040" y="1618560"/>
            <a:ext cx="1965960" cy="20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07" idx="1"/>
          </p:cNvCxnSpPr>
          <p:nvPr/>
        </p:nvCxnSpPr>
        <p:spPr>
          <a:xfrm flipV="1">
            <a:off x="4478040" y="2903040"/>
            <a:ext cx="2314800" cy="7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9" idx="3"/>
            <a:endCxn id="110" idx="1"/>
          </p:cNvCxnSpPr>
          <p:nvPr/>
        </p:nvCxnSpPr>
        <p:spPr>
          <a:xfrm>
            <a:off x="4478400" y="3678120"/>
            <a:ext cx="203904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9" idx="3"/>
            <a:endCxn id="111" idx="1"/>
          </p:cNvCxnSpPr>
          <p:nvPr/>
        </p:nvCxnSpPr>
        <p:spPr>
          <a:xfrm>
            <a:off x="4478040" y="3678120"/>
            <a:ext cx="167868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250920" y="2549880"/>
            <a:ext cx="3960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o: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Comic Sans MS"/>
                <a:hlinkClick r:id="rId7"/>
              </a:rPr>
              <a:t>liste@serveur.de.liste.fr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61440" y="43657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Serveur de l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353-381A-494C-96D9-0D278AA300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2:17:34Z</dcterms:created>
  <dc:creator>Manuele</dc:creator>
  <dc:description/>
  <dc:language>en-US</dc:language>
  <cp:lastModifiedBy>Manuele</cp:lastModifiedBy>
  <dcterms:modified xsi:type="dcterms:W3CDTF">2007-02-13T08:02:37Z</dcterms:modified>
  <cp:revision>17</cp:revision>
  <dc:subject/>
  <dc:title>Systèmes Collaboratifs</dc:title>
</cp:coreProperties>
</file>