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61A9-36CE-4EBD-830A-9B4E505A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923-AD9B-4EA9-ABBA-5D39C826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215-5398-4E8A-B458-9CDE2851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94C-F7AE-451F-BE28-6A81C943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ADF6-9BB0-4134-80C1-4C0C5B51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E413-5D00-49C3-84DA-6C1CECE8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0EB2-C5CD-4CBF-B698-A117D88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292C-3AF7-4224-B805-41A75385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D3D8-A998-41F4-8DF3-034F434B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A3D9-E3CB-42DD-B630-102AA37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F79A-37F9-415B-B4E2-8AD43EF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FA5-C027-4E55-AC87-EBCBE65F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80BD-AEB1-4321-BA73-994178E9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B7C-EC5C-439D-A5EA-F9020993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9E4-BA75-4214-86E4-1336C4C1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EF50-7B63-4827-9EBD-2B69099E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B643-8A45-4A08-9226-8C56F85F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8FC-5DF4-474C-B2C7-34999856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67C-A76F-4974-B605-BE13407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068-A744-4677-9C1A-8BC79C9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771-3EF1-459D-A7D1-7CBA4AD3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F5B-25FF-4C1F-B465-27340499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D52-88BA-46B4-9FF8-E4300798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728-E235-4F8E-8104-38795A35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118728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67E6-6621-403F-8BF2-CA9324E538B4}" type="datetime">
              <a:rPr b="0" lang="fr-FR" sz="1200" spc="-1" strike="noStrike">
                <a:solidFill>
                  <a:srgbClr val="000000"/>
                </a:solidFill>
                <a:latin typeface="Garamond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Systèmes Collaborat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EB1-78DB-4307-95E4-BF3A12B69104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228600"/>
            <a:ext cx="7351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BC54-A448-4105-8E02-3A8DEDCCFFBE}" type="datetime">
              <a:rPr b="0" lang="fr-FR" sz="1200" spc="-1" strike="noStrike">
                <a:solidFill>
                  <a:srgbClr val="000000"/>
                </a:solidFill>
                <a:latin typeface="Garamond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34F-DDDF-4A5E-B41F-C534445D53E0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19320"/>
            <a:ext cx="705816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252440"/>
            <a:ext cx="13320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nuele.Kirsch-Pinheiro@univ-nancy2.f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dnet.fr/actualites/internet/0,39020774,39364109,00.htm" TargetMode="External"/><Relationship Id="rId2" Type="http://schemas.openxmlformats.org/officeDocument/2006/relationships/hyperlink" Target="http://www.zdnet.fr/entreprise/management-rh/collaboratif/0,50007183,39304238,00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9y.org/" TargetMode="External"/><Relationship Id="rId2" Type="http://schemas.openxmlformats.org/officeDocument/2006/relationships/hyperlink" Target="http://mkirschp.free.fr/serendipity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fr.wikipedia.org/wiki/LDAP" TargetMode="External"/><Relationship Id="rId2" Type="http://schemas.openxmlformats.org/officeDocument/2006/relationships/hyperlink" Target="http://fr.wikipedia.org/wiki/LDAP" TargetMode="External"/><Relationship Id="rId3" Type="http://schemas.openxmlformats.org/officeDocument/2006/relationships/hyperlink" Target="http://fr.wikipedia.org/wiki/LDAP" TargetMode="External"/><Relationship Id="rId4" Type="http://schemas.openxmlformats.org/officeDocument/2006/relationships/hyperlink" Target="http://fr.wikipedia.org/wiki/LDAP" TargetMode="External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ystèmes Collaboratif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uele Kirsch Pinh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nuele.Kirsch-Pinheiro@univ-nancy2.f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27D0-E4EC-4145-B4A5-CEB26B9B75E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1BAFF75-C164-4196-814A-CEFF16B17B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se à jour perd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4183200" y="1341360"/>
            <a:ext cx="485280" cy="468000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ur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5880" y="1382760"/>
            <a:ext cx="503280" cy="47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8640" y="18381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en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78640" y="5202360"/>
            <a:ext cx="979200" cy="892080"/>
            <a:chOff x="278640" y="5202360"/>
            <a:chExt cx="979200" cy="892080"/>
          </a:xfrm>
        </p:grpSpPr>
        <p:pic>
          <p:nvPicPr>
            <p:cNvPr id="137" name="" descr=""/>
            <p:cNvPicPr/>
            <p:nvPr/>
          </p:nvPicPr>
          <p:blipFill>
            <a:blip r:embed="rId2"/>
            <a:stretch/>
          </p:blipFill>
          <p:spPr>
            <a:xfrm>
              <a:off x="480960" y="5202360"/>
              <a:ext cx="576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278640" y="572616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lien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50920" y="3286080"/>
            <a:ext cx="720720" cy="52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0520" y="38624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ien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03280" y="1268280"/>
            <a:ext cx="2665440" cy="368280"/>
            <a:chOff x="1403280" y="1268280"/>
            <a:chExt cx="2665440" cy="368280"/>
          </a:xfrm>
        </p:grpSpPr>
        <p:sp>
          <p:nvSpPr>
            <p:cNvPr id="142" name=""/>
            <p:cNvSpPr/>
            <p:nvPr/>
          </p:nvSpPr>
          <p:spPr>
            <a:xfrm>
              <a:off x="1403280" y="1589040"/>
              <a:ext cx="2665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01000" y="126828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716360" y="1419120"/>
            <a:ext cx="2566800" cy="642600"/>
            <a:chOff x="4716360" y="1419120"/>
            <a:chExt cx="2566800" cy="642600"/>
          </a:xfrm>
        </p:grpSpPr>
        <p:sp>
          <p:nvSpPr>
            <p:cNvPr id="145" name=""/>
            <p:cNvSpPr/>
            <p:nvPr/>
          </p:nvSpPr>
          <p:spPr>
            <a:xfrm>
              <a:off x="5437080" y="1498680"/>
              <a:ext cx="432000" cy="43164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68000" y="1419120"/>
              <a:ext cx="141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716360" y="178596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403280" y="1909800"/>
            <a:ext cx="2665440" cy="368280"/>
            <a:chOff x="1403280" y="1909800"/>
            <a:chExt cx="2665440" cy="368280"/>
          </a:xfrm>
        </p:grpSpPr>
        <p:sp>
          <p:nvSpPr>
            <p:cNvPr id="149" name=""/>
            <p:cNvSpPr/>
            <p:nvPr/>
          </p:nvSpPr>
          <p:spPr>
            <a:xfrm flipH="1">
              <a:off x="1403280" y="1973520"/>
              <a:ext cx="266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02280" y="1909800"/>
              <a:ext cx="23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ge.html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(origin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403280" y="5380200"/>
            <a:ext cx="2665440" cy="642600"/>
            <a:chOff x="1403280" y="5380200"/>
            <a:chExt cx="2665440" cy="642600"/>
          </a:xfrm>
        </p:grpSpPr>
        <p:sp>
          <p:nvSpPr>
            <p:cNvPr id="152" name=""/>
            <p:cNvSpPr/>
            <p:nvPr/>
          </p:nvSpPr>
          <p:spPr>
            <a:xfrm>
              <a:off x="1403280" y="5700600"/>
              <a:ext cx="2665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01000" y="5380200"/>
              <a:ext cx="196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UT </a:t>
              </a:r>
              <a:r>
                <a:rPr b="0" lang="fr-FR" sz="1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(modifiée par 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16360" y="5446800"/>
            <a:ext cx="2908440" cy="720000"/>
            <a:chOff x="4716360" y="5446800"/>
            <a:chExt cx="2908440" cy="720000"/>
          </a:xfrm>
        </p:grpSpPr>
        <p:sp>
          <p:nvSpPr>
            <p:cNvPr id="155" name=""/>
            <p:cNvSpPr/>
            <p:nvPr/>
          </p:nvSpPr>
          <p:spPr>
            <a:xfrm>
              <a:off x="5435640" y="5446800"/>
              <a:ext cx="431640" cy="43164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68360" y="5524200"/>
              <a:ext cx="175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Modifiée par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716360" y="5668920"/>
              <a:ext cx="720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1403280" y="2492280"/>
            <a:ext cx="2665440" cy="368280"/>
            <a:chOff x="1403280" y="2492280"/>
            <a:chExt cx="2665440" cy="368280"/>
          </a:xfrm>
        </p:grpSpPr>
        <p:sp>
          <p:nvSpPr>
            <p:cNvPr id="159" name=""/>
            <p:cNvSpPr/>
            <p:nvPr/>
          </p:nvSpPr>
          <p:spPr>
            <a:xfrm>
              <a:off x="1403280" y="28130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01000" y="249228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403280" y="3133800"/>
            <a:ext cx="2665440" cy="368280"/>
            <a:chOff x="1403280" y="3133800"/>
            <a:chExt cx="2665440" cy="368280"/>
          </a:xfrm>
        </p:grpSpPr>
        <p:sp>
          <p:nvSpPr>
            <p:cNvPr id="162" name=""/>
            <p:cNvSpPr/>
            <p:nvPr/>
          </p:nvSpPr>
          <p:spPr>
            <a:xfrm flipH="1">
              <a:off x="1403280" y="3197160"/>
              <a:ext cx="266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00480" y="3133800"/>
              <a:ext cx="236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ge.html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(origina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403280" y="4076640"/>
            <a:ext cx="2665440" cy="642600"/>
            <a:chOff x="1403280" y="4076640"/>
            <a:chExt cx="2665440" cy="642600"/>
          </a:xfrm>
        </p:grpSpPr>
        <p:sp>
          <p:nvSpPr>
            <p:cNvPr id="165" name=""/>
            <p:cNvSpPr/>
            <p:nvPr/>
          </p:nvSpPr>
          <p:spPr>
            <a:xfrm>
              <a:off x="1403280" y="43970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01000" y="4076640"/>
              <a:ext cx="196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UT </a:t>
              </a:r>
              <a:r>
                <a:rPr b="0" lang="fr-FR" sz="18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(modifiée par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116000" y="263700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716360" y="2637000"/>
            <a:ext cx="2566800" cy="642600"/>
            <a:chOff x="4716360" y="2637000"/>
            <a:chExt cx="2566800" cy="642600"/>
          </a:xfrm>
        </p:grpSpPr>
        <p:sp>
          <p:nvSpPr>
            <p:cNvPr id="169" name=""/>
            <p:cNvSpPr/>
            <p:nvPr/>
          </p:nvSpPr>
          <p:spPr>
            <a:xfrm>
              <a:off x="5437080" y="2716200"/>
              <a:ext cx="432000" cy="43200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8000" y="2637000"/>
              <a:ext cx="141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16360" y="3003480"/>
              <a:ext cx="720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716360" y="4076640"/>
            <a:ext cx="2910240" cy="648720"/>
            <a:chOff x="4716360" y="4076640"/>
            <a:chExt cx="2910240" cy="648720"/>
          </a:xfrm>
        </p:grpSpPr>
        <p:sp>
          <p:nvSpPr>
            <p:cNvPr id="173" name=""/>
            <p:cNvSpPr/>
            <p:nvPr/>
          </p:nvSpPr>
          <p:spPr>
            <a:xfrm>
              <a:off x="5437080" y="4076640"/>
              <a:ext cx="432000" cy="431640"/>
            </a:xfrm>
            <a:prstGeom prst="can">
              <a:avLst>
                <a:gd name="adj" fmla="val 250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70160" y="4082760"/>
              <a:ext cx="175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age.ht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Modifiée par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16360" y="4363920"/>
              <a:ext cx="72072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443640" y="3716280"/>
            <a:ext cx="2592360" cy="1944720"/>
          </a:xfrm>
          <a:prstGeom prst="irregularSeal1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odifications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 B sont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erdues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75C-673C-43BB-BF6A-9A543FEEDED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87E80-8C08-4108-94DC-205546A490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truire et maintenir un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 peu plus moder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ser une base de donnée et du 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tre à jour la base de donn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core plus moder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tiliser un outil en ligne de gestion de site Web (ou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gestion de conten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296E-11F5-4F6E-B0AB-B809028BB1E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F2DF1D-1AF2-4C81-8BAA-373F3AFCAD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ncipe de la gestion de conten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 contenu est produit en lig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gestion du site ne nécessite pas (beaucoup) de connaiss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développement de site We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ux grandes fo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production de cont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consultation du cont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 pas confondre avec une gestionnaire de doc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E1F-0A18-4880-BE01-77EF069A91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F4F14-CA78-4E5B-9051-90322C0850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Bl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dition souvent individu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tenu ordonné en fonction du te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Wik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Wikipedia (édition collaborative massi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s C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dition contrôl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tenu structu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82F-5785-4E76-8461-E3305C45496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5B80F-81EC-4A25-94D8-33C051306D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Blo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blog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« </a:t>
            </a:r>
            <a:r>
              <a:rPr b="0" i="1" lang="fr-FR" sz="2600" spc="-1" strike="noStrike">
                <a:solidFill>
                  <a:srgbClr val="afbf39"/>
                </a:solidFill>
                <a:latin typeface="Arial"/>
              </a:rPr>
              <a:t>weblog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) est un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site personne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tenu par un ou plusieurs personnes (les </a:t>
            </a:r>
            <a:r>
              <a:rPr b="0" i="1" lang="fr-FR" sz="2600" spc="-1" strike="noStrike">
                <a:solidFill>
                  <a:srgbClr val="afbf39"/>
                </a:solidFill>
                <a:latin typeface="Arial"/>
              </a:rPr>
              <a:t>blogueur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haque blog est composé de articles courts (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billets ou not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publiés en ordre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ante-chronologiqu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uvent assimilé à un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journal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in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uvent, les lecteurs peuvent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commente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un b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4B7-4564-4218-8BCE-3778609160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85E2D-7267-4B2C-B70E-E9B56ACF55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Blo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2280" y="141408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Facile à </a:t>
            </a:r>
            <a:r>
              <a:rPr b="0" lang="fr-FR" sz="3000" spc="-1" strike="noStrike">
                <a:solidFill>
                  <a:srgbClr val="afbf39"/>
                </a:solidFill>
                <a:latin typeface="Arial"/>
              </a:rPr>
              <a:t>concevo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sage d’outils spécialisé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as besoin de maîtriser le (X)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util de </a:t>
            </a:r>
            <a:r>
              <a:rPr b="0" lang="fr-FR" sz="3000" spc="-1" strike="noStrike">
                <a:solidFill>
                  <a:srgbClr val="afbf39"/>
                </a:solidFill>
                <a:latin typeface="Arial"/>
              </a:rPr>
              <a:t>communic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et de promotion personn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logs politiques, blogs de journaliste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arnets de voyages, photo-blog, video-blog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fbf39"/>
                </a:solidFill>
                <a:latin typeface="Arial"/>
              </a:rPr>
              <a:t>Contenu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varié : texte, images, vidéos, lien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afbf39"/>
                </a:solidFill>
                <a:latin typeface="Arial"/>
              </a:rPr>
              <a:t>Présent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homogène, personnalisation souvent limité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3AE9-ABD0-4921-8B8F-1D028BD0ED1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F8A7E-5B29-4BD7-A170-0731E4C697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Phénomène blo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hénomène de mass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+ de 6 000 000 blogs sur Skyblo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ible privilégié : adolescents, jeunes adul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00720" y="3500280"/>
            <a:ext cx="4454280" cy="3167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79280" y="4221360"/>
            <a:ext cx="4321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afbf39"/>
                </a:solidFill>
                <a:latin typeface="Comic Sans MS"/>
              </a:rPr>
              <a:t>Evolution du n° de blogs (en millions) dans le monde, selon Technorati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(http://www.journaldunet.com/cc/03_internetmonde/intermonde_blog.s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B5C6-D869-406A-BE41-7BF3D60C9CB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06562-B7B5-490D-BD01-EAD4B2FABD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difficulté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Mises à jour fréquent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a « morte » des blo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éférenc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isibilité d’un b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blogs visités par perso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4C45-E110-408B-8B06-9DE98C8432A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EEC7D-99B1-43E8-9BDE-214AD6CCD3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es risques du blo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82072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estions liés à la </a:t>
            </a: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propriété intellectuell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et au droit à l’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afbf39"/>
                </a:solidFill>
                <a:latin typeface="Arial"/>
              </a:rPr>
              <a:t>Respect à la vie privé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Quelques exempl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Nissan fait condamner un blog de salariée pour diffamation » (</a:t>
            </a:r>
            <a:r>
              <a:rPr b="1" lang="fr-F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zdnet.fr/actualites/internet/0,39020774,39364109,00.ht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Un proviseur révoqué pour s'être livré intimement sur son blog »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zdnet.fr/entreprise/management-rh/collaboratif/0,50007183,39304238,00.htm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192-DF45-466C-8C2B-E2757D77B3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AFA0E-85E4-4DBE-9B3E-EEFB26B15B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Blo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d’outil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Serendipity PHP Weblog System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9y.org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HP blo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dministration facil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Gestion des au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lang="fr-FR" sz="2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mkirschp.free.fr/serendipity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9845-BF83-41AE-A4BC-70BF0A069E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DB36B-9947-43E6-81CA-8BE1F730D3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és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Objectif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Notions de travail collaborati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utils pour la conception collaborative des sites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Organis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6 Séances de 3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ésentation des concepts et travaux prat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Évaluation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Ps en cours (coef. 1/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amen (coef. 2/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6DCC-FB33-4BA2-87D2-BE983BC1C88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B2D597-157B-4C41-A5CD-9EE6C885FE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33240" y="907920"/>
            <a:ext cx="8259840" cy="5218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mière visite…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197-4BE8-4245-B229-7006134418E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D0365-5762-414D-8B0A-49FFCB928E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Édition d’un billet …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7040" y="1146240"/>
            <a:ext cx="7591320" cy="51624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0720" y="508464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 fac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éditeur WYSIWY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95640" y="4508640"/>
            <a:ext cx="934920" cy="7920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05E-05B5-40BA-9A9E-3F1A94F2268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C91CF2-05AA-4265-9757-BC532CA594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Édition d’un billet 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38240" y="934920"/>
            <a:ext cx="7067520" cy="5734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60720" y="5084640"/>
            <a:ext cx="1866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dition avancé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HT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195640" y="4508640"/>
            <a:ext cx="934920" cy="79200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283-39AE-415F-A2F1-6493C7FD6DC2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2DE77-E672-4930-92D8-9056DF2FF0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u site 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 « front page » et l’administr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enance du si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« Front Office » x « BackOffice 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ibilité d’inscrire plusieurs auteu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auteurs peuvent avoir différents dro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finition des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rô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«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group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»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52F1-C65D-4EC8-AF02-D127C26E10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DDD6A-C74A-420C-BF71-BDA369340D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Front off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e visible du systè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essible par les utilis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fo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ventuellement authent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ventuellement personnalis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400-9E20-4E1A-ABDA-4E19ED094C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F3E4F-EDCC-4181-86F9-B2B529A188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 BackOff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artie permettant l'administration du 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 des pub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 des utilisateurs et de la sécur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stion de la structure du s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dministration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ook and Fe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32C-4B2B-457B-A7AE-2A5F3F58EF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E9B92-B47A-4127-A27B-BAD38E5265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3836880" cy="5634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Dans Serendipity</a:t>
            </a:r>
            <a:r>
              <a:rPr b="1" lang="fr-FR" sz="4200" spc="-1" strike="noStrike">
                <a:solidFill>
                  <a:srgbClr val="006633"/>
                </a:solidFill>
                <a:latin typeface="Garamond"/>
              </a:rPr>
              <a:t> …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2241360" cy="46227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156360" y="2637000"/>
            <a:ext cx="2232000" cy="72072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7600" y="1773360"/>
            <a:ext cx="27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ès au Back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« mode administration 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2421000"/>
            <a:ext cx="792360" cy="431640"/>
          </a:xfrm>
          <a:prstGeom prst="line">
            <a:avLst/>
          </a:prstGeom>
          <a:ln w="1260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547640" y="2060640"/>
            <a:ext cx="2665440" cy="2016000"/>
            <a:chOff x="1547640" y="2060640"/>
            <a:chExt cx="2665440" cy="2016000"/>
          </a:xfrm>
        </p:grpSpPr>
        <p:sp>
          <p:nvSpPr>
            <p:cNvPr id="220" name=""/>
            <p:cNvSpPr/>
            <p:nvPr/>
          </p:nvSpPr>
          <p:spPr>
            <a:xfrm>
              <a:off x="1547640" y="2060640"/>
              <a:ext cx="360360" cy="2016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52560 h 2016000"/>
                <a:gd name="textAreaBottom" fmla="*/ 1963440 h 20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4160" y="285264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stion de conten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403280" y="4221000"/>
            <a:ext cx="3097800" cy="642600"/>
            <a:chOff x="1403280" y="4221000"/>
            <a:chExt cx="3097800" cy="642600"/>
          </a:xfrm>
        </p:grpSpPr>
        <p:sp>
          <p:nvSpPr>
            <p:cNvPr id="223" name=""/>
            <p:cNvSpPr/>
            <p:nvPr/>
          </p:nvSpPr>
          <p:spPr>
            <a:xfrm>
              <a:off x="1403280" y="4581360"/>
              <a:ext cx="504720" cy="0"/>
            </a:xfrm>
            <a:prstGeom prst="line">
              <a:avLst/>
            </a:prstGeom>
            <a:ln w="2844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12320" y="4221000"/>
              <a:ext cx="258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estion de l’appare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(look and fee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547640" y="4869000"/>
            <a:ext cx="3223800" cy="1224000"/>
            <a:chOff x="1547640" y="4869000"/>
            <a:chExt cx="3223800" cy="1224000"/>
          </a:xfrm>
        </p:grpSpPr>
        <p:sp>
          <p:nvSpPr>
            <p:cNvPr id="226" name=""/>
            <p:cNvSpPr/>
            <p:nvPr/>
          </p:nvSpPr>
          <p:spPr>
            <a:xfrm>
              <a:off x="1547640" y="4869000"/>
              <a:ext cx="360360" cy="1224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24720" y="5300640"/>
              <a:ext cx="264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Arial"/>
                </a:rPr>
                <a:t>Gestion de utilisa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991-7006-4893-8CA1-30B51B7DBD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A3713-1EB7-411A-AE64-BD1A41ADAE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Nouvel utilisateur dans Serendipity</a:t>
            </a:r>
            <a:r>
              <a:rPr b="1" lang="fr-FR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08000" y="1008000"/>
            <a:ext cx="8562960" cy="5734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372360" y="3430440"/>
            <a:ext cx="1655640" cy="719280"/>
          </a:xfrm>
          <a:prstGeom prst="ellipse">
            <a:avLst/>
          </a:prstGeom>
          <a:noFill/>
          <a:ln w="381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65080" y="44370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Droits de l’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580000" y="3860640"/>
            <a:ext cx="792360" cy="64800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6158-8F78-44B8-87EE-22A3CE139AB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5F149-0963-4369-A0C7-6D1F4DA78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Nouvel utilisateur dans Serendipit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2343240"/>
            <a:ext cx="7643880" cy="2425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330200" y="17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eurs autor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618920" y="2198520"/>
            <a:ext cx="360360" cy="8654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3854520"/>
            <a:ext cx="431640" cy="431640"/>
          </a:xfrm>
          <a:prstGeom prst="ellipse">
            <a:avLst/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6520" y="479124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cation du group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appar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42920" y="4357800"/>
            <a:ext cx="360360" cy="43344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4920" y="4357800"/>
            <a:ext cx="0" cy="50472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27240" y="485604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veau (autoris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’utilisateur/gro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167-C877-4710-A96F-9E07846763AA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593C0-A2CC-4B05-8EAB-EC6E6E4FB7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hentification et autoris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dimensions de la sécur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uthent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s'assurer qu'un utilisateur est bien celui qu'il prétend ê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utoris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vérifier qu'un utilisateur authentifié à le droit de faire une opé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369-D01F-46EA-8B25-3A7A511836C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C01AB-CC84-429A-8F54-8BA48C87EE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Notions de travail coopérat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e sites : Blo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e sites : Wik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ion de sites : autres CMS (SPIP, LibreSource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ôle de contenu : So6 (Libresource), SVN (Subversion), CV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7D3-67B7-4BEF-A59D-4C38D5B259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ADA2A-074B-40C8-AB90-3A79CEEB09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moyens de l'authentif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ase de données spécifique à l'out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registrement avec ou sans valid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ation par l'administrateur d'un com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Blog Serendipity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Base de donnée externe à l'out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: LDAP (Lignweight Directory Access Protoco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tilisation d'un annuaire d'entreprise ou d'organis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81F-BD7C-4840-A63A-807319D9FCC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DF831-D290-446C-B95B-007A54E46D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DA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ndard utilisé pour gérer des annuaires de perso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rbre de nom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ut être utilisé pour toutes sorte d'auth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oir </a:t>
            </a: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fr.wikipedia.org</a:t>
            </a: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/</a:t>
            </a: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iki</a:t>
            </a: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/LD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Directory Information Tree de LDAP"/>
          <p:cNvPicPr/>
          <p:nvPr/>
        </p:nvPicPr>
        <p:blipFill>
          <a:blip r:embed="rId5"/>
          <a:stretch/>
        </p:blipFill>
        <p:spPr>
          <a:xfrm>
            <a:off x="4859280" y="2098800"/>
            <a:ext cx="4033800" cy="22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385-EC39-4C23-AFEF-F6E9496E25A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2628D-6846-49A2-9B17-BDCDF44E35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autoris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rmet de déterminer qui peut faire quoi sur un site ou une partie d'un s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ée sur des rôles ou des groupes, des opérations et des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ls sont les droits d'une personne ayant ce rôle sur cette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3AD-7233-459E-B1E2-839DEE64F13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F2A51-9A91-412D-A5EB-92A7399FC1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autoris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Exemple : Serendipity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rois groupes prédéfinis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editor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simple aut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chief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auteur + tâches administrati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admi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tout puiss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Indications supplémentaires : création et publication des nouvelles entr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0920" y="3789360"/>
            <a:ext cx="8604000" cy="569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50920" y="5345280"/>
            <a:ext cx="8569080" cy="82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59C-C47E-450E-B958-8ABED89B84D0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E9726-BDB9-4909-A74F-B76D3A837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as d’étude : </a:t>
            </a:r>
            <a:r>
              <a:rPr b="0" lang="fr-FR" sz="3000" spc="-1" strike="noStrike">
                <a:solidFill>
                  <a:srgbClr val="996600"/>
                </a:solidFill>
                <a:latin typeface="Arial"/>
              </a:rPr>
              <a:t>Serendipity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ation des nouveaux utilis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Usage des autorisa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réation/modification des bill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épôt des nouvelles res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ar groupe de 4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R des activités dans le blo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23F-28B9-4805-9EA3-CAE2CD6B883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B85BD-263C-4B0C-9616-A7986D4CF6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BE3-058D-43F6-B907-AFEB29F0498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3F5A5-911E-4A48-8DBD-E26A8AA948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488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ravail collaboratif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Quelques notions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ailler ensemble avec un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but comm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vailler ensemble pour mieux avanc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1 + 1 =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obtenir plus que la simple somme des tal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Difficulté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rgence de points de v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fl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te des donn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9738-A33D-4BA1-8236-727B40B9C10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83760-599B-4056-9898-7321A1091B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1428480" cy="952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ail collaborati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11640" y="1197000"/>
            <a:ext cx="90000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116000" y="2637000"/>
            <a:ext cx="113364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3600" y="47181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formatique est coo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4680" y="50785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formatique n’est pas coo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04320" y="54388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informatique est nécessa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4653000"/>
            <a:ext cx="3457440" cy="1440000"/>
          </a:xfrm>
          <a:prstGeom prst="rect">
            <a:avLst/>
          </a:prstGeom>
          <a:noFill/>
          <a:ln w="1908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520" y="3213000"/>
            <a:ext cx="4173480" cy="1434960"/>
            <a:chOff x="38520" y="3213000"/>
            <a:chExt cx="4173480" cy="1434960"/>
          </a:xfrm>
        </p:grpSpPr>
        <p:sp>
          <p:nvSpPr>
            <p:cNvPr id="105" name=""/>
            <p:cNvSpPr/>
            <p:nvPr/>
          </p:nvSpPr>
          <p:spPr>
            <a:xfrm>
              <a:off x="38520" y="379404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’informatique est cool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"/>
            <p:cNvCxnSpPr>
              <a:stCxn id="99" idx="3"/>
              <a:endCxn id="103" idx="0"/>
            </p:cNvCxnSpPr>
            <p:nvPr/>
          </p:nvCxnSpPr>
          <p:spPr>
            <a:xfrm>
              <a:off x="1816200" y="3213000"/>
              <a:ext cx="2396160" cy="1435320"/>
            </a:xfrm>
            <a:prstGeom prst="curvedConnector2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3063240" y="2205000"/>
            <a:ext cx="3198240" cy="2438280"/>
            <a:chOff x="3063240" y="2205000"/>
            <a:chExt cx="3198240" cy="2438280"/>
          </a:xfrm>
        </p:grpSpPr>
        <p:sp>
          <p:nvSpPr>
            <p:cNvPr id="108" name=""/>
            <p:cNvSpPr/>
            <p:nvPr/>
          </p:nvSpPr>
          <p:spPr>
            <a:xfrm>
              <a:off x="3063240" y="220500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’informatique n’est pas cool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"/>
            <p:cNvCxnSpPr>
              <a:stCxn id="108" idx="2"/>
              <a:endCxn id="103" idx="0"/>
            </p:cNvCxnSpPr>
            <p:nvPr/>
          </p:nvCxnSpPr>
          <p:spPr>
            <a:xfrm rot="5400000">
              <a:off x="3472920" y="3454560"/>
              <a:ext cx="2071800" cy="306720"/>
            </a:xfrm>
            <a:prstGeom prst="curvedConnector5">
              <a:avLst>
                <a:gd name="adj1" fmla="val 50191"/>
                <a:gd name="adj2" fmla="val 49941"/>
                <a:gd name="adj3" fmla="val 50191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4528800" y="3319920"/>
            <a:ext cx="4646880" cy="1322640"/>
            <a:chOff x="4528800" y="3319920"/>
            <a:chExt cx="4646880" cy="1322640"/>
          </a:xfrm>
        </p:grpSpPr>
        <p:sp>
          <p:nvSpPr>
            <p:cNvPr id="111" name=""/>
            <p:cNvSpPr/>
            <p:nvPr/>
          </p:nvSpPr>
          <p:spPr>
            <a:xfrm>
              <a:off x="5901120" y="3860640"/>
              <a:ext cx="32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’informatique est nécessaire 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"/>
            <p:cNvCxnSpPr>
              <a:stCxn id="113" idx="1"/>
              <a:endCxn id="103" idx="0"/>
            </p:cNvCxnSpPr>
            <p:nvPr/>
          </p:nvCxnSpPr>
          <p:spPr>
            <a:xfrm flipV="1" rot="10800000">
              <a:off x="4528440" y="3319920"/>
              <a:ext cx="2592720" cy="1323000"/>
            </a:xfrm>
            <a:prstGeom prst="curvedConnector2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14" name=""/>
          <p:cNvSpPr/>
          <p:nvPr/>
        </p:nvSpPr>
        <p:spPr>
          <a:xfrm>
            <a:off x="6372360" y="4437000"/>
            <a:ext cx="2447640" cy="1800360"/>
          </a:xfrm>
          <a:prstGeom prst="irregularSeal1">
            <a:avLst/>
          </a:prstGeom>
          <a:solidFill>
            <a:srgbClr val="afbf39"/>
          </a:solidFill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ésult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ohérent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16000" y="2924280"/>
            <a:ext cx="971280" cy="712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219640" y="981000"/>
            <a:ext cx="1127160" cy="1152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591320" y="1700280"/>
            <a:ext cx="1444680" cy="985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6959520" y="2708280"/>
            <a:ext cx="852480" cy="93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7667640" y="2708280"/>
            <a:ext cx="720720" cy="67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CE6-889C-4D3F-98A2-52285D4B466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290BB-F8A2-488E-8E68-FD8886DDCE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ail collaborati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produi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nsembl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 se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communiqu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 se </a:t>
            </a: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coordonn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867280" y="3068640"/>
            <a:ext cx="2892240" cy="2915280"/>
            <a:chOff x="5867280" y="3068640"/>
            <a:chExt cx="2892240" cy="29152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867280" y="3068640"/>
              <a:ext cx="289224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269760" y="561564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èle du trèf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A3C3-10A9-4079-B364-B0B61888C8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CB5F9-1C36-44E5-975F-ABDF4D2A83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ail collaboratif sur le We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sation de l’architecture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ur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Web (HTTP, HTML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èle requête-ré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4360" y="3743280"/>
            <a:ext cx="8011800" cy="23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E3C-2BA7-4977-A5B7-49BD27B79A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EE908-3D2A-4D2D-B35E-20482E2ADC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avail collaboratif sur le Web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otre objectif 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6600"/>
                </a:solidFill>
                <a:latin typeface="Arial"/>
              </a:rPr>
              <a:t>Construire et maintenir un site Web de manière collabo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F65-FA8D-4EBD-BA1A-1494F872DF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FED63-0282-4E5E-A30D-B8E14E7EE1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struire et maintenir un si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 faire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6600"/>
                </a:solidFill>
                <a:latin typeface="Arial"/>
              </a:rPr>
              <a:t>Approche à l’ancienn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uire des pages 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er les pages à la deman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Problè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se à jour perd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47E-6E0C-4B80-8B36-CDBA4E87C9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31AE-CDA7-4098-A440-67851D4156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8:54:31Z</dcterms:created>
  <dc:creator>Manuele Kirsch Pinheiro</dc:creator>
  <dc:description/>
  <dc:language>en-US</dc:language>
  <cp:lastModifiedBy>Manuele</cp:lastModifiedBy>
  <dcterms:modified xsi:type="dcterms:W3CDTF">2007-01-11T08:45:09Z</dcterms:modified>
  <cp:revision>34</cp:revision>
  <dc:subject/>
  <dc:title>Systèmes Collaboratifs</dc:title>
</cp:coreProperties>
</file>