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D2BE-1B88-478A-AAEE-B1C5E9434F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94E1-371D-453C-8244-CF18B421D2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20760" y="303120"/>
            <a:ext cx="25196760" cy="188978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774E-FB05-4A25-B96D-E4C1075A0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F577-6BBA-4141-B66C-8FCFAEA6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09D2-343B-4FAF-8E95-665D8627B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600F-2523-4C6C-8927-92661C86B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9FB7-E057-498A-BAC4-68E2BC89A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CCB7-9E1C-4C81-BF46-E9B67ADB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C6CB-839E-4B23-966C-D8568A2E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2286-B4B9-49AD-83C1-C2E426E2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9A1D-2AB0-48A1-8EF2-9A0A9E77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76000" y="277920"/>
            <a:ext cx="72104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D603-95D1-47E0-9C0E-D447E467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3D35-2679-48D6-9B85-26879D53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8481-4D04-4E33-AC85-BDC69DB0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FBD5-D8F3-41BD-8101-EBC276F5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7F28-D089-40B6-AB48-29671A77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0C8B-B31F-4578-9383-39F1FE03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0999-ABFB-4B86-9DF5-730BD2EF0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FA16-5C1E-4B17-973A-D4A363AAC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37CD-4229-4E75-A333-81051250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E6A1-0B76-4AC6-A7DD-7B8384D1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183A-37DE-4CB7-BE79-3D804448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76000" y="277920"/>
            <a:ext cx="72104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2B4A-565D-4889-B28D-B6EBA699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4DEA-51F2-4A4B-BB88-803EA412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73B8-44E0-4925-94F2-4AD12650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F992-CEC9-4355-BF40-3C405730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4920" y="189000"/>
            <a:ext cx="1187280" cy="849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3032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r>
              <a:rPr b="0" lang="fr-FR" sz="1200" spc="-1" strike="noStrike">
                <a:solidFill>
                  <a:srgbClr val="000000"/>
                </a:solidFill>
                <a:latin typeface="Garamond"/>
              </a:rPr>
              <a:t>Systèmes Collaborat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Garamond"/>
              </a:rPr>
              <a:t>Manuele.Kirsch-Pinheiro@univ-nancy2.f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5F8E-B348-4994-940B-C11A78FEDB93}" type="slidenum">
              <a:rPr b="0" lang="fr-F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258920" y="228600"/>
            <a:ext cx="735156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360" y="1523520"/>
            <a:ext cx="68450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5F86-669B-4A3C-92BD-6AE715A9630A}" type="slidenum">
              <a:rPr b="0" lang="fr-F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76360" y="1219320"/>
            <a:ext cx="705816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1280" y="1252440"/>
            <a:ext cx="1332000" cy="952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anuele.Kirsch-Pinheiro@univ-nancy2.fr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mkirschp.free.fr/spip/" TargetMode="Externa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mkirschp.free.fr/spip/" TargetMode="External"/><Relationship Id="rId2" Type="http://schemas.openxmlformats.org/officeDocument/2006/relationships/hyperlink" Target="http://mkirschp.free.fr/spip/" TargetMode="External"/><Relationship Id="rId3" Type="http://schemas.openxmlformats.org/officeDocument/2006/relationships/hyperlink" Target="http://mkirschp.free.fr/spip/" TargetMode="External"/><Relationship Id="rId4" Type="http://schemas.openxmlformats.org/officeDocument/2006/relationships/hyperlink" Target="http://mkirschp.free.fr/spip/" TargetMode="External"/><Relationship Id="rId5" Type="http://schemas.openxmlformats.org/officeDocument/2006/relationships/hyperlink" Target="http://mkirschp.free.fr/spip/" TargetMode="Externa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pip.net/" TargetMode="External"/><Relationship Id="rId2" Type="http://schemas.openxmlformats.org/officeDocument/2006/relationships/hyperlink" Target="http://www.spip.net/" TargetMode="External"/><Relationship Id="rId3" Type="http://schemas.openxmlformats.org/officeDocument/2006/relationships/hyperlink" Target="http://www.spip.net/" TargetMode="External"/><Relationship Id="rId4" Type="http://schemas.openxmlformats.org/officeDocument/2006/relationships/hyperlink" Target="http://plone.org/" TargetMode="External"/><Relationship Id="rId5" Type="http://schemas.openxmlformats.org/officeDocument/2006/relationships/hyperlink" Target="http://plone.org/" TargetMode="External"/><Relationship Id="rId6" Type="http://schemas.openxmlformats.org/officeDocument/2006/relationships/hyperlink" Target="http://www.agora.gouv.fr/" TargetMode="External"/><Relationship Id="rId7" Type="http://schemas.openxmlformats.org/officeDocument/2006/relationships/hyperlink" Target="http://www.kiwi-cms.org/" TargetMode="External"/><Relationship Id="rId8" Type="http://schemas.openxmlformats.org/officeDocument/2006/relationships/hyperlink" Target="http://www.kiwi-cms.org/" TargetMode="External"/><Relationship Id="rId9" Type="http://schemas.openxmlformats.org/officeDocument/2006/relationships/hyperlink" Target="http://www.kiwi-cms.org/" TargetMode="External"/><Relationship Id="rId10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pip.net/" TargetMode="External"/><Relationship Id="rId2" Type="http://schemas.openxmlformats.org/officeDocument/2006/relationships/hyperlink" Target="http://www.spip-contrib.net/" TargetMode="External"/><Relationship Id="rId3" Type="http://schemas.openxmlformats.org/officeDocument/2006/relationships/hyperlink" Target="http://www.spip-contrib.net/" TargetMode="External"/><Relationship Id="rId4" Type="http://schemas.openxmlformats.org/officeDocument/2006/relationships/hyperlink" Target="http://plone.org/" TargetMode="External"/><Relationship Id="rId5" Type="http://schemas.openxmlformats.org/officeDocument/2006/relationships/hyperlink" Target="http://plone.org/" TargetMode="External"/><Relationship Id="rId6" Type="http://schemas.openxmlformats.org/officeDocument/2006/relationships/hyperlink" Target="http://www.agora.gouv.fr/" TargetMode="Externa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2360" y="1523520"/>
            <a:ext cx="68450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Systèmes Collaboratif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nuele Kirsch Pinhe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Manuele.Kirsch-Pinheiro@univ-nancy2.f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6633"/>
                </a:solidFill>
                <a:latin typeface="Garamond"/>
              </a:rPr>
              <a:t>Les ressources dans Plo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6769080" cy="576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6997-1D62-4925-AB9F-EDAB4D52DE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s ressources dans SPI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0920" y="1254240"/>
            <a:ext cx="8216640" cy="49114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042360" y="29448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72401"/>
                </a:solidFill>
                <a:latin typeface="Arial"/>
              </a:rPr>
              <a:t>Art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80000" y="3284640"/>
            <a:ext cx="504720" cy="288720"/>
          </a:xfrm>
          <a:prstGeom prst="line">
            <a:avLst/>
          </a:prstGeom>
          <a:ln w="2844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10920" y="3284640"/>
            <a:ext cx="1008360" cy="1800000"/>
          </a:xfrm>
          <a:prstGeom prst="line">
            <a:avLst/>
          </a:prstGeom>
          <a:ln w="2844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34600" y="29242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72401"/>
                </a:solidFill>
                <a:latin typeface="Arial"/>
              </a:rPr>
              <a:t>Brè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659280" y="3284640"/>
            <a:ext cx="360360" cy="288720"/>
          </a:xfrm>
          <a:prstGeom prst="line">
            <a:avLst/>
          </a:prstGeom>
          <a:ln w="2844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24640" y="5308560"/>
            <a:ext cx="24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72401"/>
                </a:solidFill>
                <a:latin typeface="Arial"/>
              </a:rPr>
              <a:t>Mot cl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72401"/>
                </a:solidFill>
                <a:latin typeface="Arial"/>
              </a:rPr>
              <a:t>Sites extérieurs (lie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5508720" y="4292640"/>
            <a:ext cx="576000" cy="936720"/>
          </a:xfrm>
          <a:prstGeom prst="line">
            <a:avLst/>
          </a:prstGeom>
          <a:ln w="2844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156360" y="4220640"/>
            <a:ext cx="431640" cy="1008360"/>
          </a:xfrm>
          <a:prstGeom prst="line">
            <a:avLst/>
          </a:prstGeom>
          <a:ln w="2844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14880" y="515772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72401"/>
                </a:solidFill>
                <a:latin typeface="Arial"/>
              </a:rPr>
              <a:t>Rubr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34920" y="5373720"/>
            <a:ext cx="576360" cy="287280"/>
          </a:xfrm>
          <a:prstGeom prst="line">
            <a:avLst/>
          </a:prstGeom>
          <a:ln w="2844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263700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72401"/>
                </a:solidFill>
                <a:latin typeface="Arial"/>
              </a:rPr>
              <a:t>Age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72401"/>
                </a:solidFill>
                <a:latin typeface="Arial"/>
              </a:rPr>
              <a:t>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476360" y="2638080"/>
            <a:ext cx="503280" cy="430200"/>
          </a:xfrm>
          <a:prstGeom prst="line">
            <a:avLst/>
          </a:prstGeom>
          <a:ln w="2844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187280" y="2565360"/>
            <a:ext cx="432000" cy="287280"/>
          </a:xfrm>
          <a:prstGeom prst="line">
            <a:avLst/>
          </a:prstGeom>
          <a:ln w="2844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567240" y="1989000"/>
            <a:ext cx="23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72401"/>
                </a:solidFill>
                <a:latin typeface="Arial"/>
              </a:rPr>
              <a:t>Forum de discu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3564000" y="1844640"/>
            <a:ext cx="287280" cy="216000"/>
          </a:xfrm>
          <a:prstGeom prst="line">
            <a:avLst/>
          </a:prstGeom>
          <a:ln w="2844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D083-4B01-4319-BCD5-432D78B0D2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s propriétés des ressour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s ressources o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 ty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 propriétaire (le créateur de la ressourc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 état de publication (ou visibilité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 droits d'accès (cf. autorisation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90C3-E680-4943-B9BF-7387E471AB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6633"/>
                </a:solidFill>
                <a:latin typeface="Garamond"/>
              </a:rPr>
              <a:t>Exemple de ressource Plo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187280" y="949320"/>
            <a:ext cx="6769440" cy="5765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BB3E-6C52-4D28-847E-168BF42847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emple de ressource SPI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Édition d’une brè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t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en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en extéri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État d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00720" y="1125360"/>
            <a:ext cx="4581360" cy="56167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2987640" y="1915920"/>
            <a:ext cx="1655640" cy="360360"/>
          </a:xfrm>
          <a:prstGeom prst="line">
            <a:avLst/>
          </a:prstGeom>
          <a:ln w="936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87640" y="2637000"/>
            <a:ext cx="1728720" cy="647640"/>
          </a:xfrm>
          <a:prstGeom prst="line">
            <a:avLst/>
          </a:prstGeom>
          <a:ln w="936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3141720"/>
            <a:ext cx="2016000" cy="1800000"/>
          </a:xfrm>
          <a:prstGeom prst="line">
            <a:avLst/>
          </a:prstGeom>
          <a:ln w="936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56000" y="4005360"/>
            <a:ext cx="2087280" cy="2016000"/>
          </a:xfrm>
          <a:prstGeom prst="line">
            <a:avLst/>
          </a:prstGeom>
          <a:ln w="936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D0F1-B0F1-4917-81CD-39512D4888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emple de ressource SPI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50920" y="1054080"/>
            <a:ext cx="4448160" cy="568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006520" y="105264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72401"/>
                </a:solidFill>
                <a:latin typeface="Arial"/>
              </a:rPr>
              <a:t>Nouvel article SP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924360" y="1268280"/>
            <a:ext cx="1079280" cy="0"/>
          </a:xfrm>
          <a:prstGeom prst="line">
            <a:avLst/>
          </a:prstGeom>
          <a:ln w="2844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059280" y="1773360"/>
            <a:ext cx="5841720" cy="4917960"/>
            <a:chOff x="3059280" y="1773360"/>
            <a:chExt cx="5841720" cy="4917960"/>
          </a:xfrm>
        </p:grpSpPr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3059280" y="1773360"/>
              <a:ext cx="5841720" cy="491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518640" y="3213000"/>
              <a:ext cx="119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72401"/>
                  </a:solidFill>
                  <a:latin typeface="Arial"/>
                </a:rPr>
                <a:t>Article e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72401"/>
                  </a:solidFill>
                  <a:latin typeface="Arial"/>
                </a:rPr>
                <a:t>rédact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314880" y="2679840"/>
              <a:ext cx="1255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72401"/>
                  </a:solidFill>
                  <a:latin typeface="Arial"/>
                </a:rPr>
                <a:t>n° de artic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3924360" y="2205000"/>
              <a:ext cx="0" cy="503280"/>
            </a:xfrm>
            <a:prstGeom prst="line">
              <a:avLst/>
            </a:prstGeom>
            <a:ln w="2844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72000" y="3573360"/>
              <a:ext cx="431640" cy="216000"/>
            </a:xfrm>
            <a:prstGeom prst="line">
              <a:avLst/>
            </a:prstGeom>
            <a:ln w="2844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01BF-2128-439A-BCA2-9F5375E3F3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332000" y="1905120"/>
            <a:ext cx="7777080" cy="47638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priétés d’une ressource SPI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riétés d’une brè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00" y="3500280"/>
            <a:ext cx="15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é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dentific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042920" y="2997360"/>
            <a:ext cx="1152720" cy="576000"/>
          </a:xfrm>
          <a:prstGeom prst="line">
            <a:avLst/>
          </a:prstGeom>
          <a:ln w="2844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99960" y="3068640"/>
            <a:ext cx="21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 de pub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005440" y="3284640"/>
            <a:ext cx="790560" cy="215640"/>
          </a:xfrm>
          <a:prstGeom prst="line">
            <a:avLst/>
          </a:prstGeom>
          <a:ln w="2844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74520" y="422100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s-cl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508360" y="4437000"/>
            <a:ext cx="863640" cy="216000"/>
          </a:xfrm>
          <a:prstGeom prst="line">
            <a:avLst/>
          </a:prstGeom>
          <a:ln w="2844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6520" y="529416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Proprié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6520" y="5726160"/>
            <a:ext cx="22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État de pub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34FB-F2F4-4AC0-844A-74F175A363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priétés d’une ressource SPI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riétés d’un artic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477800" y="1782720"/>
            <a:ext cx="7486920" cy="4886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6200" y="2492280"/>
            <a:ext cx="159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é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dentific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76360" y="2781360"/>
            <a:ext cx="863640" cy="0"/>
          </a:xfrm>
          <a:prstGeom prst="line">
            <a:avLst/>
          </a:prstGeom>
          <a:ln w="2844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04680" y="1989000"/>
            <a:ext cx="21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e de pub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443280" y="2349360"/>
            <a:ext cx="576360" cy="792360"/>
          </a:xfrm>
          <a:prstGeom prst="line">
            <a:avLst/>
          </a:prstGeom>
          <a:ln w="2844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89800" y="537372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132000" y="4581000"/>
            <a:ext cx="2735280" cy="1008360"/>
          </a:xfrm>
          <a:prstGeom prst="line">
            <a:avLst/>
          </a:prstGeom>
          <a:ln w="2844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74720" y="486252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rié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132000" y="4220640"/>
            <a:ext cx="1008360" cy="863640"/>
          </a:xfrm>
          <a:prstGeom prst="line">
            <a:avLst/>
          </a:prstGeom>
          <a:ln w="2844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62880" y="465300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tat de pub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300720" y="5013360"/>
            <a:ext cx="432000" cy="431640"/>
          </a:xfrm>
          <a:prstGeom prst="line">
            <a:avLst/>
          </a:prstGeom>
          <a:ln w="2844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F5EE-5046-4E8D-852A-6341941E23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État de publication d’un article SPIP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08000" y="1197000"/>
            <a:ext cx="4524480" cy="49687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484360" y="4154400"/>
            <a:ext cx="5832720" cy="18669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916360" y="3284640"/>
            <a:ext cx="1295280" cy="1008000"/>
          </a:xfrm>
          <a:prstGeom prst="line">
            <a:avLst/>
          </a:prstGeom>
          <a:ln w="5724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88000" y="1700280"/>
            <a:ext cx="383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article ne sera visible au public une foi qu’il a été publié, pas avant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7F39-238D-4D9E-ACB2-96B7EA3398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s opérations sur une ressour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érations de 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é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rim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ifi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s opérations spécifi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épendent des res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éer un fo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rimer un mess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E1B1-BE66-4626-AE84-D5904EC2B1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estion de contenu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Systèmes de gestion de contenu ou CMS (</a:t>
            </a:r>
            <a:r>
              <a:rPr b="1" lang="fr-FR" sz="3000" spc="-1" strike="noStrike">
                <a:solidFill>
                  <a:srgbClr val="000000"/>
                </a:solidFill>
                <a:latin typeface="Arial"/>
              </a:rPr>
              <a:t>Content Management System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onception et mise à jour dynamique des sites We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Souvent collaborati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Concepts vois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GED : Gestion Electronique de Document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CM : Enterprise Content Manageme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0F96-9B4A-499A-9EE0-D9B226EA65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a syndic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Permet l'utilisation du contenu d'un site dans un autre si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Différents formats de transfert (XM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Rss (Really Simple Syndicat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Rd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At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FFF2-329A-4131-915F-1F97C9339F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emple d'utilis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859280" y="2112840"/>
            <a:ext cx="3772080" cy="30211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11280" y="2112840"/>
            <a:ext cx="3384360" cy="30099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258920" y="2905200"/>
            <a:ext cx="1871640" cy="20890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451640" y="4202280"/>
            <a:ext cx="1079640" cy="863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6" idx="6"/>
            <a:endCxn id="197" idx="2"/>
          </p:cNvCxnSpPr>
          <p:nvPr/>
        </p:nvCxnSpPr>
        <p:spPr>
          <a:xfrm>
            <a:off x="3158640" y="3949200"/>
            <a:ext cx="4273920" cy="685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 rot="596400">
            <a:off x="3853080" y="376884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eed R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817280" y="162864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tcl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54000" y="162864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p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1812-CCB4-48AE-AE92-151D68ECE1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yndication : exemple RS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5832720" cy="51818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231600" y="1197000"/>
            <a:ext cx="26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férencement d’un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78880" y="234936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ux R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787640" y="1484280"/>
            <a:ext cx="1368360" cy="28908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724000" y="2565360"/>
            <a:ext cx="1008360" cy="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111480" y="863640"/>
            <a:ext cx="5713560" cy="5950080"/>
            <a:chOff x="3111480" y="863640"/>
            <a:chExt cx="5713560" cy="5950080"/>
          </a:xfrm>
        </p:grpSpPr>
        <p:pic>
          <p:nvPicPr>
            <p:cNvPr id="209" name="" descr=""/>
            <p:cNvPicPr/>
            <p:nvPr/>
          </p:nvPicPr>
          <p:blipFill>
            <a:blip r:embed="rId2"/>
            <a:stretch/>
          </p:blipFill>
          <p:spPr>
            <a:xfrm>
              <a:off x="6300720" y="863640"/>
              <a:ext cx="2524320" cy="59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3111480" y="3068640"/>
              <a:ext cx="275580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lux RSS visible dans le Front Off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5867280" y="2852640"/>
              <a:ext cx="649440" cy="432000"/>
            </a:xfrm>
            <a:prstGeom prst="line">
              <a:avLst/>
            </a:prstGeom>
            <a:ln w="38160">
              <a:solidFill>
                <a:srgbClr val="99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5BD5-636D-4396-A195-FB830A8D66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mmunication dans SPI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unication en différé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um de discu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um interne : pour les co-aute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6600"/>
                </a:solidFill>
                <a:latin typeface="Arial"/>
              </a:rPr>
              <a:t>Forum publi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lecteurs et aute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Arial"/>
              </a:rPr>
              <a:t>Messageri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996600"/>
                </a:solidFill>
                <a:latin typeface="Arial"/>
              </a:rPr>
              <a:t>inter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91CF-1BCA-4312-85EB-2C94330605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orum de discussion SPI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 messages sont d’abord </a:t>
            </a:r>
            <a:r>
              <a:rPr b="0" lang="en-US" sz="2600" spc="-1" strike="noStrike">
                <a:solidFill>
                  <a:srgbClr val="996600"/>
                </a:solidFill>
                <a:latin typeface="Arial"/>
              </a:rPr>
              <a:t>posté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ensuite </a:t>
            </a:r>
            <a:r>
              <a:rPr b="0" lang="en-US" sz="2600" spc="-1" strike="noStrike">
                <a:solidFill>
                  <a:srgbClr val="996600"/>
                </a:solidFill>
                <a:latin typeface="Arial"/>
              </a:rPr>
              <a:t>validé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ar un administrate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 messages ne sont </a:t>
            </a:r>
            <a:r>
              <a:rPr b="0" lang="en-US" sz="2600" spc="-1" strike="noStrike">
                <a:solidFill>
                  <a:srgbClr val="996600"/>
                </a:solidFill>
                <a:latin typeface="Arial"/>
              </a:rPr>
              <a:t>visibl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u public qu’une fois </a:t>
            </a:r>
            <a:r>
              <a:rPr b="0" lang="en-US" sz="2600" spc="-1" strike="noStrike">
                <a:solidFill>
                  <a:srgbClr val="996600"/>
                </a:solidFill>
                <a:latin typeface="Arial"/>
              </a:rPr>
              <a:t>validé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307040" y="981000"/>
            <a:ext cx="4802040" cy="5184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B807-6928-41A1-91DD-58D5795BD33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orum de discussion SPI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561440" cy="33908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135840" y="3429000"/>
            <a:ext cx="28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en attente de 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5003640" y="3141720"/>
            <a:ext cx="1224000" cy="287280"/>
          </a:xfrm>
          <a:prstGeom prst="line">
            <a:avLst/>
          </a:prstGeom>
          <a:ln w="38160">
            <a:solidFill>
              <a:srgbClr val="f724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971640" y="1125360"/>
            <a:ext cx="8024760" cy="4051440"/>
            <a:chOff x="971640" y="1125360"/>
            <a:chExt cx="8024760" cy="4051440"/>
          </a:xfrm>
        </p:grpSpPr>
        <p:pic>
          <p:nvPicPr>
            <p:cNvPr id="223" name="" descr=""/>
            <p:cNvPicPr/>
            <p:nvPr/>
          </p:nvPicPr>
          <p:blipFill>
            <a:blip r:embed="rId2"/>
            <a:stretch/>
          </p:blipFill>
          <p:spPr>
            <a:xfrm>
              <a:off x="971640" y="1125360"/>
              <a:ext cx="8024760" cy="4051440"/>
            </a:xfrm>
            <a:prstGeom prst="rect">
              <a:avLst/>
            </a:prstGeom>
            <a:ln w="9360">
              <a:solidFill>
                <a:srgbClr val="996600"/>
              </a:solidFill>
              <a:miter/>
            </a:ln>
          </p:spPr>
        </p:pic>
        <p:sp>
          <p:nvSpPr>
            <p:cNvPr id="224" name=""/>
            <p:cNvSpPr/>
            <p:nvPr/>
          </p:nvSpPr>
          <p:spPr>
            <a:xfrm>
              <a:off x="6257520" y="2296800"/>
              <a:ext cx="24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idation du mess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156360" y="2657160"/>
              <a:ext cx="503280" cy="647640"/>
            </a:xfrm>
            <a:prstGeom prst="line">
              <a:avLst/>
            </a:prstGeom>
            <a:ln w="38160">
              <a:solidFill>
                <a:srgbClr val="f724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4920" y="1521000"/>
            <a:ext cx="8383320" cy="5221080"/>
            <a:chOff x="34920" y="1521000"/>
            <a:chExt cx="8383320" cy="5221080"/>
          </a:xfrm>
        </p:grpSpPr>
        <p:pic>
          <p:nvPicPr>
            <p:cNvPr id="227" name="" descr=""/>
            <p:cNvPicPr/>
            <p:nvPr/>
          </p:nvPicPr>
          <p:blipFill>
            <a:blip r:embed="rId3"/>
            <a:stretch/>
          </p:blipFill>
          <p:spPr>
            <a:xfrm>
              <a:off x="34920" y="1521000"/>
              <a:ext cx="5257800" cy="5221080"/>
            </a:xfrm>
            <a:prstGeom prst="rect">
              <a:avLst/>
            </a:prstGeom>
            <a:ln w="9360">
              <a:solidFill>
                <a:srgbClr val="996600"/>
              </a:solidFill>
              <a:miter/>
            </a:ln>
          </p:spPr>
        </p:pic>
        <p:sp>
          <p:nvSpPr>
            <p:cNvPr id="228" name=""/>
            <p:cNvSpPr/>
            <p:nvPr/>
          </p:nvSpPr>
          <p:spPr>
            <a:xfrm>
              <a:off x="5729040" y="5373720"/>
              <a:ext cx="268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ssage validé et publi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788000" y="5589720"/>
              <a:ext cx="792000" cy="503280"/>
            </a:xfrm>
            <a:prstGeom prst="line">
              <a:avLst/>
            </a:prstGeom>
            <a:ln w="38160">
              <a:solidFill>
                <a:srgbClr val="f724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4770-B1D5-4E09-ACB6-5E5D95A2588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essagerie interne SPI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ion entre les auteu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665600" y="1125360"/>
            <a:ext cx="4370400" cy="4651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34920" y="2360520"/>
            <a:ext cx="4608360" cy="43815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5076720" y="3645000"/>
            <a:ext cx="28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oie à un ou plusieurs particip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4211640" y="4076640"/>
            <a:ext cx="792000" cy="43200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B188-80BF-4EA7-9CAC-0F473450196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essagerie interne SPI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7410240" cy="49053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5223600" y="5084640"/>
            <a:ext cx="32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reçus par un au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5651640" y="3860280"/>
            <a:ext cx="576000" cy="100836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700360" y="1989000"/>
            <a:ext cx="5897520" cy="3672000"/>
            <a:chOff x="2700360" y="1989000"/>
            <a:chExt cx="5897520" cy="3672000"/>
          </a:xfrm>
        </p:grpSpPr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2700360" y="4268880"/>
              <a:ext cx="5897520" cy="1392120"/>
            </a:xfrm>
            <a:prstGeom prst="rect">
              <a:avLst/>
            </a:prstGeom>
            <a:ln w="9360">
              <a:solidFill>
                <a:srgbClr val="996600"/>
              </a:solidFill>
              <a:miter/>
            </a:ln>
          </p:spPr>
        </p:pic>
        <p:sp>
          <p:nvSpPr>
            <p:cNvPr id="242" name=""/>
            <p:cNvSpPr/>
            <p:nvPr/>
          </p:nvSpPr>
          <p:spPr>
            <a:xfrm>
              <a:off x="4859280" y="1989000"/>
              <a:ext cx="1008000" cy="2303640"/>
            </a:xfrm>
            <a:prstGeom prst="line">
              <a:avLst/>
            </a:prstGeom>
            <a:ln w="76320">
              <a:solidFill>
                <a:srgbClr val="99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2FF9-0E21-456E-A903-0D6D358A1AF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uthentification et autorisa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s dimensions de la sécurit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Arial"/>
              </a:rPr>
              <a:t>Authentifi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: s'assurer qu'un utilisateur est bien celui qu'il prétend êt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Arial"/>
              </a:rPr>
              <a:t>Autorisatio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vérifier qu'un utilisateur authentifié à le droit de faire une opé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F860-3AE1-4538-B3A4-205D784A6D3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estion des utilisateurs SPI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ux rôl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Arial"/>
              </a:rPr>
              <a:t>Rédacteu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: rédaction de conte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Arial"/>
              </a:rPr>
              <a:t>Administrateu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: administration du site, gestion des rédacteurs, validation/publication de conte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 lecteu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116000" y="3871800"/>
            <a:ext cx="7072200" cy="287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0926-E36F-4585-9489-82DC87D7C6E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estion de Contenu (CM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ls sont les services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ls sont les fonctions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ent les utiliser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43BD-860E-4058-A717-4CCA0005A4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s rô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Administrate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Rôle toujours existant. Peut tout fai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Rédacteur, rédacteur avanc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euvent écrire et proposer des artic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Lecte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euvent seulement lire et commen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De nouveaux rôles peuvent parfois être définis (pas dans SPI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xemple : Serendip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D6CC-E334-40D2-BDCA-C1CE7C4F6FA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211640" y="1009800"/>
            <a:ext cx="4897440" cy="56592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6633"/>
                </a:solidFill>
                <a:latin typeface="Garamond"/>
              </a:rPr>
              <a:t>Nouveaux rôles : Serendip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4249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ossibilité d’ajout des nouveaux rôles (group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Droits d’administration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Utilisateur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Nouvelles entré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mmentair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édia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lugi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nfigur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3B64-8404-4DCC-BF12-8BC008E3B58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a sécurité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ut être parfois complexe à mettre en pl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osse organis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érarchie complex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ication des responsabilités pas évid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op de sécurité tue la sécurit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l faut trouver le bon équilib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ention aux utilisateu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'est la première source de faille pour la sécurit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F67F-7AEA-4282-99AE-8EC1EFF2764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ans SPIP Agor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56" name="" descr="La gestion du cycle de vie des publications - 10.3 ko"/>
          <p:cNvPicPr/>
          <p:nvPr/>
        </p:nvPicPr>
        <p:blipFill>
          <a:blip r:embed="rId1"/>
          <a:stretch/>
        </p:blipFill>
        <p:spPr>
          <a:xfrm>
            <a:off x="6315120" y="836640"/>
            <a:ext cx="2577960" cy="532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7" name=""/>
          <p:cNvGraphicFramePr/>
          <p:nvPr/>
        </p:nvGraphicFramePr>
        <p:xfrm>
          <a:off x="250920" y="1339920"/>
          <a:ext cx="5976720" cy="4753080"/>
        </p:xfrm>
        <a:graphic>
          <a:graphicData uri="http://schemas.openxmlformats.org/drawingml/2006/table">
            <a:tbl>
              <a:tblPr/>
              <a:tblGrid>
                <a:gridCol w="2389320"/>
                <a:gridCol w="944280"/>
                <a:gridCol w="770040"/>
                <a:gridCol w="1166760"/>
                <a:gridCol w="706320"/>
              </a:tblGrid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t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mest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dacteur en che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dact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</a:tr>
              <a:tr h="33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é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</a:tr>
              <a:tr h="33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ifi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rim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</a:tr>
              <a:tr h="33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er à la public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</a:tr>
              <a:tr h="33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er un artic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</a:tr>
              <a:tr h="33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er un artic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</a:tr>
              <a:tr h="33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hiver un artic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user un artic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tre à la poubelle un artic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érer auteur affecté à un artic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</a:tr>
              <a:tr h="547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érer les mots clés affectés à un artic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258" name=""/>
          <p:cNvSpPr/>
          <p:nvPr/>
        </p:nvSpPr>
        <p:spPr>
          <a:xfrm>
            <a:off x="179280" y="1196280"/>
            <a:ext cx="23511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oits sur les articles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99F0-7942-4CB4-836C-B78A36406E8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200" spc="-1" strike="noStrike">
                <a:solidFill>
                  <a:srgbClr val="006633"/>
                </a:solidFill>
                <a:latin typeface="Garamond"/>
              </a:rPr>
              <a:t>La sécurité dans Plo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826920" y="993600"/>
            <a:ext cx="7417080" cy="573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84A0-EAB4-4DDD-9F17-16E85868F1A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uivi de modifica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ivi des modifications apportées à une ressour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voir ce qui a été changé dans une ressou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IP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ivi des artic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917F-C270-4C31-857E-34B14FDAC6D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uivi des modifica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395280" y="1355760"/>
            <a:ext cx="8424720" cy="41608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3281400" y="5734080"/>
            <a:ext cx="28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ique de mod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439600" y="2060640"/>
            <a:ext cx="23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riétés d’un art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4859280" y="2349360"/>
            <a:ext cx="433440" cy="432000"/>
          </a:xfrm>
          <a:prstGeom prst="line">
            <a:avLst/>
          </a:prstGeom>
          <a:ln w="284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2556000" y="4220640"/>
            <a:ext cx="1079280" cy="1513080"/>
          </a:xfrm>
          <a:prstGeom prst="line">
            <a:avLst/>
          </a:prstGeom>
          <a:ln w="3816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6CFD-8A33-4263-B2DD-C4FD878E824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uivi des modifica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447920" y="1125360"/>
            <a:ext cx="7372080" cy="531504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472320" y="3476520"/>
            <a:ext cx="7254000" cy="2552760"/>
            <a:chOff x="472320" y="3476520"/>
            <a:chExt cx="7254000" cy="2552760"/>
          </a:xfrm>
        </p:grpSpPr>
        <p:pic>
          <p:nvPicPr>
            <p:cNvPr id="272" name="" descr=""/>
            <p:cNvPicPr/>
            <p:nvPr/>
          </p:nvPicPr>
          <p:blipFill>
            <a:blip r:embed="rId2"/>
            <a:stretch/>
          </p:blipFill>
          <p:spPr>
            <a:xfrm>
              <a:off x="539640" y="3476520"/>
              <a:ext cx="7186680" cy="1968480"/>
            </a:xfrm>
            <a:prstGeom prst="rect">
              <a:avLst/>
            </a:prstGeom>
            <a:ln w="9360">
              <a:solidFill>
                <a:srgbClr val="996600"/>
              </a:solidFill>
              <a:miter/>
            </a:ln>
          </p:spPr>
        </p:pic>
        <p:sp>
          <p:nvSpPr>
            <p:cNvPr id="273" name=""/>
            <p:cNvSpPr/>
            <p:nvPr/>
          </p:nvSpPr>
          <p:spPr>
            <a:xfrm>
              <a:off x="472320" y="5661000"/>
              <a:ext cx="26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difications marqué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1258920" y="4941720"/>
              <a:ext cx="865080" cy="719280"/>
            </a:xfrm>
            <a:prstGeom prst="line">
              <a:avLst/>
            </a:prstGeom>
            <a:ln w="38160">
              <a:solidFill>
                <a:srgbClr val="99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E8AD-7582-4B96-9E25-372A7C416EE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erci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r le serveur de test </a:t>
            </a: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mkirschp.free.fr/spip/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éer une compte </a:t>
            </a:r>
            <a:r>
              <a:rPr b="0" lang="en-US" sz="2600" spc="-1" strike="noStrike">
                <a:solidFill>
                  <a:srgbClr val="996600"/>
                </a:solidFill>
                <a:latin typeface="Arial"/>
              </a:rPr>
              <a:t>rédacteu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à partir des comptes administrateur fourn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époser un </a:t>
            </a:r>
            <a:r>
              <a:rPr b="0" lang="en-US" sz="2600" spc="-1" strike="noStrike">
                <a:solidFill>
                  <a:srgbClr val="996600"/>
                </a:solidFill>
                <a:latin typeface="Arial"/>
              </a:rPr>
              <a:t>artic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t une </a:t>
            </a:r>
            <a:r>
              <a:rPr b="0" lang="en-US" sz="2600" spc="-1" strike="noStrike">
                <a:solidFill>
                  <a:srgbClr val="996600"/>
                </a:solidFill>
                <a:latin typeface="Arial"/>
              </a:rPr>
              <a:t>brè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jouter un collègue comme</a:t>
            </a:r>
            <a:r>
              <a:rPr b="0" lang="en-US" sz="2600" spc="-1" strike="noStrike">
                <a:solidFill>
                  <a:srgbClr val="996600"/>
                </a:solidFill>
                <a:latin typeface="Arial"/>
              </a:rPr>
              <a:t> co-auteu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 l’arti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Arial"/>
              </a:rPr>
              <a:t>Modifi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l’article du collèg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Arial"/>
              </a:rPr>
              <a:t>Visualis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les modifications que le collègue a apporté sur votre arti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01DE-5E29-4FD2-B649-F9480BF0B8B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erci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Toujours sur le serveur de test </a:t>
            </a:r>
            <a:r>
              <a:rPr b="0" lang="fr-FR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fr-FR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mkirschp.free.fr</a:t>
            </a:r>
            <a:r>
              <a:rPr b="0" lang="fr-FR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/</a:t>
            </a:r>
            <a:r>
              <a:rPr b="0" lang="fr-FR" sz="30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spip</a:t>
            </a:r>
            <a:r>
              <a:rPr b="0" lang="fr-FR" sz="30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Observer le processus d’édition (</a:t>
            </a:r>
            <a:r>
              <a:rPr b="0" lang="fr-FR" sz="2600" spc="-1" strike="noStrike">
                <a:solidFill>
                  <a:srgbClr val="996600"/>
                </a:solidFill>
                <a:latin typeface="Arial"/>
              </a:rPr>
              <a:t>état de publication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) de l’article et de la brève et les </a:t>
            </a:r>
            <a:r>
              <a:rPr b="0" lang="fr-FR" sz="2600" spc="-1" strike="noStrike">
                <a:solidFill>
                  <a:srgbClr val="996600"/>
                </a:solidFill>
                <a:latin typeface="Arial"/>
              </a:rPr>
              <a:t>valider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pour la publ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ssayer de </a:t>
            </a:r>
            <a:r>
              <a:rPr b="0" lang="fr-FR" sz="2600" spc="-1" strike="noStrike">
                <a:solidFill>
                  <a:srgbClr val="996600"/>
                </a:solidFill>
                <a:latin typeface="Arial"/>
              </a:rPr>
              <a:t>modifier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un article dont vous n’êtes pas l’aute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996600"/>
                </a:solidFill>
                <a:latin typeface="Arial"/>
              </a:rPr>
              <a:t>Commenter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l’article d’un autre collègue (un article dont vous n’êtes pas l’auteu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nvoyer un </a:t>
            </a:r>
            <a:r>
              <a:rPr b="0" lang="fr-FR" sz="2600" spc="-1" strike="noStrike">
                <a:solidFill>
                  <a:srgbClr val="996600"/>
                </a:solidFill>
                <a:latin typeface="Arial"/>
              </a:rPr>
              <a:t>message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à un collèg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FB5D-A2CB-457F-A70F-AA449A17DBD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rvi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Séparation de la forme et du contenu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Front Office x Back Off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96600"/>
                </a:solidFill>
                <a:latin typeface="Arial"/>
              </a:rPr>
              <a:t>Front Office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: partie vi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96600"/>
                </a:solidFill>
                <a:latin typeface="Arial"/>
              </a:rPr>
              <a:t>Back Office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: administration du s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uthentification et autor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rganisation et contrôle du cont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estion de la for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Éventuellement, gestion du processus d’édition (</a:t>
            </a:r>
            <a:r>
              <a:rPr b="0" lang="fr-FR" sz="2000" spc="-1" strike="noStrike">
                <a:solidFill>
                  <a:srgbClr val="996600"/>
                </a:solidFill>
                <a:latin typeface="Arial"/>
              </a:rPr>
              <a:t>workflow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Exemples : </a:t>
            </a: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SPIP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r-FR" sz="22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fr-FR" sz="22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www.spip.net</a:t>
            </a:r>
            <a:r>
              <a:rPr b="0" lang="fr-FR" sz="22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/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Plone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FR" sz="22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http://</a:t>
            </a:r>
            <a:r>
              <a:rPr b="0" lang="fr-FR" sz="22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plone.org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Agora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FR" sz="22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http://www.agora.gouv.fr/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), 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Kiwi-CMS (</a:t>
            </a:r>
            <a:r>
              <a:rPr b="0" lang="fr-FR" sz="22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http://</a:t>
            </a:r>
            <a:r>
              <a:rPr b="0" lang="fr-FR" sz="22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www.kiwi-cms.org</a:t>
            </a:r>
            <a:r>
              <a:rPr b="0" lang="fr-FR" sz="22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/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)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4D41-6D82-4B54-B4BB-E32D4BA925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erci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Comparer les outils Serendipity, WikiNi, SPI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eurs bu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es fonctionnalités de sécurité (authentification, autorisation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e suivi de modifications (historiqu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es fonctionnalités de commun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’édition conjointe du contenu (billets / pages / artic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203C-0EDB-4CF0-856E-14F18AA29E6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erci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Compte-rend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onsigner les </a:t>
            </a:r>
            <a:r>
              <a:rPr b="0" lang="fr-FR" sz="2600" spc="-1" strike="noStrike">
                <a:solidFill>
                  <a:srgbClr val="996600"/>
                </a:solidFill>
                <a:latin typeface="Arial"/>
              </a:rPr>
              <a:t>réponses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aux exercices précédents dans un C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Le CR doit se présenter sous la forme d’un </a:t>
            </a:r>
            <a:r>
              <a:rPr b="0" lang="fr-FR" sz="2600" spc="-1" strike="noStrike">
                <a:solidFill>
                  <a:srgbClr val="996600"/>
                </a:solidFill>
                <a:latin typeface="Arial"/>
              </a:rPr>
              <a:t>article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dans la </a:t>
            </a:r>
            <a:r>
              <a:rPr b="0" lang="fr-FR" sz="2600" spc="-1" strike="noStrike">
                <a:solidFill>
                  <a:srgbClr val="996600"/>
                </a:solidFill>
                <a:latin typeface="Arial"/>
              </a:rPr>
              <a:t>rubrique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« </a:t>
            </a:r>
            <a:r>
              <a:rPr b="0" lang="fr-FR" sz="2600" spc="-1" strike="noStrike">
                <a:solidFill>
                  <a:srgbClr val="996600"/>
                </a:solidFill>
                <a:latin typeface="Arial"/>
              </a:rPr>
              <a:t>Compte-Rendus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» du site SP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Tous les participants du groupe (binôme ou trinômes) doivent être identifiés comme </a:t>
            </a:r>
            <a:br>
              <a:rPr sz="2600"/>
            </a:b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« </a:t>
            </a:r>
            <a:r>
              <a:rPr b="0" lang="fr-FR" sz="2600" spc="-1" strike="noStrike">
                <a:solidFill>
                  <a:srgbClr val="996600"/>
                </a:solidFill>
                <a:latin typeface="Arial"/>
              </a:rPr>
              <a:t>auteurs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» de l’arti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72CB-CEB0-4F69-B2CB-E3F5C354A4C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emp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SPIP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FR" sz="22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pip.net/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22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fr-FR" sz="22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www.spip-contrib.net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But : «système de publication pour l’Internet 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ogiciel libre (licence GNU/GP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HP/MySQ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 langage de description des pages 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tml-css-javascript-xml 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alises d'accès au contenu publi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Plone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FR" sz="22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http://</a:t>
            </a:r>
            <a:r>
              <a:rPr b="0" lang="fr-FR" sz="22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plone.org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ogiciel libre (licence GNU/GP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Python / Zope (serveur d’application We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Agora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FR" sz="22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http://www.agora.gouv.fr/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MS basé sur SP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Origine du projet : gouvernement franç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D8DF-73D3-46B3-9252-F1D2EF8792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47680" y="1197000"/>
            <a:ext cx="4395600" cy="51577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SPIP : Principe Génér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48000" y="1341360"/>
            <a:ext cx="38876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P gère un </a:t>
            </a: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cache de pa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ur éviter de recalculer une page à chaque requê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qu'une page est générée, elle est </a:t>
            </a: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stocké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ns un réperto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rsqu'une page est demandée, le moteur ne la </a:t>
            </a: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génè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e si elle est </a:t>
            </a: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absen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u cache ou </a:t>
            </a: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obsolè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11280" y="1268280"/>
            <a:ext cx="6192720" cy="4714920"/>
            <a:chOff x="611280" y="1268280"/>
            <a:chExt cx="6192720" cy="471492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611280" y="2924280"/>
              <a:ext cx="4273560" cy="1784160"/>
            </a:xfrm>
            <a:prstGeom prst="rect">
              <a:avLst/>
            </a:prstGeom>
            <a:ln w="9360">
              <a:solidFill>
                <a:srgbClr val="996600"/>
              </a:solidFill>
              <a:miter/>
            </a:ln>
          </p:spPr>
        </p:pic>
        <p:sp>
          <p:nvSpPr>
            <p:cNvPr id="110" name=""/>
            <p:cNvSpPr/>
            <p:nvPr/>
          </p:nvSpPr>
          <p:spPr>
            <a:xfrm>
              <a:off x="4863960" y="5373720"/>
              <a:ext cx="194004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8997" y="-53100"/>
                  </a:moveTo>
                  <a:lnTo>
                    <a:pt x="-848" y="4000"/>
                  </a:lnTo>
                </a:path>
                <a:path w="21600" h="21600">
                  <a:moveTo>
                    <a:pt x="-848" y="0"/>
                  </a:moveTo>
                  <a:lnTo>
                    <a:pt x="-848" y="21600"/>
                  </a:lnTo>
                </a:path>
              </a:pathLst>
            </a:custGeom>
            <a:solidFill>
              <a:srgbClr val="cc9900"/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 page doit être recalculé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00360" y="1268280"/>
              <a:ext cx="2158920" cy="505080"/>
            </a:xfrm>
            <a:prstGeom prst="ellipse">
              <a:avLst/>
            </a:prstGeom>
            <a:noFill/>
            <a:ln w="284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80000" y="1916280"/>
              <a:ext cx="0" cy="1368360"/>
            </a:xfrm>
            <a:prstGeom prst="line">
              <a:avLst/>
            </a:prstGeom>
            <a:ln w="57240">
              <a:solidFill>
                <a:srgbClr val="99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E2A4-7605-4040-BF63-31D30E43D72D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PIP : Le fonctionneme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32000" y="1117440"/>
            <a:ext cx="6624720" cy="558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458D-79A3-4FBC-B647-7DF1A10ED0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L'organisation du site avec les CM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bre de res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 contenu est structuré de façon hiérarchi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que nœud de l'arbre a un n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l peut parfois contenir d'autres res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230720" y="1125360"/>
            <a:ext cx="4741920" cy="476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708C-5D45-4A82-9007-346C1DAEBD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76000" y="277920"/>
            <a:ext cx="72104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s types de ressour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Rubriques (dossier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ssources de struc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Artic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enu publié en li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Brèv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etits articles 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Fichi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cuments téléchargeable (pdf, xml, do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Foru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Messag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6DE9-653C-4C8F-B468-BF72CF861A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0T17:40:31Z</dcterms:created>
  <dc:creator>Manuele</dc:creator>
  <dc:description/>
  <dc:language>en-US</dc:language>
  <cp:lastModifiedBy>Manuele</cp:lastModifiedBy>
  <dcterms:modified xsi:type="dcterms:W3CDTF">2007-01-21T17:38:08Z</dcterms:modified>
  <cp:revision>34</cp:revision>
  <dc:subject/>
  <dc:title>Systèmes Collaboratifs</dc:title>
</cp:coreProperties>
</file>