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0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4.wmf" ContentType="image/x-wmf"/>
  <Override PartName="/ppt/media/image5.png" ContentType="image/png"/>
  <Override PartName="/ppt/media/image7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A03B-620F-4C02-A2FD-B07E958DF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76000" y="70920"/>
            <a:ext cx="72090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41C9-5A7A-455A-B09D-EFD3C23B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76000" y="70920"/>
            <a:ext cx="72090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1DF9-068F-4B9B-B0ED-58BA39B2F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76000" y="70920"/>
            <a:ext cx="72090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9A23-2BB3-4C4C-A82A-7EF5B9EAA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6E0B-6675-4485-AAC8-4C5F4A60E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0" y="70920"/>
            <a:ext cx="72090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90EE-BDDE-4C00-9E84-A10DFEB8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000" y="70920"/>
            <a:ext cx="72090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69C3-CA52-4A11-9251-B90B4384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000" y="70920"/>
            <a:ext cx="72090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724F2-FFF5-42BE-A1E3-64C88FF7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76000" y="70920"/>
            <a:ext cx="72090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210A-5D54-41A9-8EB1-89820404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476000" y="70920"/>
            <a:ext cx="720900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5FEF-6CAE-4C76-ABA2-EB66CC14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0" y="70920"/>
            <a:ext cx="72090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174E-2460-43D8-991A-411897DA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76000" y="70920"/>
            <a:ext cx="72090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AE83-316C-4FBC-B5EA-7E882F99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0" y="70920"/>
            <a:ext cx="72090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D14E-42D3-40D2-900B-E100EA02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76000" y="70920"/>
            <a:ext cx="72090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BC3B-D2BC-408D-BB0C-1F324955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76000" y="70920"/>
            <a:ext cx="72090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3EC2-28B5-4769-AAEB-CE6C60BC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76000" y="70920"/>
            <a:ext cx="72090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2614-235B-4BFE-A7F6-24514CB31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76000" y="70920"/>
            <a:ext cx="72090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64A6-5051-45AE-82DB-51B643D2D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6000" y="70920"/>
            <a:ext cx="72090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6D20-3393-4EEC-AD54-D65231F3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76000" y="70920"/>
            <a:ext cx="72090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CB12-E190-4EBE-AE83-1C972EEF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000" y="70920"/>
            <a:ext cx="72090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EAC8-86DB-4CBC-A726-4E3B266A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76000" y="70920"/>
            <a:ext cx="7209000" cy="63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1BB7-E992-45D1-B6E8-BF860354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76000" y="70920"/>
            <a:ext cx="72090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62CA-0394-42B3-AE02-82B7D0DB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76000" y="70920"/>
            <a:ext cx="72090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31E4-CED6-467B-8246-D066FA20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76000" y="70920"/>
            <a:ext cx="72090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8CF4-FF85-4F9C-BF53-CD39CDB0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4920" y="189000"/>
            <a:ext cx="1187280" cy="849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0" y="70920"/>
            <a:ext cx="72090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93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349200">
              <a:lnSpc>
                <a:spcPct val="93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8120" indent="-314280">
              <a:lnSpc>
                <a:spcPct val="93000"/>
              </a:lnSpc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79400" indent="-338040">
              <a:lnSpc>
                <a:spcPct val="93000"/>
              </a:lnSpc>
              <a:spcBef>
                <a:spcPts val="751"/>
              </a:spcBef>
              <a:buClr>
                <a:srgbClr val="3b812f"/>
              </a:buClr>
              <a:buSzPct val="7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79400" indent="-33804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79400" indent="-33804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29/01/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063840"/>
            <a:ext cx="3030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en-US" sz="1100" spc="-1" strike="noStrike">
                <a:solidFill>
                  <a:srgbClr val="000000"/>
                </a:solidFill>
                <a:latin typeface="Garamond"/>
              </a:rPr>
              <a:t>ystèmes Collaboratif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aramond"/>
              </a:rPr>
              <a:t>Manuele.Kirsch-Pinheiro@univ-nancy2.f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5E027A-207B-4551-85A4-68BCE5FB14C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258920" y="228600"/>
            <a:ext cx="735156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360" y="1523520"/>
            <a:ext cx="6843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29/01/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3720" y="62434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FDB2D-B291-4A8D-B0C8-195A76A839E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76360" y="1219320"/>
            <a:ext cx="705816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1280" y="1252440"/>
            <a:ext cx="1332000" cy="952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93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349200">
              <a:lnSpc>
                <a:spcPct val="93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8120" indent="-314280">
              <a:lnSpc>
                <a:spcPct val="93000"/>
              </a:lnSpc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79400" indent="-338040">
              <a:lnSpc>
                <a:spcPct val="93000"/>
              </a:lnSpc>
              <a:spcBef>
                <a:spcPts val="751"/>
              </a:spcBef>
              <a:buClr>
                <a:srgbClr val="3b812f"/>
              </a:buClr>
              <a:buSzPct val="7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79400" indent="-33804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79400" indent="-338040">
              <a:lnSpc>
                <a:spcPct val="93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anuele.Kirsch-Pinheiro@univ-nancy2.fr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gforge.inria.fr/" TargetMode="External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dev.libresource.org/" TargetMode="External"/><Relationship Id="rId2" Type="http://schemas.openxmlformats.org/officeDocument/2006/relationships/hyperlink" Target="http://www.artenum.com/libresource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potiron.loria.fr/" TargetMode="External"/><Relationship Id="rId3" Type="http://schemas.openxmlformats.org/officeDocument/2006/relationships/image" Target="../media/image16.png"/><Relationship Id="rId4" Type="http://schemas.openxmlformats.org/officeDocument/2006/relationships/hyperlink" Target="http://www.artenum.com/fr/express/" TargetMode="External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docs.google.com/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erveurweb/ressource" TargetMode="External"/><Relationship Id="rId2" Type="http://schemas.openxmlformats.org/officeDocument/2006/relationships/hyperlink" Target="http://serveurweb/ressource" TargetMode="External"/><Relationship Id="rId3" Type="http://schemas.openxmlformats.org/officeDocument/2006/relationships/hyperlink" Target="http://serveurweb/ressource" TargetMode="External"/><Relationship Id="rId4" Type="http://schemas.openxmlformats.org/officeDocument/2006/relationships/hyperlink" Target="http://serveurweb/ressource" TargetMode="Externa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92360" y="1523520"/>
            <a:ext cx="7223040" cy="17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Systèmes Collaboratifs</a:t>
            </a:r>
            <a:br>
              <a:rPr sz="4800"/>
            </a:b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Partage de documents 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ele Kirsch Pinhei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993300"/>
                </a:solidFill>
                <a:uFillTx/>
                <a:latin typeface="Arial"/>
                <a:hlinkClick r:id="rId1"/>
              </a:rPr>
              <a:t>Manuele.Kirsch-Pinheiro@univ-nancy2.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emp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Étude de cas : WikiN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93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rôle de changements simultané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0">
              <a:lnSpc>
                <a:spcPct val="93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42920" y="2924280"/>
            <a:ext cx="8893080" cy="20444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flipH="1" flipV="1">
            <a:off x="5793840" y="4003200"/>
            <a:ext cx="1443240" cy="1514520"/>
          </a:xfrm>
          <a:prstGeom prst="line">
            <a:avLst/>
          </a:prstGeom>
          <a:ln w="7632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400800" y="5637240"/>
            <a:ext cx="21384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996633"/>
                </a:solidFill>
                <a:latin typeface="Arial"/>
              </a:rPr>
              <a:t>Out-of-date error 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86EA-9DAB-4C70-B109-1BD8A008C83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76000" y="228240"/>
            <a:ext cx="721044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e copier modifier fusionn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Princi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93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que auteur fait une </a:t>
            </a: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copie lo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93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que auteur </a:t>
            </a: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modif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 copie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93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copie au serveur est mise à j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93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modifications sont </a:t>
            </a: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fusi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Avanta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93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et la modification de la ressource par plusieurs utilisateurs dans un même intervalle de te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Problè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93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ilité des conflits lors de la fus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3BC7-3F1A-480C-B1AF-CD2D097F13C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es vers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784520" y="1747800"/>
            <a:ext cx="5451480" cy="39862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96880" y="4371840"/>
            <a:ext cx="2603520" cy="603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marL="176040" indent="-176040"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61800"/>
                <a:tab algn="l" pos="1090440"/>
                <a:tab algn="l" pos="2004840"/>
                <a:tab algn="l" pos="2919240"/>
                <a:tab algn="l" pos="3833640"/>
                <a:tab algn="l" pos="4748040"/>
                <a:tab algn="l" pos="5662440"/>
                <a:tab algn="l" pos="6576840"/>
                <a:tab algn="l" pos="7491240"/>
                <a:tab algn="l" pos="8405640"/>
                <a:tab algn="l" pos="9320040"/>
                <a:tab algn="l" pos="1023444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ivre et contrôl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'évolution du "produit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828800" y="3656160"/>
            <a:ext cx="1143000" cy="460080"/>
          </a:xfrm>
          <a:prstGeom prst="line">
            <a:avLst/>
          </a:prstGeom>
          <a:ln w="7308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BC63-8F08-40D5-9DD5-6E119EE9BC8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es branch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03280" y="2514600"/>
            <a:ext cx="6140520" cy="255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9EF1-AD64-4F04-A8BC-AD4795A6DE3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76000" y="277560"/>
            <a:ext cx="721044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es outils de gestion de vers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'ancêtre : CV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 jeune : Subversion (SV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 bébé : So6 (intégré dans LibreSourc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AC10-43F6-4551-9042-F6B6D33F7DC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76000" y="117360"/>
            <a:ext cx="7210440" cy="12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estion de vers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ncipe (CVS et SVN)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00800" y="2935440"/>
            <a:ext cx="685800" cy="685800"/>
          </a:xfrm>
          <a:prstGeom prst="can">
            <a:avLst>
              <a:gd name="adj" fmla="val 25000"/>
            </a:avLst>
          </a:prstGeom>
          <a:solidFill>
            <a:srgbClr val="99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3771720" y="3663720"/>
            <a:ext cx="2743200" cy="685800"/>
          </a:xfrm>
          <a:prstGeom prst="rect">
            <a:avLst/>
          </a:prstGeom>
          <a:solidFill>
            <a:srgbClr val="5c852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rv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008160"/>
            <a:ext cx="685800" cy="685800"/>
          </a:xfrm>
          <a:prstGeom prst="can">
            <a:avLst>
              <a:gd name="adj" fmla="val 25000"/>
            </a:avLst>
          </a:prstGeom>
          <a:solidFill>
            <a:srgbClr val="99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14400" y="3693960"/>
            <a:ext cx="11620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pie lo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0" y="3092400"/>
            <a:ext cx="2514600" cy="1800"/>
          </a:xfrm>
          <a:custGeom>
            <a:avLst/>
            <a:gdLst/>
            <a:ahLst/>
            <a:rect l="l" t="t" r="r" b="b"/>
            <a:pathLst>
              <a:path w="6986" h="1">
                <a:moveTo>
                  <a:pt x="6985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71800" y="2719440"/>
            <a:ext cx="10936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0" y="3693960"/>
            <a:ext cx="2514600" cy="1800"/>
          </a:xfrm>
          <a:custGeom>
            <a:avLst/>
            <a:gdLst/>
            <a:ahLst/>
            <a:rect l="l" t="t" r="r" b="b"/>
            <a:pathLst>
              <a:path w="6986" h="1">
                <a:moveTo>
                  <a:pt x="6985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971800" y="3321000"/>
            <a:ext cx="8780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4656240"/>
            <a:ext cx="685800" cy="685800"/>
          </a:xfrm>
          <a:prstGeom prst="can">
            <a:avLst>
              <a:gd name="adj" fmla="val 25000"/>
            </a:avLst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5294160"/>
            <a:ext cx="1162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pie lo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difié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400680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6666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4921200"/>
            <a:ext cx="2514600" cy="1800"/>
          </a:xfrm>
          <a:custGeom>
            <a:avLst/>
            <a:gdLst/>
            <a:ahLst/>
            <a:rect l="l" t="t" r="r" b="b"/>
            <a:pathLst>
              <a:path w="6986" h="1">
                <a:moveTo>
                  <a:pt x="0" y="0"/>
                </a:moveTo>
                <a:lnTo>
                  <a:pt x="698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71800" y="4470480"/>
            <a:ext cx="9144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605560" y="3321000"/>
            <a:ext cx="689040" cy="1800"/>
          </a:xfrm>
          <a:prstGeom prst="line">
            <a:avLst/>
          </a:prstGeom>
          <a:ln w="9360">
            <a:solidFill>
              <a:srgbClr val="000000"/>
            </a:solidFill>
            <a:prstDash val="sysDashDot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558120" y="4686480"/>
            <a:ext cx="685800" cy="685800"/>
          </a:xfrm>
          <a:prstGeom prst="can">
            <a:avLst>
              <a:gd name="adj" fmla="val 25000"/>
            </a:avLst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00800" y="5402160"/>
            <a:ext cx="9558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s à j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86400" y="5029200"/>
            <a:ext cx="914400" cy="1440"/>
          </a:xfrm>
          <a:custGeom>
            <a:avLst/>
            <a:gdLst/>
            <a:ahLst/>
            <a:rect l="l" t="t" r="r" b="b"/>
            <a:pathLst>
              <a:path w="2541" h="1">
                <a:moveTo>
                  <a:pt x="0" y="0"/>
                </a:moveTo>
                <a:lnTo>
                  <a:pt x="254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sysDashDot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629400" y="388620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6666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780000">
            <a:off x="2617560" y="4610160"/>
            <a:ext cx="1928520" cy="1125360"/>
          </a:xfrm>
          <a:prstGeom prst="irregularSeal2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l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957A-B302-476F-8963-CD108B6A2A51}" type="slidenum">
              <a:t>15</a:t>
            </a:fld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76000" y="70920"/>
            <a:ext cx="721044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CVS et SV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28600" y="1262160"/>
            <a:ext cx="4572000" cy="49244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57200" y="1022400"/>
            <a:ext cx="1411200" cy="347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VS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1800" y="1047600"/>
            <a:ext cx="6029280" cy="2381400"/>
            <a:chOff x="2971800" y="1047600"/>
            <a:chExt cx="6029280" cy="2381400"/>
          </a:xfrm>
        </p:grpSpPr>
        <p:pic>
          <p:nvPicPr>
            <p:cNvPr id="181" name="" descr=""/>
            <p:cNvPicPr/>
            <p:nvPr/>
          </p:nvPicPr>
          <p:blipFill>
            <a:blip r:embed="rId2"/>
            <a:stretch/>
          </p:blipFill>
          <p:spPr>
            <a:xfrm>
              <a:off x="3021120" y="1047600"/>
              <a:ext cx="5979960" cy="2381400"/>
            </a:xfrm>
            <a:prstGeom prst="rect">
              <a:avLst/>
            </a:prstGeom>
            <a:ln w="36720">
              <a:solidFill>
                <a:srgbClr val="996633"/>
              </a:solidFill>
              <a:round/>
            </a:ln>
          </p:spPr>
        </p:pic>
        <p:sp>
          <p:nvSpPr>
            <p:cNvPr id="182" name=""/>
            <p:cNvSpPr/>
            <p:nvPr/>
          </p:nvSpPr>
          <p:spPr>
            <a:xfrm>
              <a:off x="2971800" y="2165400"/>
              <a:ext cx="228600" cy="228600"/>
            </a:xfrm>
            <a:prstGeom prst="ellipse">
              <a:avLst/>
            </a:prstGeom>
            <a:noFill/>
            <a:ln w="547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27840" y="1335240"/>
              <a:ext cx="914400" cy="1440"/>
            </a:xfrm>
            <a:prstGeom prst="line">
              <a:avLst/>
            </a:prstGeom>
            <a:ln w="367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971800" y="2849400"/>
              <a:ext cx="228600" cy="228600"/>
            </a:xfrm>
            <a:prstGeom prst="ellipse">
              <a:avLst/>
            </a:prstGeom>
            <a:noFill/>
            <a:ln w="547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09160" y="2305080"/>
              <a:ext cx="1410480" cy="6001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ises à j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oc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5111280" y="2284200"/>
              <a:ext cx="1374840" cy="231480"/>
            </a:xfrm>
            <a:prstGeom prst="line">
              <a:avLst/>
            </a:prstGeom>
            <a:ln w="3672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340240" y="2743200"/>
              <a:ext cx="1146240" cy="228600"/>
            </a:xfrm>
            <a:prstGeom prst="line">
              <a:avLst/>
            </a:prstGeom>
            <a:ln w="3672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1600200" y="3741840"/>
            <a:ext cx="7319880" cy="2493720"/>
            <a:chOff x="1600200" y="3741840"/>
            <a:chExt cx="7319880" cy="2493720"/>
          </a:xfrm>
        </p:grpSpPr>
        <p:pic>
          <p:nvPicPr>
            <p:cNvPr id="189" name="" descr=""/>
            <p:cNvPicPr/>
            <p:nvPr/>
          </p:nvPicPr>
          <p:blipFill>
            <a:blip r:embed="rId3"/>
            <a:stretch/>
          </p:blipFill>
          <p:spPr>
            <a:xfrm>
              <a:off x="1600200" y="4030560"/>
              <a:ext cx="7319880" cy="1816200"/>
            </a:xfrm>
            <a:prstGeom prst="rect">
              <a:avLst/>
            </a:prstGeom>
            <a:ln w="36720">
              <a:solidFill>
                <a:srgbClr val="008000"/>
              </a:solidFill>
              <a:round/>
            </a:ln>
          </p:spPr>
        </p:pic>
        <p:sp>
          <p:nvSpPr>
            <p:cNvPr id="190" name=""/>
            <p:cNvSpPr/>
            <p:nvPr/>
          </p:nvSpPr>
          <p:spPr>
            <a:xfrm>
              <a:off x="7008840" y="3741840"/>
              <a:ext cx="1450800" cy="3474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SVN comm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189840" y="5635440"/>
              <a:ext cx="1474560" cy="60012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ises à jour </a:t>
              </a:r>
              <a:br>
                <a:rPr sz="1800"/>
              </a:b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au serve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5942160" y="4919760"/>
              <a:ext cx="460080" cy="689040"/>
            </a:xfrm>
            <a:prstGeom prst="line">
              <a:avLst/>
            </a:prstGeom>
            <a:ln w="3672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2021040" y="2563920"/>
            <a:ext cx="914400" cy="457200"/>
          </a:xfrm>
          <a:custGeom>
            <a:avLst/>
            <a:gdLst/>
            <a:ahLst/>
            <a:rect l="l" t="t" r="r" b="b"/>
            <a:pathLst>
              <a:path w="2541" h="1271">
                <a:moveTo>
                  <a:pt x="0" y="1270"/>
                </a:moveTo>
                <a:lnTo>
                  <a:pt x="2540" y="0"/>
                </a:lnTo>
              </a:path>
            </a:pathLst>
          </a:custGeom>
          <a:noFill/>
          <a:ln w="73080">
            <a:solidFill>
              <a:srgbClr val="9966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0D74-6F89-41B5-B38C-C5D5A61B09AC}" type="slidenum">
              <a:t>16</a:t>
            </a:fld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76000" y="188640"/>
            <a:ext cx="721044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estion de versions : confli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 conflit se produit lorsque la fusion de deux versions n'est pas possible (sûre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98920" y="2935440"/>
            <a:ext cx="1371600" cy="1371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'informatique est 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 faut donc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614760" y="2562120"/>
            <a:ext cx="13618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Docu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903240" y="3235320"/>
            <a:ext cx="1507680" cy="1986120"/>
            <a:chOff x="903240" y="3235320"/>
            <a:chExt cx="1507680" cy="1986120"/>
          </a:xfrm>
        </p:grpSpPr>
        <p:sp>
          <p:nvSpPr>
            <p:cNvPr id="199" name=""/>
            <p:cNvSpPr/>
            <p:nvPr/>
          </p:nvSpPr>
          <p:spPr>
            <a:xfrm>
              <a:off x="903240" y="3849840"/>
              <a:ext cx="1507680" cy="1371600"/>
            </a:xfrm>
            <a:prstGeom prst="rect">
              <a:avLst/>
            </a:prstGeom>
            <a:solidFill>
              <a:srgbClr val="ffb5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'informatique est COOL .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l faut donc .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918720" y="3235320"/>
              <a:ext cx="147600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996633"/>
                  </a:solidFill>
                  <a:latin typeface="Arial"/>
                </a:rPr>
                <a:t>Docu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996633"/>
                  </a:solidFill>
                  <a:latin typeface="Arial"/>
                </a:rPr>
                <a:t>copie loc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6400800" y="3235320"/>
            <a:ext cx="1370160" cy="1986120"/>
            <a:chOff x="6400800" y="3235320"/>
            <a:chExt cx="1370160" cy="1986120"/>
          </a:xfrm>
        </p:grpSpPr>
        <p:sp>
          <p:nvSpPr>
            <p:cNvPr id="202" name=""/>
            <p:cNvSpPr/>
            <p:nvPr/>
          </p:nvSpPr>
          <p:spPr>
            <a:xfrm>
              <a:off x="6400800" y="3849840"/>
              <a:ext cx="1370160" cy="13716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L'informatique est ..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l faut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onc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étudier .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00800" y="3235320"/>
              <a:ext cx="133992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996633"/>
                  </a:solidFill>
                  <a:latin typeface="Arial"/>
                </a:rPr>
                <a:t>Documen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996633"/>
                  </a:solidFill>
                  <a:latin typeface="Arial"/>
                </a:rPr>
                <a:t>copie loc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 flipH="1">
            <a:off x="2513160" y="3573360"/>
            <a:ext cx="917280" cy="685800"/>
          </a:xfrm>
          <a:prstGeom prst="line">
            <a:avLst/>
          </a:prstGeom>
          <a:ln w="9144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100480" y="3573360"/>
            <a:ext cx="914400" cy="685800"/>
          </a:xfrm>
          <a:prstGeom prst="line">
            <a:avLst/>
          </a:prstGeom>
          <a:ln w="9144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621240" y="5016600"/>
            <a:ext cx="1371600" cy="1155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'informatique est COOL 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 faut étudier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135040" y="4687920"/>
            <a:ext cx="917640" cy="685800"/>
          </a:xfrm>
          <a:prstGeom prst="line">
            <a:avLst/>
          </a:prstGeom>
          <a:ln w="9144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50960" y="4687920"/>
            <a:ext cx="914400" cy="685800"/>
          </a:xfrm>
          <a:prstGeom prst="line">
            <a:avLst/>
          </a:prstGeom>
          <a:ln w="9144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614760" y="4686480"/>
            <a:ext cx="12733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usion ?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233F-EF6D-4ED7-93E7-F53E8D8CD85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600" y="307440"/>
            <a:ext cx="7696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Un environnement pour la coopér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 environnements de travail coopérati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93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mettre à un groupe de travailler à plusieu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93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éveloppement de logici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93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éveloppement de site We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93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édaction de docu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B501-A86A-449C-92F5-D0D6FE48581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76000" y="70920"/>
            <a:ext cx="7210440" cy="13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emples : Gforge INR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808360" y="1179360"/>
            <a:ext cx="6227640" cy="54914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08000" y="2286000"/>
            <a:ext cx="2614680" cy="2560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65240" indent="-165240"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0120"/>
                <a:tab algn="l" pos="1079640"/>
                <a:tab algn="l" pos="1994040"/>
                <a:tab algn="l" pos="2908440"/>
                <a:tab algn="l" pos="3822840"/>
                <a:tab algn="l" pos="4737240"/>
                <a:tab algn="l" pos="5651640"/>
                <a:tab algn="l" pos="6566040"/>
                <a:tab algn="l" pos="7480440"/>
                <a:tab algn="l" pos="8394840"/>
                <a:tab algn="l" pos="9309240"/>
                <a:tab algn="l" pos="10223640"/>
                <a:tab algn="l" pos="105156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Arial"/>
                <a:hlinkClick r:id="rId2"/>
              </a:rPr>
              <a:t>http://gforge.inria.fr/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lnSpc>
                <a:spcPct val="93000"/>
              </a:lnSpc>
              <a:spcAft>
                <a:spcPts val="13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330120"/>
                <a:tab algn="l" pos="1079640"/>
                <a:tab algn="l" pos="1994040"/>
                <a:tab algn="l" pos="2908440"/>
                <a:tab algn="l" pos="3822840"/>
                <a:tab algn="l" pos="4737240"/>
                <a:tab algn="l" pos="5651640"/>
                <a:tab algn="l" pos="6566040"/>
                <a:tab algn="l" pos="7480440"/>
                <a:tab algn="l" pos="8394840"/>
                <a:tab algn="l" pos="9309240"/>
                <a:tab algn="l" pos="1022364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ébergement d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iés à 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herc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forma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lnSpc>
                <a:spcPct val="93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330120"/>
                <a:tab algn="l" pos="1079640"/>
                <a:tab algn="l" pos="1994040"/>
                <a:tab algn="l" pos="2908440"/>
                <a:tab algn="l" pos="3822840"/>
                <a:tab algn="l" pos="4737240"/>
                <a:tab algn="l" pos="5651640"/>
                <a:tab algn="l" pos="6566040"/>
                <a:tab algn="l" pos="7480440"/>
                <a:tab algn="l" pos="8394840"/>
                <a:tab algn="l" pos="9309240"/>
                <a:tab algn="l" pos="1022364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sation d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V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8F14-A9DD-45C5-9DE4-6114584C01F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artage de docum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usieurs personnes veulent travailler sur les mêmes docu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93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ès au docu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93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ification concurr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93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storique des modifi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93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fl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stion des ver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7747-A58B-4692-94EE-07E260A5382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00320" y="263520"/>
            <a:ext cx="769608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emple : LibreSour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e forme de travail collabora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93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/ JOnAS / Postgre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93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dition libre (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Arial"/>
                <a:hlinkClick r:id="rId1"/>
              </a:rPr>
              <a:t>http://dev.libresource.org/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) et version entreprise 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cc6600"/>
                </a:solidFill>
                <a:uFillTx/>
                <a:latin typeface="Arial"/>
                <a:hlinkClick r:id="rId2"/>
              </a:rPr>
              <a:t>http://www.artenum.com/libresourc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93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ages de donn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93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93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g Trac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93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93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load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services sont organisés comme un arbre de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81F1-BA36-4650-921F-D3D89BDFAB5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98600" y="2286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ibreSour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82440" y="1913040"/>
            <a:ext cx="5776920" cy="4114800"/>
            <a:chOff x="82440" y="1913040"/>
            <a:chExt cx="5776920" cy="411480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422280" y="1989000"/>
              <a:ext cx="5437080" cy="403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82440" y="1913040"/>
              <a:ext cx="2212920" cy="3474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 u="sng">
                  <a:solidFill>
                    <a:srgbClr val="cc6600"/>
                  </a:solidFill>
                  <a:uFillTx/>
                  <a:latin typeface="Arial"/>
                  <a:hlinkClick r:id="rId2"/>
                </a:rPr>
                <a:t>http://potiron.loria.fr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2452680" y="1300320"/>
            <a:ext cx="6461280" cy="4186080"/>
            <a:chOff x="2452680" y="1300320"/>
            <a:chExt cx="6461280" cy="4186080"/>
          </a:xfrm>
        </p:grpSpPr>
        <p:pic>
          <p:nvPicPr>
            <p:cNvPr id="222" name="" descr=""/>
            <p:cNvPicPr/>
            <p:nvPr/>
          </p:nvPicPr>
          <p:blipFill>
            <a:blip r:embed="rId3"/>
            <a:stretch/>
          </p:blipFill>
          <p:spPr>
            <a:xfrm>
              <a:off x="2971800" y="1424160"/>
              <a:ext cx="5942160" cy="40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2452680" y="1300320"/>
              <a:ext cx="3774960" cy="374400"/>
            </a:xfrm>
            <a:prstGeom prst="rect">
              <a:avLst/>
            </a:prstGeom>
            <a:solidFill>
              <a:srgbClr val="ffb5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 u="sng">
                  <a:solidFill>
                    <a:srgbClr val="cc6600"/>
                  </a:solidFill>
                  <a:uFillTx/>
                  <a:latin typeface="Arial"/>
                  <a:hlinkClick r:id="rId4"/>
                </a:rPr>
                <a:t>http://www.artenum.com/fr/express/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CAE5-819A-4A62-9CB5-7041C2D37C68}" type="slidenum">
              <a:t>21</a:t>
            </a:fld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e partage de fichiers : So6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520" y="159228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4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e queue d'</a:t>
            </a:r>
            <a:r>
              <a:rPr b="0" lang="en-US" sz="3000" spc="-1" strike="noStrike">
                <a:solidFill>
                  <a:srgbClr val="996633"/>
                </a:solidFill>
                <a:latin typeface="Arial"/>
              </a:rPr>
              <a:t>opérat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996633"/>
                </a:solidFill>
                <a:latin typeface="Arial"/>
              </a:rPr>
              <a:t>So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en-US" sz="3000" spc="-1" strike="noStrike">
                <a:solidFill>
                  <a:srgbClr val="996633"/>
                </a:solidFill>
                <a:latin typeface="Arial"/>
              </a:rPr>
              <a:t>workspac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ur les ordinateurs des utilisateu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4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ux opér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84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i="1" lang="en-US" sz="2600" spc="-1" strike="noStrike">
                <a:solidFill>
                  <a:srgbClr val="996633"/>
                </a:solidFill>
                <a:latin typeface="Arial"/>
              </a:rPr>
              <a:t>Updat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: pour se mettre à jour – les dernières opérations de la queue sont ajoutés à l'espace de l'utilisate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84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996633"/>
                </a:solidFill>
                <a:latin typeface="Arial"/>
              </a:rPr>
              <a:t>Commi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: les opérations de l'utilisateur sont ajoutées à la que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AB13-38B8-4922-A00C-99EB0D863DB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76000" y="225360"/>
            <a:ext cx="7210440" cy="12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artage de documents : Google Doc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001000" cy="39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gle Docs (</a:t>
            </a:r>
            <a:r>
              <a:rPr b="0" lang="en-US" sz="3000" spc="-1" strike="noStrike" u="sng">
                <a:solidFill>
                  <a:srgbClr val="cc6600"/>
                </a:solidFill>
                <a:uFillTx/>
                <a:latin typeface="Arial"/>
                <a:hlinkClick r:id="rId1"/>
              </a:rPr>
              <a:t>http://docs.google.com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93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Édition single-user ou </a:t>
            </a:r>
            <a:r>
              <a:rPr b="0" lang="en-US" sz="2600" spc="-1" strike="noStrike">
                <a:solidFill>
                  <a:srgbClr val="996633"/>
                </a:solidFill>
                <a:latin typeface="Arial"/>
              </a:rPr>
              <a:t>collaborativ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es docu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93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cuments : texte et table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93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ats 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349200">
              <a:lnSpc>
                <a:spcPct val="93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e : HTML, RTF, doc, ODT, PD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349200">
              <a:lnSpc>
                <a:spcPct val="93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bleur : HTML, CSV, xls, 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sion automatique des ver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4F6C-1D6D-40DE-A1EB-2CFCFBABEC1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76000" y="70920"/>
            <a:ext cx="7210440" cy="13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oogle Doc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20840" y="1214280"/>
            <a:ext cx="82296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C693-62F4-49E5-9141-17137D212AF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76000" y="117360"/>
            <a:ext cx="7210440" cy="12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oogle Docs : auteu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458200" cy="48006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5486400" y="3970440"/>
            <a:ext cx="26528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viter les collabor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4341600" y="3884400"/>
            <a:ext cx="1145880" cy="2314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86400" y="4905360"/>
            <a:ext cx="20210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viter les lec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4341600" y="4798800"/>
            <a:ext cx="1145880" cy="2314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B71A-07AF-476F-B343-182B782B2C8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76000" y="117360"/>
            <a:ext cx="7210440" cy="12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oogle Docs : vers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7" name=""/>
          <p:cNvSpPr/>
          <p:nvPr/>
        </p:nvSpPr>
        <p:spPr>
          <a:xfrm>
            <a:off x="74520" y="3457440"/>
            <a:ext cx="15256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 versions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u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828800" y="1515960"/>
            <a:ext cx="7218360" cy="44737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563840" y="3043080"/>
            <a:ext cx="457200" cy="2057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88"/>
                </a:lnTo>
                <a:cubicBezTo>
                  <a:pt x="10800" y="10088"/>
                  <a:pt x="5400" y="10988"/>
                  <a:pt x="0" y="10988"/>
                </a:cubicBezTo>
                <a:cubicBezTo>
                  <a:pt x="5400" y="10988"/>
                  <a:pt x="10800" y="11888"/>
                  <a:pt x="10800" y="1278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472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E5BC-07C6-47D5-AACE-9E48809BE9E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76000" y="117360"/>
            <a:ext cx="7210440" cy="12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oogle Docs : vers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778040" y="1293840"/>
            <a:ext cx="7086600" cy="53895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74520" y="1600200"/>
            <a:ext cx="15256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996633"/>
                </a:solidFill>
                <a:latin typeface="Arial"/>
              </a:rPr>
              <a:t>Les versions </a:t>
            </a:r>
            <a:br>
              <a:rPr sz="1800"/>
            </a:br>
            <a:r>
              <a:rPr b="0" lang="en-GB" sz="1800" spc="-1" strike="noStrike">
                <a:solidFill>
                  <a:srgbClr val="996633"/>
                </a:solidFill>
                <a:latin typeface="Arial"/>
              </a:rPr>
              <a:t>du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8600" y="3228840"/>
            <a:ext cx="1600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996633"/>
                </a:solidFill>
                <a:latin typeface="Arial"/>
              </a:rPr>
              <a:t>Modific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996633"/>
                </a:solidFill>
                <a:latin typeface="Arial"/>
              </a:rPr>
              <a:t>apportées à la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43000" y="2286000"/>
            <a:ext cx="685800" cy="228600"/>
          </a:xfrm>
          <a:prstGeom prst="line">
            <a:avLst/>
          </a:prstGeom>
          <a:ln w="36720">
            <a:solidFill>
              <a:srgbClr val="9966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143000" y="4114800"/>
            <a:ext cx="649440" cy="577800"/>
          </a:xfrm>
          <a:prstGeom prst="line">
            <a:avLst/>
          </a:prstGeom>
          <a:ln w="36720">
            <a:solidFill>
              <a:srgbClr val="9966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86600" y="4871880"/>
            <a:ext cx="12589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996633"/>
                </a:solidFill>
                <a:latin typeface="Arial"/>
              </a:rPr>
              <a:t>co-au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7156440" y="5257800"/>
            <a:ext cx="231840" cy="685800"/>
          </a:xfrm>
          <a:prstGeom prst="line">
            <a:avLst/>
          </a:prstGeom>
          <a:ln w="36720">
            <a:solidFill>
              <a:srgbClr val="9966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43800" y="5257800"/>
            <a:ext cx="119160" cy="685800"/>
          </a:xfrm>
          <a:prstGeom prst="line">
            <a:avLst/>
          </a:prstGeom>
          <a:ln w="36720">
            <a:solidFill>
              <a:srgbClr val="9966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209D-C220-46F7-B3D9-28F5C2BDBDD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76000" y="117360"/>
            <a:ext cx="7210440" cy="12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oogle Docs : vers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068480" y="1214280"/>
            <a:ext cx="7162560" cy="49024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921200" y="2879640"/>
            <a:ext cx="25812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7360" rIns="117360" tIns="72360" bIns="72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rer les vers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3427200" y="2513160"/>
            <a:ext cx="1603080" cy="460080"/>
          </a:xfrm>
          <a:prstGeom prst="line">
            <a:avLst/>
          </a:prstGeom>
          <a:ln w="54720">
            <a:solidFill>
              <a:srgbClr val="9966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4798800" y="2513160"/>
            <a:ext cx="231480" cy="460080"/>
          </a:xfrm>
          <a:prstGeom prst="line">
            <a:avLst/>
          </a:prstGeom>
          <a:ln w="54720">
            <a:solidFill>
              <a:srgbClr val="9966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9CCB-25F3-48F4-9D38-AA330BB5E69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76000" y="70920"/>
            <a:ext cx="7210440" cy="13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erci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55840"/>
            <a:ext cx="82296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crire un document sur </a:t>
            </a:r>
            <a:r>
              <a:rPr b="0" lang="en-US" sz="2800" spc="-1" strike="noStrike">
                <a:solidFill>
                  <a:srgbClr val="996633"/>
                </a:solidFill>
                <a:latin typeface="Arial"/>
              </a:rPr>
              <a:t>Google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93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jet  : « </a:t>
            </a: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Mécanismes de contrôle de vers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93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s à aborder : </a:t>
            </a: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WebDAV, CVS et Sub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93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iter au moins un collègue à participer à la rédaction du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93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diter le document avec les co-auteurs de manière </a:t>
            </a: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synchr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er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93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'algorithme de </a:t>
            </a: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fu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erge) des mod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93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'</a:t>
            </a: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historiq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 vers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B267-7E67-43BE-8907-575C44CEA7B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épertoire partagé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600280" y="1465200"/>
            <a:ext cx="3571920" cy="424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7B70-3B2E-40EA-8988-337CEADCEB75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76000" y="117360"/>
            <a:ext cx="7210440" cy="12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erci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éaliser sur GoogleDocs le CR de la sé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93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iter tous les co-auteurs à particip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93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rer la gestion des versions des outils étudiés jusqu'ic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2163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'oublier pas d'inviter la "prof" à participer aux documents 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93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n-US" sz="2600" spc="-1" strike="noStrike">
                <a:solidFill>
                  <a:srgbClr val="993300"/>
                </a:solidFill>
                <a:latin typeface="Arial"/>
              </a:rPr>
              <a:t>kirschpm@gmail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E4FD-2E6B-4D9A-952F-A8C98111658E}" type="slidenum">
              <a:t>30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ise à jour perdu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050920" y="1197000"/>
            <a:ext cx="5365800" cy="4940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E4B8-C77B-4CD5-B7A7-213EE631BB6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000" y="204480"/>
            <a:ext cx="721044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Une solution : le verrouillag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87920" y="1563840"/>
            <a:ext cx="4137120" cy="45100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731600"/>
            <a:ext cx="42451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996633"/>
                </a:solidFill>
                <a:latin typeface="Arial"/>
              </a:rPr>
              <a:t>Fonctionneme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93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pose un verrou sur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93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uls ceux qui ont le verrou peuvent modifier la res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93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lève le verrou une fois la ressource modifi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996633"/>
                </a:solidFill>
                <a:latin typeface="Arial"/>
              </a:rPr>
              <a:t>Problèm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: il limite le travail "simultané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C3C4-8A30-45DA-8D6D-A349E93D91D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76000" y="144000"/>
            <a:ext cx="7210440" cy="13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emple : protocole WebDAV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tension du protocole HTTP/1.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93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jout des nouvelles méthodes, propriétés, en-têtes..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3000" spc="-1" strike="noStrike">
                <a:solidFill>
                  <a:srgbClr val="996633"/>
                </a:solidFill>
                <a:latin typeface="Arial"/>
              </a:rPr>
              <a:t>réda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es documents sur le We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rouillage par les méthodes LOCK / UNLO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93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CK : un verrou est associé à une ressou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93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LOCK : le verrou est levé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CE60-2B1F-4C1A-84F5-E1E1A070968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76000" y="87120"/>
            <a:ext cx="721044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tocole WebDAV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53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évention MàJ perdue : séquence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CK / GET / PUT / UNLO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 rot="16200000">
            <a:off x="3458520" y="4109760"/>
            <a:ext cx="3200400" cy="685800"/>
          </a:xfrm>
          <a:prstGeom prst="rect">
            <a:avLst/>
          </a:prstGeom>
          <a:solidFill>
            <a:srgbClr val="cc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27360" bIns="2736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erveur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311560" y="3200400"/>
            <a:ext cx="2282760" cy="0"/>
            <a:chOff x="2311560" y="3200400"/>
            <a:chExt cx="2282760" cy="0"/>
          </a:xfrm>
        </p:grpSpPr>
        <p:sp>
          <p:nvSpPr>
            <p:cNvPr id="105" name=""/>
            <p:cNvSpPr/>
            <p:nvPr/>
          </p:nvSpPr>
          <p:spPr>
            <a:xfrm>
              <a:off x="2311560" y="3200400"/>
              <a:ext cx="2282760" cy="0"/>
            </a:xfrm>
            <a:prstGeom prst="line">
              <a:avLst/>
            </a:prstGeom>
            <a:ln w="3672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0" y="0"/>
              <a:ext cx="0" cy="0"/>
            </a:xfrm>
            <a:prstGeom prst="rect">
              <a:avLst/>
            </a:prstGeom>
            <a:noFill/>
            <a:ln w="0">
              <a:noFill/>
            </a:ln>
          </p:spPr>
          <p:txBody>
            <a:bodyPr lIns="108000" rIns="108000" tIns="-63000" bIns="-63000" anchor="ctr" anchorCtr="1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946080" y="2743200"/>
            <a:ext cx="39862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 </a:t>
            </a:r>
            <a:r>
              <a:rPr b="0" lang="en-US" sz="1800" spc="-1" strike="noStrike" u="sng">
                <a:solidFill>
                  <a:srgbClr val="cc6600"/>
                </a:solidFill>
                <a:uFillTx/>
                <a:latin typeface="Arial"/>
                <a:hlinkClick r:id="rId1"/>
              </a:rPr>
              <a:t>http://serveurweb/res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076800" y="2971800"/>
            <a:ext cx="1271520" cy="1044360"/>
            <a:chOff x="6076800" y="2971800"/>
            <a:chExt cx="1271520" cy="1044360"/>
          </a:xfrm>
        </p:grpSpPr>
        <p:sp>
          <p:nvSpPr>
            <p:cNvPr id="109" name=""/>
            <p:cNvSpPr/>
            <p:nvPr/>
          </p:nvSpPr>
          <p:spPr>
            <a:xfrm>
              <a:off x="6271560" y="3050640"/>
              <a:ext cx="684000" cy="684720"/>
            </a:xfrm>
            <a:prstGeom prst="flowChartInternalStorage">
              <a:avLst/>
            </a:prstGeom>
            <a:solidFill>
              <a:srgbClr val="99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76800" y="3699360"/>
              <a:ext cx="107064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ssour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583680" y="2971800"/>
              <a:ext cx="764640" cy="25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6000" bIns="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b80047"/>
                  </a:solidFill>
                  <a:latin typeface="Arial"/>
                </a:rPr>
                <a:t>lock inf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5240" y="3249720"/>
            <a:ext cx="6858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311560" y="3886200"/>
            <a:ext cx="2282760" cy="0"/>
            <a:chOff x="2311560" y="3886200"/>
            <a:chExt cx="2282760" cy="0"/>
          </a:xfrm>
        </p:grpSpPr>
        <p:sp>
          <p:nvSpPr>
            <p:cNvPr id="114" name=""/>
            <p:cNvSpPr/>
            <p:nvPr/>
          </p:nvSpPr>
          <p:spPr>
            <a:xfrm>
              <a:off x="2311560" y="3886200"/>
              <a:ext cx="2282760" cy="0"/>
            </a:xfrm>
            <a:prstGeom prst="line">
              <a:avLst/>
            </a:prstGeom>
            <a:ln w="3672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0" y="0"/>
              <a:ext cx="0" cy="0"/>
            </a:xfrm>
            <a:prstGeom prst="rect">
              <a:avLst/>
            </a:prstGeom>
            <a:noFill/>
            <a:ln w="0">
              <a:noFill/>
            </a:ln>
          </p:spPr>
          <p:txBody>
            <a:bodyPr lIns="108000" rIns="108000" tIns="-63000" bIns="-63000" anchor="ctr" anchorCtr="1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939960" y="3429000"/>
            <a:ext cx="36828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</a:t>
            </a:r>
            <a:r>
              <a:rPr b="0" lang="en-US" sz="1800" spc="-1" strike="noStrike" u="sng">
                <a:solidFill>
                  <a:srgbClr val="cc6600"/>
                </a:solidFill>
                <a:uFillTx/>
                <a:latin typeface="Arial"/>
                <a:hlinkClick r:id="rId2"/>
              </a:rPr>
              <a:t>http://serveurweb/res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510160" y="3657600"/>
            <a:ext cx="689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336760" y="5029200"/>
            <a:ext cx="2282760" cy="0"/>
            <a:chOff x="2336760" y="5029200"/>
            <a:chExt cx="2282760" cy="0"/>
          </a:xfrm>
        </p:grpSpPr>
        <p:sp>
          <p:nvSpPr>
            <p:cNvPr id="119" name=""/>
            <p:cNvSpPr/>
            <p:nvPr/>
          </p:nvSpPr>
          <p:spPr>
            <a:xfrm>
              <a:off x="2336760" y="5029200"/>
              <a:ext cx="2282760" cy="0"/>
            </a:xfrm>
            <a:prstGeom prst="line">
              <a:avLst/>
            </a:prstGeom>
            <a:ln w="3672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0" y="0"/>
              <a:ext cx="0" cy="0"/>
            </a:xfrm>
            <a:prstGeom prst="rect">
              <a:avLst/>
            </a:prstGeom>
            <a:noFill/>
            <a:ln w="0">
              <a:noFill/>
            </a:ln>
          </p:spPr>
          <p:txBody>
            <a:bodyPr lIns="108000" rIns="108000" tIns="-63000" bIns="-63000" anchor="ctr" anchorCtr="1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939960" y="4572000"/>
            <a:ext cx="36828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</a:t>
            </a:r>
            <a:r>
              <a:rPr b="0" lang="en-US" sz="1800" spc="-1" strike="noStrike" u="sng">
                <a:solidFill>
                  <a:srgbClr val="cc6600"/>
                </a:solidFill>
                <a:uFillTx/>
                <a:latin typeface="Arial"/>
                <a:hlinkClick r:id="rId3"/>
              </a:rPr>
              <a:t>http://serveurweb/res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336760" y="5943600"/>
            <a:ext cx="2282760" cy="0"/>
            <a:chOff x="2336760" y="5943600"/>
            <a:chExt cx="2282760" cy="0"/>
          </a:xfrm>
        </p:grpSpPr>
        <p:sp>
          <p:nvSpPr>
            <p:cNvPr id="123" name=""/>
            <p:cNvSpPr/>
            <p:nvPr/>
          </p:nvSpPr>
          <p:spPr>
            <a:xfrm>
              <a:off x="2336760" y="5943600"/>
              <a:ext cx="2282760" cy="0"/>
            </a:xfrm>
            <a:prstGeom prst="line">
              <a:avLst/>
            </a:prstGeom>
            <a:ln w="3672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0" y="0"/>
              <a:ext cx="0" cy="0"/>
            </a:xfrm>
            <a:prstGeom prst="rect">
              <a:avLst/>
            </a:prstGeom>
            <a:noFill/>
            <a:ln w="0">
              <a:noFill/>
            </a:ln>
          </p:spPr>
          <p:txBody>
            <a:bodyPr lIns="108000" rIns="108000" tIns="-63000" bIns="-63000" anchor="ctr" anchorCtr="1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939960" y="5307120"/>
            <a:ext cx="36828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 </a:t>
            </a:r>
            <a:r>
              <a:rPr b="0" lang="en-US" sz="1800" spc="-1" strike="noStrike" u="sng">
                <a:solidFill>
                  <a:srgbClr val="cc6600"/>
                </a:solidFill>
                <a:uFillTx/>
                <a:latin typeface="Arial"/>
                <a:hlinkClick r:id="rId4"/>
              </a:rPr>
              <a:t>http://serveurweb/res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076800" y="4711320"/>
            <a:ext cx="2028960" cy="1327320"/>
            <a:chOff x="6076800" y="4711320"/>
            <a:chExt cx="2028960" cy="1327320"/>
          </a:xfrm>
        </p:grpSpPr>
        <p:sp>
          <p:nvSpPr>
            <p:cNvPr id="127" name=""/>
            <p:cNvSpPr/>
            <p:nvPr/>
          </p:nvSpPr>
          <p:spPr>
            <a:xfrm>
              <a:off x="6271920" y="4992480"/>
              <a:ext cx="685080" cy="740880"/>
            </a:xfrm>
            <a:prstGeom prst="flowChartInternalStorage">
              <a:avLst/>
            </a:prstGeom>
            <a:solidFill>
              <a:srgbClr val="e6e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76800" y="5695920"/>
              <a:ext cx="2028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ssource (modifié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84400" y="4907160"/>
              <a:ext cx="76572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6000" bIns="36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b80047"/>
                  </a:solidFill>
                  <a:latin typeface="Arial"/>
                </a:rPr>
                <a:t>lock info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2580000">
              <a:off x="6747480" y="4800600"/>
              <a:ext cx="456840" cy="493920"/>
            </a:xfrm>
            <a:custGeom>
              <a:avLst/>
              <a:gdLst>
                <a:gd name="textAreaLeft" fmla="*/ 188280 w 456840"/>
                <a:gd name="textAreaRight" fmla="*/ 268560 w 456840"/>
                <a:gd name="textAreaTop" fmla="*/ 203400 h 493920"/>
                <a:gd name="textAreaBottom" fmla="*/ 290520 h 49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9001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5511960" y="5029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511960" y="5713200"/>
            <a:ext cx="685800" cy="23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15080" y="3814920"/>
            <a:ext cx="11430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cc6633"/>
                </a:solidFill>
                <a:latin typeface="Arial"/>
              </a:rPr>
              <a:t>proprié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7313400" y="3198600"/>
            <a:ext cx="688680" cy="688680"/>
          </a:xfrm>
          <a:prstGeom prst="line">
            <a:avLst/>
          </a:prstGeom>
          <a:ln w="9360">
            <a:solidFill>
              <a:srgbClr val="cc6633"/>
            </a:solidFill>
            <a:prstDash val="sys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5BF5-FED4-4E78-B8FD-1E946BBFDCE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76000" y="117360"/>
            <a:ext cx="7210440" cy="12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ebDAV : problèm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'</a:t>
            </a:r>
            <a:r>
              <a:rPr b="0" lang="en-US" sz="3000" spc="-1" strike="noStrike">
                <a:solidFill>
                  <a:srgbClr val="996633"/>
                </a:solidFill>
                <a:latin typeface="Arial"/>
              </a:rPr>
              <a:t>accè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ux ressources et aux propriétés n'est pas défini par le protocole WebDA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93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996633"/>
                </a:solidFill>
                <a:latin typeface="Arial"/>
              </a:rPr>
              <a:t>Contrôle d'accè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xtérieur au protoc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93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'identification d'un verrou accessible aux autr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n-US" sz="3000" spc="-1" strike="noStrike">
                <a:solidFill>
                  <a:srgbClr val="996633"/>
                </a:solidFill>
                <a:latin typeface="Arial"/>
              </a:rPr>
              <a:t>séque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LOCK/GET/PUT/UNLOCK n'est </a:t>
            </a:r>
            <a:r>
              <a:rPr b="0" lang="en-US" sz="3000" spc="-1" strike="noStrike">
                <a:solidFill>
                  <a:srgbClr val="996633"/>
                </a:solidFill>
                <a:latin typeface="Arial"/>
              </a:rPr>
              <a:t>pas obligatoi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8160" indent="-325080">
              <a:lnSpc>
                <a:spcPct val="93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se à jour perdue peut toujours se produi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465360" y="3465360"/>
            <a:ext cx="5473800" cy="3237120"/>
          </a:xfrm>
          <a:prstGeom prst="rect">
            <a:avLst/>
          </a:prstGeom>
          <a:ln w="18360">
            <a:solidFill>
              <a:srgbClr val="996633"/>
            </a:solidFill>
            <a:round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ECFC-D198-41B2-8DD3-3DDAE04EC560}" type="slidenum">
              <a:t>8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14436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e copier modifier fusionn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4262400" cy="43084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802040" y="1628640"/>
            <a:ext cx="4091040" cy="43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61E6-5416-4B4D-8C03-A437C0669D7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nuele</dc:creator>
  <dc:description/>
  <dc:language>en-US</dc:language>
  <cp:lastModifiedBy>Manuele</cp:lastModifiedBy>
  <dcterms:modified xsi:type="dcterms:W3CDTF">2007-01-29T20:05:07Z</dcterms:modified>
  <cp:revision>2</cp:revision>
  <dc:subject/>
  <dc:title>Systèmes Collaboratifs Partage de documents </dc:title>
</cp:coreProperties>
</file>