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462-233B-4A8F-B02F-D2E71856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0B9-DDE9-4310-9D80-FA423641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67D-75E2-458D-98D1-9F802F37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0CB-38A1-4585-B105-52785C4D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59E2-0BF7-4D05-8B37-6AC661E7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3A9C-40D0-4877-A3AA-68759604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799B-A301-4F04-B5CC-68D740A0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FDB1-E8DE-4733-B037-6D90E9DE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495A-7A7E-42AB-A113-65712F14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76000" y="277920"/>
            <a:ext cx="7210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1CE0-42FE-46F1-935E-85651080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F5E0-03A4-431B-AAAC-6D1E21FD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0CB-6412-4F2F-9C66-68F43637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E24E-916C-48FD-8E3A-AFA86BD0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4C1C-0D65-4B11-9555-8A37B041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1FD8-1895-4D3D-83BB-AF0BC88F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DA72-F4EF-4A91-AF2C-0AAB6352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C3C3-4429-4DF5-AEC5-3B4EDAEB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A9C-67BE-41BD-B6C1-E6C1232B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7318-E261-46B2-BB88-FEEE0E71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21F-5A7C-46E0-8105-6F689836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76000" y="277920"/>
            <a:ext cx="7210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8A2-EA72-4A5E-AF9F-06FE8B06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48E-DB58-48DE-BB9D-179BD653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00D-1023-443D-89F8-B4D82855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BD1-8384-4444-9E75-AFC4F22C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4920" y="189000"/>
            <a:ext cx="118728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D15D-B91E-48AA-A971-61DB95EAB90D}" type="datetime">
              <a:rPr b="0" lang="fr-FR" sz="1200" spc="-1" strike="noStrike">
                <a:solidFill>
                  <a:srgbClr val="000000"/>
                </a:solidFill>
                <a:latin typeface="Garamond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03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Systèmes Collaborat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1AF9-7C42-4DB8-94AD-8BB651732831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58920" y="228600"/>
            <a:ext cx="735156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1523520"/>
            <a:ext cx="6845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53C4-5E70-4CD5-B77A-2F3CAF6F4573}" type="datetime">
              <a:rPr b="0" lang="fr-FR" sz="1200" spc="-1" strike="noStrike">
                <a:solidFill>
                  <a:srgbClr val="000000"/>
                </a:solidFill>
                <a:latin typeface="Garamond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7846-B9C9-4BFD-A7B7-3B0360437A47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1219320"/>
            <a:ext cx="705816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252440"/>
            <a:ext cx="133200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nuele.Kirsch-Pinheiro@univ-nancy2.f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mkirschp.free.fr/wikini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docs.moodle.org/en/Dfwiki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mkirschp.free.fr/wikini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kini.net/" TargetMode="External"/><Relationship Id="rId2" Type="http://schemas.openxmlformats.org/officeDocument/2006/relationships/hyperlink" Target="http://www.wikini.net/" TargetMode="External"/><Relationship Id="rId3" Type="http://schemas.openxmlformats.org/officeDocument/2006/relationships/hyperlink" Target="http://www.wikini.net/" TargetMode="External"/><Relationship Id="rId4" Type="http://schemas.openxmlformats.org/officeDocument/2006/relationships/hyperlink" Target="http://mkirschp.free.fr/wikini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360" y="1523520"/>
            <a:ext cx="6845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ystèmes Collaboratif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nuele Kirsch Pinh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Manuele.Kirsch-Pinheiro@univ-nancy2.f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03F1-5F5B-4BAB-A2E7-75C908C78FE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02E127D-D583-4E5B-912B-AEFB69D487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 page existe maintena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39840" y="1152360"/>
            <a:ext cx="7904160" cy="531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3C32-3AC8-4678-886E-1F35DDC6492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AB44A-83E0-4164-B07F-862BE0B862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 page existe maintena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1280" y="1724040"/>
            <a:ext cx="8964720" cy="38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516720" y="4292640"/>
            <a:ext cx="647640" cy="431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40680" y="352116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n vers la nouvell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30" idx="2"/>
            <a:endCxn id="129" idx="0"/>
          </p:cNvCxnSpPr>
          <p:nvPr/>
        </p:nvCxnSpPr>
        <p:spPr>
          <a:xfrm flipH="1">
            <a:off x="6840000" y="3887280"/>
            <a:ext cx="15120" cy="391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188-EE0C-4431-8F3D-871C951E2B7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46941-3C3F-4E8B-B92D-04DC41CE93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1480" y="1152360"/>
            <a:ext cx="7904160" cy="53182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l est possible de comment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124000" y="4797360"/>
            <a:ext cx="1511280" cy="504720"/>
          </a:xfrm>
          <a:prstGeom prst="line">
            <a:avLst/>
          </a:prstGeom>
          <a:ln w="572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45360" y="457524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out d’un nouveau commen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F65D-B2C7-43C0-B415-74091870778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24196-2097-4DE2-A785-E80A10C391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1320840"/>
            <a:ext cx="8837640" cy="42163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l est possible de comment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066920" y="4869000"/>
            <a:ext cx="1368360" cy="792000"/>
          </a:xfrm>
          <a:prstGeom prst="line">
            <a:avLst/>
          </a:prstGeom>
          <a:ln w="572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5681520"/>
            <a:ext cx="36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aire visible avec la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5CE-1CAA-4D74-B778-3A8E2EC3A85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278DE-51C9-42ED-908B-F4562C0615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stoire des chan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2000160"/>
            <a:ext cx="8248680" cy="2946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01040" y="141300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ments d’une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51280" y="1773360"/>
            <a:ext cx="1512720" cy="151128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58920" y="3068640"/>
            <a:ext cx="1657440" cy="24480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12160" y="553716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peut comparer deux 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209-0280-412B-8EC3-E14075FE670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F8078-7EE6-441B-9B3A-4CFAEC4CEB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1405080"/>
            <a:ext cx="7905960" cy="44002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stoire des chan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4289400" y="3213000"/>
            <a:ext cx="32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différences sont indiqu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203640" y="2637000"/>
            <a:ext cx="1008000" cy="7920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779640" y="2637000"/>
            <a:ext cx="431640" cy="7920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492360" y="3429000"/>
            <a:ext cx="719280" cy="50472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5DE-6FAB-4472-A6A0-BB701D913F6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A1E58-43FE-498A-BDF1-D312EBC855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istoire des chan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31640" y="1341360"/>
            <a:ext cx="8388360" cy="4510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679280" y="2924280"/>
            <a:ext cx="39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page « DerniersChangements »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pertorie les dernières modification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éalisées dans le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EA0-474A-4196-9677-A82E34A2C74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89FB2-55CC-47B8-B0EA-42D7D48047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uthentification et autorisation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as d’étude : Wiki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estion d’utilisateurs limité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ermissions sont attribuées </a:t>
            </a:r>
            <a:r>
              <a:rPr b="0" lang="fr-FR" sz="2200" spc="-1" strike="noStrike">
                <a:solidFill>
                  <a:srgbClr val="996600"/>
                </a:solidFill>
                <a:latin typeface="Arial"/>
              </a:rPr>
              <a:t>par 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Droit de 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6600"/>
                </a:solidFill>
                <a:latin typeface="Arial"/>
              </a:rPr>
              <a:t>Le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6600"/>
                </a:solidFill>
                <a:latin typeface="Arial"/>
              </a:rPr>
              <a:t>Écri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6600"/>
                </a:solidFill>
                <a:latin typeface="Arial"/>
              </a:rPr>
              <a:t>Comment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à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6600"/>
                </a:solidFill>
                <a:latin typeface="Arial"/>
              </a:rPr>
              <a:t>*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tout le m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6600"/>
                </a:solidFill>
                <a:latin typeface="Arial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utilisateurs authentifi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nomNom :  utilisateur pré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6600"/>
                </a:solidFill>
                <a:latin typeface="Arial"/>
              </a:rPr>
              <a:t>!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enomNom : sau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5B9-DF64-48CB-9836-FE3B6B66C1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9BB2A-56D9-4930-8936-F79DA57DDA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uthentif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6720" y="1446120"/>
            <a:ext cx="8136000" cy="443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C6B-5B44-4180-BF82-B7914B0A7126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B7932-68CD-446A-BF9D-C2374E0B22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utoris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1590840"/>
            <a:ext cx="8425080" cy="4147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048200" y="422100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plus des droits, chaque page a un proprié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1907640" y="4292280"/>
            <a:ext cx="2016360" cy="14436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EC68-54D1-4202-81C2-6EA159957F9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667E0-C020-432F-9CCB-260378C5BC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Les wik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Inventé en 1993 par Ward Cunningh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rigine du terme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u hawaiien </a:t>
            </a:r>
            <a:r>
              <a:rPr b="0" i="1" lang="fr-FR" sz="2600" spc="-1" strike="noStrike">
                <a:solidFill>
                  <a:srgbClr val="000000"/>
                </a:solidFill>
                <a:latin typeface="Arial"/>
              </a:rPr>
              <a:t>wiki wiki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: rapide, informel, fac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incipe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'édition des pages se fait en lig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out le monde peut contrib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 site est construit collectiv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n exemple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81B-5CF0-4B0F-9C0B-99821CA2D7E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F38D0-F6E2-4220-903F-A9C3F217C6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utorisations par défaut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Fichier</a:t>
            </a: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«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wakka.config.php 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wakkaConfig = array(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wakka_version" =&gt; "0.1.1"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wikini_version" =&gt; "0.4.3"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996600"/>
                </a:solidFill>
                <a:latin typeface="Courier New"/>
                <a:ea typeface="Courier New"/>
              </a:rPr>
              <a:t>"default_write_acl" =&gt; "admin"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996600"/>
                </a:solidFill>
                <a:latin typeface="Courier New"/>
                <a:ea typeface="Courier New"/>
              </a:rPr>
              <a:t>"default_read_acl" =&gt; "*"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996600"/>
                </a:solidFill>
                <a:latin typeface="Courier New"/>
                <a:ea typeface="Courier New"/>
              </a:rPr>
              <a:t>"default_comment_acl" =&gt; "+"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"preview_before_save" =&gt; "0"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359-E80D-49CD-8D5F-D8617CA81E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7B27E-CA56-4036-8F6E-687C27462F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riétai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ui qui a créé la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elui qui peut changer les droits d’accès à la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propriétaire peut céder ses droits à quelqu’un d’aut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C28-ED7E-4A98-A3F4-BBF679E3D24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1FCF9-DFFC-4ABA-AC00-6F44A22EE2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riétair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6000" y="1341360"/>
            <a:ext cx="8532720" cy="1623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79280" y="4208400"/>
            <a:ext cx="8856720" cy="1704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80480" y="328464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e propriétai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0760" y="356724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es autr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924360" y="2492280"/>
            <a:ext cx="158436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76720" y="3933720"/>
            <a:ext cx="1008000" cy="129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601-B866-4D18-90C5-3D81C70884FB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7B0BA-0F3D-46FC-8D58-1E194176DF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ur le serveur de test </a:t>
            </a:r>
            <a:r>
              <a:rPr b="0" lang="fr-FR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mkirschp.free.fr/wikini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réer un utilisateur pour vous-même (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format du logi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«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PrenomNom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réer une page vous décrivant (dont le lien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doi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être «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PrenomNom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hanger les </a:t>
            </a:r>
            <a:r>
              <a:rPr b="1" lang="fr-FR" sz="2600" spc="-1" strike="noStrike">
                <a:solidFill>
                  <a:srgbClr val="996600"/>
                </a:solidFill>
                <a:latin typeface="Arial"/>
              </a:rPr>
              <a:t>droits d’accès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à votre page, pour que personne autre que vous puisse l’édi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réer une page qui ne soit pas accessible (</a:t>
            </a:r>
            <a:r>
              <a:rPr b="1" lang="fr-FR" sz="2600" spc="-1" strike="noStrike">
                <a:solidFill>
                  <a:srgbClr val="996600"/>
                </a:solidFill>
                <a:latin typeface="Arial"/>
              </a:rPr>
              <a:t>même pas lectur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 à votre collègue à côté, mais qui soit accessible aux autres utilisateurs autoris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EBE-E300-4AA2-B483-F06A74AF94D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D69F0-DDB2-4EC1-A4BB-93C05E1E6F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ujours sur le serveur de test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éer une page qui ne soit pas visible aux </a:t>
            </a: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utilisateurs non autoris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er la </a:t>
            </a: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propriété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’une page qui vous avez créé à un collègue (et vice-ver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orter vos </a:t>
            </a: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contribu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à la page sur le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R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t à celle sur le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LDA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Attention au contenu des pages 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845-C880-4A15-BAD7-E6105458D6A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0B48E-C030-4EC6-B764-F42F84482D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jours sur le serveur de test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racer les modifications qui ont été apportées aux pages LeRSS et LeLDAP (spécifier l’heure dans laquelle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mment peut-on identifier qui a fait une modification donné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mment peut-on limiter la création des nouvelles comptes utilisateur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417-9BC9-4E2C-8E0B-1019B51C6A9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CE79E-A76B-4806-A88E-94FDED93A6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jours sur le serveur de test 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Écrire un </a:t>
            </a:r>
            <a:r>
              <a:rPr b="1" lang="fr-FR" sz="2600" spc="-1" strike="noStrike">
                <a:solidFill>
                  <a:srgbClr val="996600"/>
                </a:solidFill>
                <a:latin typeface="Arial"/>
              </a:rPr>
              <a:t>C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des activités réalisées. Ce CR doit être sous la forme d’une page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nommé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fr-FR" sz="2600" spc="-1" strike="noStrike">
                <a:solidFill>
                  <a:srgbClr val="996600"/>
                </a:solidFill>
                <a:latin typeface="Arial"/>
              </a:rPr>
              <a:t>CRPrenomNom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». Créer un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lie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vers votre CR à partir de la page « </a:t>
            </a:r>
            <a:r>
              <a:rPr b="1" lang="fr-FR" sz="2600" spc="-1" strike="noStrike">
                <a:solidFill>
                  <a:srgbClr val="996600"/>
                </a:solidFill>
                <a:latin typeface="Arial"/>
              </a:rPr>
              <a:t>TP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ans votre CR, donner les </a:t>
            </a:r>
            <a:r>
              <a:rPr b="1" lang="fr-FR" sz="2600" spc="-1" strike="noStrike">
                <a:solidFill>
                  <a:srgbClr val="996600"/>
                </a:solidFill>
                <a:latin typeface="Arial"/>
              </a:rPr>
              <a:t>répons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aux questions proposées dans la diapo précéd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ans votre CR, comparer les fonctionnalités d’authentification et d’autorisations avec celles de l’outil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Serendipity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eut-on faire les mêmes choses (publication des pages/billets, authentification/autorisations des utilisateurs, etc.) avec les deux outils 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794E-1F97-4204-B7FA-0F0167F927D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06C85-4D8B-48FD-8619-293A793C07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dministration / Autorisations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Comparaison entre les outil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Blog </a:t>
            </a:r>
            <a:r>
              <a:rPr b="1" lang="fr-FR" sz="2600" spc="-1" strike="noStrike">
                <a:solidFill>
                  <a:srgbClr val="996600"/>
                </a:solidFill>
                <a:latin typeface="Arial"/>
              </a:rPr>
              <a:t>Serendipity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2f"/>
                </a:solidFill>
                <a:latin typeface="Arial"/>
              </a:rPr>
              <a:t>Structur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du site : billets organisés par </a:t>
            </a:r>
            <a:r>
              <a:rPr b="0" lang="fr-FR" sz="2200" spc="-1" strike="noStrike">
                <a:solidFill>
                  <a:srgbClr val="3b812f"/>
                </a:solidFill>
                <a:latin typeface="Arial"/>
              </a:rPr>
              <a:t>catég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2f"/>
                </a:solidFill>
                <a:latin typeface="Arial"/>
              </a:rPr>
              <a:t>Autorisation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rôle (</a:t>
            </a:r>
            <a:r>
              <a:rPr b="0" lang="fr-FR" sz="2000" spc="-1" strike="noStrike">
                <a:solidFill>
                  <a:srgbClr val="3b812f"/>
                </a:solidFill>
                <a:latin typeface="Arial"/>
              </a:rPr>
              <a:t>group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roits à l’</a:t>
            </a:r>
            <a:r>
              <a:rPr b="0" lang="fr-FR" sz="2000" spc="-1" strike="noStrike">
                <a:solidFill>
                  <a:srgbClr val="3b812f"/>
                </a:solidFill>
                <a:latin typeface="Arial"/>
              </a:rPr>
              <a:t>administration du sit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création de billets, de catégories, de nouveaux utilisateurs,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sibilité de création de </a:t>
            </a:r>
            <a:r>
              <a:rPr b="0" lang="fr-FR" sz="2000" spc="-1" strike="noStrike">
                <a:solidFill>
                  <a:srgbClr val="3b812f"/>
                </a:solidFill>
                <a:latin typeface="Arial"/>
              </a:rPr>
              <a:t>nouveaux grou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Wiki </a:t>
            </a:r>
            <a:r>
              <a:rPr b="1" lang="fr-FR" sz="2600" spc="-1" strike="noStrike">
                <a:solidFill>
                  <a:srgbClr val="996600"/>
                </a:solidFill>
                <a:latin typeface="Arial"/>
              </a:rPr>
              <a:t>Wiki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2f"/>
                </a:solidFill>
                <a:latin typeface="Arial"/>
              </a:rPr>
              <a:t>Structur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du site : </a:t>
            </a:r>
            <a:r>
              <a:rPr b="0" lang="fr-FR" sz="2200" spc="-1" strike="noStrike">
                <a:solidFill>
                  <a:srgbClr val="3b812f"/>
                </a:solidFill>
                <a:latin typeface="Arial"/>
              </a:rPr>
              <a:t>pag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interconnecté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2f"/>
                </a:solidFill>
                <a:latin typeface="Arial"/>
              </a:rPr>
              <a:t>Autorisation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</a:t>
            </a:r>
            <a:r>
              <a:rPr b="0" lang="fr-FR" sz="2000" spc="-1" strike="noStrike">
                <a:solidFill>
                  <a:srgbClr val="3b812f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roits (lecture, écriture, commentaire) pa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b812f"/>
                </a:solidFill>
                <a:latin typeface="Arial"/>
              </a:rPr>
              <a:t>Absence de rô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50D-1B2F-4CA5-849A-280C4E80A0D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B04BA-39A6-40A0-BDA6-04D761EE16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Wiki intégré à d’autres systè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Utilisation des outils de Wiki à l’intérieur d’un systè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uthentification / autorisation intégrées à l’out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onctionnalités limité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terface intégrée à l’out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dfWiki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docs.moodle.org/en/Dfwiki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 : Wiki dans le cours en ligne (Mood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0B8-03F6-4112-8C19-2E26A46B408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2B517-6085-4D05-B0DB-58A6FBA105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emplir la page principale proposée à l’activité « TP Wiki » du cours en lig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éfinition des C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s des C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onctionnalité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Front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ack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996600"/>
                </a:solidFill>
                <a:latin typeface="Arial"/>
              </a:rPr>
              <a:t>Tout le groupe doit participer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996600"/>
                </a:solidFill>
                <a:latin typeface="Arial"/>
              </a:rPr>
              <a:t>Le contenu doit être cohérent 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900-1E1E-4C2F-9DA0-43A53741E85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E435F-A67C-4143-A48B-2B9FBBD1C9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Wik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696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Édition collaborative de 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996600"/>
                </a:solidFill>
                <a:latin typeface="Arial"/>
              </a:rPr>
              <a:t>Tous les co-auteurs ont les mêmes droits (ou presqu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Édition fac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ccès à travers un navigateur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Syntaxe propre et simplifié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yntaxe Wiki (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Wikitex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eaucoup de syntaxes poss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n général peu de contrai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lus simple que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6E1-27AB-4DC4-802E-D602A5A02B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47E28-5088-4B65-A44A-38187CEF9D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parer le module </a:t>
            </a:r>
            <a:r>
              <a:rPr b="0" lang="fr-FR" sz="3000" spc="-1" strike="noStrike">
                <a:solidFill>
                  <a:srgbClr val="996600"/>
                </a:solidFill>
                <a:latin typeface="Arial"/>
              </a:rPr>
              <a:t>dfWiki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et le système </a:t>
            </a:r>
            <a:r>
              <a:rPr b="0" lang="fr-FR" sz="3000" spc="-1" strike="noStrike">
                <a:solidFill>
                  <a:srgbClr val="996600"/>
                </a:solidFill>
                <a:latin typeface="Arial"/>
              </a:rPr>
              <a:t>WikiNi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. Insérer vos conclusions dans votre CR au Wiki </a:t>
            </a:r>
            <a:r>
              <a:rPr b="0" lang="fr-FR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mkirschp.free.fr/wikini/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mparer les langages de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wikitex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des out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nalyser comportement des outils par rapport au problème de la mise à jour perd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996600"/>
                </a:solidFill>
                <a:latin typeface="Arial"/>
              </a:rPr>
              <a:t>CR à rendre à la fin du cou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8473-B8EC-4BA4-81BF-0907613CD1B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96207-C79D-4EE4-8CA9-1C28BA82E2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 somme …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 Concepts important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Hiérarchie des grou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sage de rôles (exemple : Serendip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rganisation aplatie (exemple : Wiki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Modes de communica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munication synchrone : chat, IM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munication asynchrone (en différé) : email, commentaire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Conscience de group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naître le groupe, les collègues et leurs activ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xemples de mécanismes : indicateur de présence, historique, suivi de modifications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CDDA-0191-4204-A661-A57C38C2CA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1352E-09D2-49D9-AEF9-D69FB8AD64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Wikiped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xemple le plus connu de Wi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5640" y="1981080"/>
            <a:ext cx="7343640" cy="46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E729-5356-4734-ABEA-E6DD387BE2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AB028-F5E0-411C-AA6D-FB22D0917B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Fonctionnalités des wik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996600"/>
                </a:solidFill>
                <a:latin typeface="Arial"/>
              </a:rPr>
              <a:t>Edition collabor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Formatage simplifi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as d’étude : WikiNi (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wikini.net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/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ogiciel libre (licence GPL) basé sur PHP/MySQ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Balisage simplifié, usage de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Camel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erveur de test : </a:t>
            </a:r>
            <a:r>
              <a:rPr b="0" lang="fr-FR" sz="2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mkirschp.free.fr/wikini/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7972-C151-4CDA-A837-7624B08CBA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4AD07-645E-45D2-ACF0-4439974885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Le CamelC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incipe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mots sont attach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ls commencent par une majusc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xemple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estionDeCont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ravailCooperat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ans les Wiki, permet de créer des liens vers de nouvelles p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FB43-5F95-4325-B085-C36EF97BEB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D7A0EF-A5E8-4EA7-AA0D-B19052A102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Construction d'un site Wik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480" y="1596960"/>
            <a:ext cx="8994600" cy="371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35280" y="4005360"/>
            <a:ext cx="433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8880" y="436572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mel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547640" y="4076280"/>
            <a:ext cx="36036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4320" y="300348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n 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ises explic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5796000" y="3284640"/>
            <a:ext cx="71280" cy="792000"/>
          </a:xfrm>
          <a:custGeom>
            <a:avLst/>
            <a:gdLst>
              <a:gd name="textAreaLeft" fmla="*/ 20880 w 71280"/>
              <a:gd name="textAreaRight" fmla="*/ 71640 w 71280"/>
              <a:gd name="textAreaTop" fmla="*/ 32760 h 792000"/>
              <a:gd name="textAreaBottom" fmla="*/ 7592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940360" y="3357720"/>
            <a:ext cx="432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4005360"/>
            <a:ext cx="180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5960" y="4313160"/>
            <a:ext cx="191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n ex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ises explic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[ lien 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940360" y="4149360"/>
            <a:ext cx="43200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43280" y="2924280"/>
            <a:ext cx="216000" cy="64764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87080" y="294480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es d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72BA-D5A9-4C26-AD31-C9FA287C830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E9FD8-1B43-4447-8286-2857B93F74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 lien n'existe p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20" y="2127240"/>
            <a:ext cx="8997840" cy="2879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292720" y="4076640"/>
            <a:ext cx="720720" cy="43200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2232000" cy="804960"/>
          </a:xfrm>
          <a:prstGeom prst="rect">
            <a:avLst/>
          </a:prstGeom>
          <a:ln w="28440">
            <a:solidFill>
              <a:srgbClr val="996600"/>
            </a:solidFill>
            <a:miter/>
          </a:ln>
        </p:spPr>
      </p:pic>
      <p:cxnSp>
        <p:nvCxnSpPr>
          <p:cNvPr id="118" name=""/>
          <p:cNvCxnSpPr>
            <a:stCxn id="116" idx="0"/>
            <a:endCxn id="117" idx="2"/>
          </p:cNvCxnSpPr>
          <p:nvPr/>
        </p:nvCxnSpPr>
        <p:spPr>
          <a:xfrm flipV="1">
            <a:off x="5652720" y="2086920"/>
            <a:ext cx="1043640" cy="1975320"/>
          </a:xfrm>
          <a:prstGeom prst="straightConnector1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6877080" y="1486080"/>
            <a:ext cx="431640" cy="502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E5E8-F554-42BC-9F3A-DBDA7AC0C88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DEADB-EA76-4A52-9D04-31AF59CC5C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dition de la p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02080" y="981000"/>
            <a:ext cx="5715000" cy="5748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2360" y="2224080"/>
            <a:ext cx="228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mples de titr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différents niv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268360" y="2060640"/>
            <a:ext cx="503280" cy="28872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68360" y="2421000"/>
            <a:ext cx="503280" cy="28728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4D78-0B0D-4208-A4D6-FA1B23ECF02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C00EC2-2E68-4BAB-87F9-9FE4408E31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16:37:40Z</dcterms:created>
  <dc:creator>Manuele</dc:creator>
  <dc:description/>
  <dc:language>en-US</dc:language>
  <cp:lastModifiedBy>Manuele</cp:lastModifiedBy>
  <dcterms:modified xsi:type="dcterms:W3CDTF">2007-02-08T12:59:28Z</dcterms:modified>
  <cp:revision>35</cp:revision>
  <dc:subject/>
  <dc:title>Systèmes Collaboratifs</dc:title>
</cp:coreProperties>
</file>